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907588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33640" y="0"/>
            <a:ext cx="2934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701280" y="742680"/>
            <a:ext cx="536580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6440" y="4704840"/>
            <a:ext cx="54165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94089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33640" y="9408960"/>
            <a:ext cx="2934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D9A6-F41B-4DCD-8A37-08952E911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33640" y="9408960"/>
            <a:ext cx="2934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F37C-54DF-483B-BFF2-8F1B5F561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94089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701640" y="7430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8160" y="3876840"/>
            <a:ext cx="927900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452808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040" y="1366920"/>
            <a:ext cx="452808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8160" y="3876840"/>
            <a:ext cx="452808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3040" y="3876840"/>
            <a:ext cx="452808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298764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1366920"/>
            <a:ext cx="298764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72960" y="1366920"/>
            <a:ext cx="298764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8160" y="3876840"/>
            <a:ext cx="298764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3876840"/>
            <a:ext cx="298764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72960" y="3876840"/>
            <a:ext cx="298764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452808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3040" y="1366920"/>
            <a:ext cx="452808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33400" y="76320"/>
            <a:ext cx="80899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452808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3040" y="1366920"/>
            <a:ext cx="452808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8160" y="3876840"/>
            <a:ext cx="452808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452808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3040" y="1366920"/>
            <a:ext cx="452808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3040" y="3876840"/>
            <a:ext cx="452808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452808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3040" y="1366920"/>
            <a:ext cx="452808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8160" y="3876840"/>
            <a:ext cx="9279000" cy="22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69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481960" y="6524640"/>
            <a:ext cx="128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Slide </a:t>
            </a:r>
            <a:fld id="{E30B925E-485D-46C4-9C32-464A87173452}" type="slidenum">
              <a:rPr b="0" lang="pt-BR" sz="12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23736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208160" y="6308640"/>
            <a:ext cx="3973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33cc"/>
                </a:solidFill>
                <a:latin typeface="Arial"/>
              </a:rPr>
              <a:t>Rede Nacional de Ensino e Pesquisa</a:t>
            </a:r>
            <a:br>
              <a:rPr sz="1200"/>
            </a:b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Treinamento em Gradep -  junho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390440" y="6400800"/>
            <a:ext cx="133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Serviço </a:t>
            </a:r>
            <a:r>
              <a:rPr b="0" i="1" lang="en-US" sz="1200" spc="-1" strike="noStrike">
                <a:solidFill>
                  <a:srgbClr val="3333cc"/>
                </a:solidFill>
                <a:latin typeface="Arial"/>
              </a:rPr>
              <a:t>Coll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3520" y="1752480"/>
            <a:ext cx="853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3366"/>
                </a:solidFill>
                <a:latin typeface="Arial"/>
              </a:rPr>
              <a:t>Treinamento no GRADE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17720" y="1109520"/>
            <a:ext cx="6494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76400" y="2220840"/>
            <a:ext cx="4734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52600" y="3809880"/>
            <a:ext cx="473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Serviço </a:t>
            </a:r>
            <a:r>
              <a:rPr b="1" i="1" lang="pt-BR" sz="1800" spc="-1" strike="noStrike">
                <a:solidFill>
                  <a:srgbClr val="000000"/>
                </a:solidFill>
                <a:latin typeface="Tahoma"/>
              </a:rPr>
              <a:t>Coll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ahoma"/>
              </a:rPr>
              <a:t>CollectorDemo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1" i="1" lang="pt-BR" sz="1800" spc="-1" strike="noStrike">
                <a:solidFill>
                  <a:srgbClr val="000000"/>
                </a:solidFill>
                <a:latin typeface="Tahoma"/>
              </a:rPr>
              <a:t>CollectorDemo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46280" y="6110280"/>
            <a:ext cx="546120" cy="539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098720" y="6143760"/>
            <a:ext cx="588960" cy="447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842160" y="6151680"/>
            <a:ext cx="789120" cy="353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3994200" y="611028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5562720" y="6110280"/>
            <a:ext cx="444240" cy="5889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8329680" y="6019920"/>
            <a:ext cx="585720" cy="685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62120" y="5789520"/>
            <a:ext cx="845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295280"/>
            <a:ext cx="845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7620120" y="345960"/>
            <a:ext cx="1371600" cy="8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CollectorDemo – import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CollectorDemo.java:  (trechos selecionados)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// Importa Coletor, Sensor, MonitoringData (valor de retorno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// que contém dados monitorados) e ConsumerId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// (identificador de consumidor registrado)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import org.isam.exehda.Exehda;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import org.isam.exehda.services.Collector;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import org.isam.exehda.services.Collector.Sensor;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import org.isam.exehda.services.Collector.MonitoringData;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import org.isam.exehda.services.Collector.ConsumerId;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905120"/>
            <a:ext cx="906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295280"/>
            <a:ext cx="906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CollectorDemo – variávei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public class CollectorDemo </a:t>
            </a:r>
            <a:r>
              <a:rPr b="1" lang="pt-BR" sz="2000" spc="-1" strike="noStrike">
                <a:solidFill>
                  <a:srgbClr val="b2b2b2"/>
                </a:solidFill>
                <a:latin typeface="Arial"/>
              </a:rPr>
              <a:t>/* ... */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{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 o serviço Coletor local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private Collector collector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 lista de sensores conhecidos pela aplicação (retornada pelo coletor)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private Sensor[ ] sensors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 identificador de consumidor desta aplicação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private ConsumerId id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pt-BR" sz="2000" spc="-1" strike="noStrike">
                <a:solidFill>
                  <a:srgbClr val="b2b2b2"/>
                </a:solidFill>
                <a:latin typeface="Arial"/>
              </a:rPr>
              <a:t>// painel (interface gráfica) que exibe o valor dos sensores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private Panel sensorsPane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b2b2b2"/>
                </a:solidFill>
                <a:latin typeface="Arial"/>
              </a:rPr>
              <a:t>    </a:t>
            </a:r>
            <a:r>
              <a:rPr b="1" lang="pt-BR" sz="2000" spc="-1" strike="noStrike">
                <a:solidFill>
                  <a:srgbClr val="b2b2b2"/>
                </a:solidFill>
                <a:latin typeface="Arial"/>
              </a:rPr>
              <a:t>// mapeia um nome de sensor para o componente de interface gráfica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b2b2b2"/>
                </a:solidFill>
                <a:latin typeface="Arial"/>
              </a:rPr>
              <a:t>    </a:t>
            </a:r>
            <a:r>
              <a:rPr b="1" lang="pt-BR" sz="2000" spc="-1" strike="noStrike">
                <a:solidFill>
                  <a:srgbClr val="b2b2b2"/>
                </a:solidFill>
                <a:latin typeface="Arial"/>
              </a:rPr>
              <a:t>// (etiqueta de texto - label) responsável pela sua exibição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private Hashtable labelsBySensorName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CollectorDemo – main(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 ponto de entrada da aplicação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public static void main( String[] args ) throws Exception {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 1. inicialização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CollectorDemo frame = new CollectorDemo(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b2b2b2"/>
                </a:solidFill>
                <a:latin typeface="Arial"/>
              </a:rPr>
              <a:t>/* ... aqui mais inicialização da interface ... */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 2. Consulta periódica a sensores (uma vez por segundo)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for ( int i=0; i&lt;100; i++) {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Thread.currentThread().sleep(1000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frame.updateSensors(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08520" y="2800440"/>
            <a:ext cx="2016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05440" y="2809800"/>
            <a:ext cx="776520" cy="187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81960" y="2997360"/>
            <a:ext cx="3024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756200" y="267480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róximo slid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CollectorDemo – Construtor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public CollectorDemo() </a:t>
            </a:r>
            <a:r>
              <a:rPr b="1" lang="pt-BR" sz="2000" spc="-1" strike="noStrike">
                <a:solidFill>
                  <a:srgbClr val="b2b2b2"/>
                </a:solidFill>
                <a:latin typeface="Arial"/>
              </a:rPr>
              <a:t>// construtor ------------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{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b2b2b2"/>
                </a:solidFill>
                <a:latin typeface="Arial"/>
              </a:rPr>
              <a:t>// ... aqui inicializa interface gráfica ...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 Obtém referência para o coletor local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llector = (Collector) Exehda.getService(Collector.SERVICE_NAME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 Registra aplicação como consumidora e obtém ConsumerId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b2b2b2"/>
                </a:solidFill>
                <a:latin typeface="Arial"/>
              </a:rPr>
              <a:t>// (fornece “null” como referência de interface de callback e, portanto,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b2b2b2"/>
                </a:solidFill>
                <a:latin typeface="Arial"/>
              </a:rPr>
              <a:t>// a aplicação não será chamada pelo Collector)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id = collector.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addConsumer( null )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5240" y="5373720"/>
            <a:ext cx="2447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05240" y="5373720"/>
            <a:ext cx="79236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97600" y="5589720"/>
            <a:ext cx="4535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78640" y="522936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róximo slid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Collector.addConsumer(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O método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addConsumer()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 da interface </a:t>
            </a: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Collector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 registra um novo consumidor para o coletor do nodo: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Retorna um objeto 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ConsumerId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(identificador do consumidor)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ConsumerId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 é usado depois para escolher os sensores de interesse do consumidor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Recebe como argumento um objeto que implementa a interface 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MonitoringConsum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O 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MonitoringConsumer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 é chamado depois quando um sensor de interesse do consumidor fornece dados de interesse do  consumidor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Se for passado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null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 neste parâmetro, o consumidor deverá fazer consulta periódica aos sensores pois não receberá callback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20880" y="530064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Courier New"/>
              </a:rPr>
              <a:t>public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</a:rPr>
              <a:t> Collector</a:t>
            </a:r>
            <a:r>
              <a:rPr b="1" lang="pt-BR" sz="1800" spc="-1" strike="noStrike">
                <a:solidFill>
                  <a:srgbClr val="292929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 ConsumerId addConsumer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MonitoringConsumer c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7000" y="5373720"/>
            <a:ext cx="50688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CollectorDemo – Construtor (cont.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 obtém referência para a lista de sensores disponíveis no coletor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sensors = collector.getSensors();   </a:t>
            </a:r>
            <a:r>
              <a:rPr b="1" lang="pt-BR" sz="2000" spc="-1" strike="noStrike">
                <a:solidFill>
                  <a:srgbClr val="b2b2b2"/>
                </a:solidFill>
                <a:latin typeface="Arial"/>
              </a:rPr>
              <a:t>// retorna array:   Sensor [ ]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 “Este” consumidor (this.id) habilita todos os sensores disponíveis.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b2b2b2"/>
                </a:solidFill>
                <a:latin typeface="Arial"/>
              </a:rPr>
              <a:t>    </a:t>
            </a:r>
            <a:r>
              <a:rPr b="1" lang="pt-BR" sz="2000" spc="-1" strike="noStrike">
                <a:solidFill>
                  <a:srgbClr val="b2b2b2"/>
                </a:solidFill>
                <a:latin typeface="Arial"/>
              </a:rPr>
              <a:t>// Necessário para que este consumidor possa depois consultar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b2b2b2"/>
                </a:solidFill>
                <a:latin typeface="Arial"/>
              </a:rPr>
              <a:t>    </a:t>
            </a:r>
            <a:r>
              <a:rPr b="1" lang="pt-BR" sz="2000" spc="-1" strike="noStrike">
                <a:solidFill>
                  <a:srgbClr val="b2b2b2"/>
                </a:solidFill>
                <a:latin typeface="Arial"/>
              </a:rPr>
              <a:t>// qualquer um dos sensores.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for ( int i=0; i&lt; sensors.length; i++ ) {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llector.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setSensorEnabled(  this.id ,  sensors[i] ,  true  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} </a:t>
            </a:r>
            <a:r>
              <a:rPr b="1" lang="pt-BR" sz="2000" spc="-1" strike="noStrike">
                <a:solidFill>
                  <a:srgbClr val="b2b2b2"/>
                </a:solidFill>
                <a:latin typeface="Arial"/>
              </a:rPr>
              <a:t>// ------------ fim construtor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5240" y="4653000"/>
            <a:ext cx="5688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32160" y="4653000"/>
            <a:ext cx="79236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4520" y="4869000"/>
            <a:ext cx="4752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412840" y="4508640"/>
            <a:ext cx="13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róximo s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Collector.setSensorEnabled(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2520" y="1413000"/>
            <a:ext cx="927900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O método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setSensorEnabled()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 da interface </a:t>
            </a: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Collector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 controla a disponibilidade de um sensor para um consumidor específico: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Argumentos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ConsumerId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: ID do consumidor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Sensor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: referência ao sensor a ser habilitado ou desabilitado junto ao consumidor especificado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boolean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: “true” para habilitar o sensor, “false” para desabilitar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7000" y="4437000"/>
            <a:ext cx="50688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240" y="4365720"/>
            <a:ext cx="8775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292929"/>
                </a:solidFill>
                <a:latin typeface="Courier New"/>
              </a:rPr>
              <a:t>public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1" lang="pt-BR" sz="1700" spc="-1" strike="noStrike">
                <a:solidFill>
                  <a:srgbClr val="0000ff"/>
                </a:solidFill>
                <a:latin typeface="Courier New"/>
              </a:rPr>
              <a:t> Collector</a:t>
            </a:r>
            <a:r>
              <a:rPr b="1" lang="pt-BR" sz="1700" spc="-1" strike="noStrike">
                <a:solidFill>
                  <a:srgbClr val="292929"/>
                </a:solidFill>
                <a:latin typeface="Courier New"/>
              </a:rPr>
              <a:t> {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1" lang="pt-BR" sz="1700" spc="-1" strike="noStrike">
                <a:solidFill>
                  <a:srgbClr val="ff0000"/>
                </a:solidFill>
                <a:latin typeface="Courier New"/>
              </a:rPr>
              <a:t> void setSensorEnabled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pt-BR" sz="1700" spc="-1" strike="noStrike">
                <a:solidFill>
                  <a:srgbClr val="ff0000"/>
                </a:solidFill>
                <a:latin typeface="Courier New"/>
              </a:rPr>
              <a:t>ConsumerId c, Sensor s, boolean e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CollectorDemo – de volta ao main()..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// .... voltando ao main(), após examinar o construtor ...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public static void main( String[ ] args ) throws Exception {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 1. inicialização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llectorDemo frame = new CollectorDemo(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b2b2b2"/>
                </a:solidFill>
                <a:latin typeface="Arial"/>
              </a:rPr>
              <a:t>/* ... Inicialização da interface ... */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 2. Consulta periódica a sensores (uma vez por segundo)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for ( int i=0; i&lt;100; i++) {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Thread.currentThread().sleep(1000);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 aguarda 1 segundo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frame.updateSensors(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60520" y="5373720"/>
            <a:ext cx="2737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87800" y="5373720"/>
            <a:ext cx="79200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79800" y="5589720"/>
            <a:ext cx="4753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68120" y="5229360"/>
            <a:ext cx="13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róximo s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CollectorDemo – updateSensors(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// realiza uma consulta a todos os sensores, exibindo na interface 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// o valor mais atualizado de cada sensor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public void updateSensors()  {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// para cada sensor “i”...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for ( int i=0; i&lt; sensors.length; i++) {  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// consumidor “id” coleta diretamente dados do sensor “i”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b2b2b2"/>
                </a:solidFill>
                <a:latin typeface="Arial"/>
              </a:rPr>
              <a:t>              </a:t>
            </a:r>
            <a:r>
              <a:rPr b="1" lang="pt-BR" sz="1800" spc="-1" strike="noStrike">
                <a:solidFill>
                  <a:srgbClr val="b2b2b2"/>
                </a:solidFill>
                <a:latin typeface="Arial"/>
              </a:rPr>
              <a:t>// (“null”: objeto MonitoringData pré-alocado - opcional)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MonitoringData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ata = 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llector.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robeSensor(  id ,  sensors[i] ,  null  )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             </a:t>
            </a:r>
            <a:r>
              <a:rPr b="1" lang="pt-BR" sz="1800" spc="-1" strike="noStrike">
                <a:solidFill>
                  <a:srgbClr val="b2b2b2"/>
                </a:solidFill>
                <a:latin typeface="Arial"/>
              </a:rPr>
              <a:t>// atualiza interface: (nome do sensor, dados atuais do sensor)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b2b2b2"/>
                </a:solidFill>
                <a:latin typeface="Arial"/>
              </a:rPr>
              <a:t>             </a:t>
            </a:r>
            <a:r>
              <a:rPr b="1" lang="pt-BR" sz="1800" spc="-1" strike="noStrike">
                <a:solidFill>
                  <a:srgbClr val="b2b2b2"/>
                </a:solidFill>
                <a:latin typeface="Arial"/>
              </a:rPr>
              <a:t>// obs.: cria label para cada nome de sensor sob demanda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addSensor(  sensors[i].getName().getSimpleName() ,  data.getString()  )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97600" y="3284640"/>
            <a:ext cx="41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0000"/>
                </a:solidFill>
                <a:latin typeface="Arial"/>
              </a:rPr>
              <a:t>}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372440" y="3798360"/>
            <a:ext cx="2233440" cy="1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81200" y="342900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róximos 2 sl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41600" y="5734080"/>
            <a:ext cx="16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Nome do se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15040" y="5734080"/>
            <a:ext cx="16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Valor senso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160880" y="5444640"/>
            <a:ext cx="216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7905240" y="5444640"/>
            <a:ext cx="71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20880" y="537372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13600" y="537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Collector.probeSensor(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O método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probeSensor()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 da interface </a:t>
            </a: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Collector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 realiza uma medição pontual de um dado sensor: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Argumentos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ConsumerId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: consumidor que está fazendo a medição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Sensor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: sensor desejado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MonitoringData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: objeto (opcional) MonitoringData pré-alocado para o valor de retorno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Retorna um objeto 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MonitoringDat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e contém o valor (dado) sensorado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49240" y="4653000"/>
            <a:ext cx="90568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292929"/>
                </a:solidFill>
                <a:latin typeface="Courier New"/>
              </a:rPr>
              <a:t>public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1" lang="pt-BR" sz="1700" spc="-1" strike="noStrike">
                <a:solidFill>
                  <a:srgbClr val="0000ff"/>
                </a:solidFill>
                <a:latin typeface="Courier New"/>
              </a:rPr>
              <a:t> Collector</a:t>
            </a:r>
            <a:r>
              <a:rPr b="1" lang="pt-BR" sz="1700" spc="-1" strike="noStrike">
                <a:solidFill>
                  <a:srgbClr val="292929"/>
                </a:solidFill>
                <a:latin typeface="Courier New"/>
              </a:rPr>
              <a:t> {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1" lang="pt-BR" sz="1700" spc="-1" strike="noStrike">
                <a:solidFill>
                  <a:srgbClr val="ff0000"/>
                </a:solidFill>
                <a:latin typeface="Courier New"/>
              </a:rPr>
              <a:t> void probeSensor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pt-BR" sz="1700" spc="-1" strike="noStrike">
                <a:solidFill>
                  <a:srgbClr val="ff0000"/>
                </a:solidFill>
                <a:latin typeface="Courier New"/>
              </a:rPr>
              <a:t>ConsumerId c, Sensor s, MonitoringData d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7000" y="4797360"/>
            <a:ext cx="50688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48520" y="333360"/>
            <a:ext cx="1594080" cy="41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Autoria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Autor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Fábio Reis Cec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Data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Junho de 200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Versã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MonitoringData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Um objeto do tipo </a:t>
            </a: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MonitoringData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 representa um dado de monitoração.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Métodos de </a:t>
            </a: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MonitoringData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Arial"/>
              </a:rPr>
              <a:t>getSensorName()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retorna o 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ResourceName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do sensor que gerou este dado de monitoração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r sua vez, 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ResourceName.getSimpleName()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 retorna o “nome simples” do sensor (em formato String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Arial"/>
              </a:rPr>
              <a:t>getString()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pt-BR" sz="2000" spc="-1" strike="noStrike">
                <a:solidFill>
                  <a:srgbClr val="ff0000"/>
                </a:solidFill>
                <a:latin typeface="Arial"/>
              </a:rPr>
              <a:t>getInt()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e os outros métodos “get” fazem a conversão automática do tipo de dado sensorado para o tipo requisitado (String, Integer, etc)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9720" y="2708280"/>
            <a:ext cx="50688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9720" y="4005360"/>
            <a:ext cx="50688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Sumário da apresentação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4520" y="1874520"/>
            <a:ext cx="895176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ccff"/>
                </a:solidFill>
                <a:latin typeface="Arial"/>
              </a:rPr>
              <a:t>1   Visão geral – serviço </a:t>
            </a:r>
            <a:r>
              <a:rPr b="1" i="1" lang="pt-BR" sz="2400" spc="-1" strike="noStrike">
                <a:solidFill>
                  <a:srgbClr val="ccccff"/>
                </a:solidFill>
                <a:latin typeface="Arial"/>
              </a:rPr>
              <a:t>Collector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2   Exemplo 1: CollectorDem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   Exemplo 2: CollectorDemo2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4   </a:t>
            </a:r>
            <a:r>
              <a:rPr b="1" i="1" lang="pt-BR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Collector</a:t>
            </a:r>
            <a:r>
              <a:rPr b="1" lang="pt-BR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: outras APIs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CollectorDemo2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Exemplo 2: Aplicação </a:t>
            </a:r>
            <a:r>
              <a:rPr b="1" i="1" lang="pt-BR" sz="2400" spc="-1" strike="noStrike">
                <a:solidFill>
                  <a:srgbClr val="292929"/>
                </a:solidFill>
                <a:latin typeface="Arial"/>
              </a:rPr>
              <a:t>CollectorDemo2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Utiliza estratégia “publicador-assinante” para obter o valor de sensor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Local: </a:t>
            </a:r>
            <a:r>
              <a:rPr b="0" lang="pt-BR" sz="2000" spc="-1" strike="noStrike">
                <a:solidFill>
                  <a:srgbClr val="292929"/>
                </a:solidFill>
                <a:latin typeface="Courier New"/>
              </a:rPr>
              <a:t>/isam/isam-apps/collectordemo2/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Arquivos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CollectorDemo2.jav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92929"/>
                </a:solidFill>
                <a:latin typeface="Arial"/>
              </a:rPr>
              <a:t>Fonte da aplicação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collectordemo2.isa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92929"/>
                </a:solidFill>
                <a:latin typeface="Arial"/>
              </a:rPr>
              <a:t>Descritor de disparo da aplicação em formato XML do ISAM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CollectorDemo2 – import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CollectorDemo2.java:  (trechos selecionados)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import org.isam.exehda.Exehda;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import org.isam.exehda.services.Collector;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import org.isam.exehda.services.Collector.Sensor;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import org.isam.exehda.services.Collector.MonitoringData;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import org.isam.exehda.services.Collector.ConsumerId;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// interface de callback – para que a aplicação possar ser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// chamada pelo Collector: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mport org.isam.exehda.services.Collector.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MonitoringConsumer;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1905120"/>
            <a:ext cx="906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1295280"/>
            <a:ext cx="906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CollectorDemo2 -- membro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public class CollectorDemo2 </a:t>
            </a:r>
            <a:r>
              <a:rPr b="1" lang="pt-BR" sz="2400" spc="-1" strike="noStrike">
                <a:solidFill>
                  <a:srgbClr val="b2b2b2"/>
                </a:solidFill>
                <a:latin typeface="Arial"/>
              </a:rPr>
              <a:t>/* ... */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mplements ItemListener,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  MonitoringConsume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b2b2b2"/>
                </a:solidFill>
                <a:latin typeface="Arial"/>
              </a:rPr>
              <a:t>/* ... */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private Collector collector;  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// coletor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private Sensor[ ] sensors;    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// sensores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private ConsumerId id;        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// identificador deste consumer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pt-BR" sz="2400" spc="-1" strike="noStrike">
                <a:solidFill>
                  <a:srgbClr val="b2b2b2"/>
                </a:solidFill>
                <a:latin typeface="Arial"/>
              </a:rPr>
              <a:t>// painel que contém um “checkbox” para cada sensor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private Panel sensorsPane;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b2b2b2"/>
                </a:solidFill>
                <a:latin typeface="Arial"/>
              </a:rPr>
              <a:t>    </a:t>
            </a:r>
            <a:r>
              <a:rPr b="1" lang="pt-BR" sz="2400" spc="-1" strike="noStrike">
                <a:solidFill>
                  <a:srgbClr val="b2b2b2"/>
                </a:solidFill>
                <a:latin typeface="Arial"/>
              </a:rPr>
              <a:t>// associa um componente de interface “checkbox” a um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b2b2b2"/>
                </a:solidFill>
                <a:latin typeface="Arial"/>
              </a:rPr>
              <a:t>    </a:t>
            </a:r>
            <a:r>
              <a:rPr b="1" lang="pt-BR" sz="2400" spc="-1" strike="noStrike">
                <a:solidFill>
                  <a:srgbClr val="b2b2b2"/>
                </a:solidFill>
                <a:latin typeface="Arial"/>
              </a:rPr>
              <a:t>// sensor (checkbox habilitado significa interesse no sensor)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private Hashtable sensorsByBox;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76880" y="2492280"/>
            <a:ext cx="3600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49240" y="2133720"/>
            <a:ext cx="3095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9920" y="220500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róximo slid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32160" y="2133720"/>
            <a:ext cx="3744720" cy="358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MonitoringConsumer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Interface 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MonitoringConsumer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 é implementada por um objeto que recebe mensagens de atualização de sensores através do método “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update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”: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292929"/>
                </a:solidFill>
                <a:latin typeface="Courier New"/>
              </a:rPr>
              <a:t>public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</a:rPr>
              <a:t> MonitoringConsumer</a:t>
            </a:r>
            <a:r>
              <a:rPr b="1" lang="pt-BR" sz="1800" spc="-1" strike="noStrike">
                <a:solidFill>
                  <a:srgbClr val="292929"/>
                </a:solidFill>
                <a:latin typeface="Courier New"/>
              </a:rPr>
              <a:t> {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 void update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long timestamp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 MonitoringData[] data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292929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timestamp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: “Tempo” em que ocorreu a medição;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data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: Dados de medição de um ou mais sensores. Além dos dados, também contém uma referência para o(s) sensor(es).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5360" y="3068640"/>
            <a:ext cx="50688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CollectorDemo2 – main(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 ponto de entrada da aplicação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public static void main( String[ ] args ) throws Exception {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 esta demo é mais orientada a eventos: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   1. construtor inicializa a aplicação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   2. usuário habilita e desabilita sensores (“checkboxes”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   3. o callback “update()” é invocado pelo serviço Collector para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       atualizar os sensores que estão atualmente selecionados.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CollectorDemo2 frame = new CollectorDemo2(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frame.pack(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frame.setVisible(true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73600" y="4653000"/>
            <a:ext cx="2736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65600" y="4653000"/>
            <a:ext cx="79236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57960" y="486900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89560" y="450864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Construtor – próximo s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CollectorDemo2 -- Construtor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public CollectorDemo2() {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b2b2b2"/>
                </a:solidFill>
                <a:latin typeface="Arial"/>
              </a:rPr>
              <a:t>/* ... inicializa interface ... */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collector = (Collector) Exehda.getService(Collector.SERVICE_NAME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 registra um novo consumidor e especifica esta instância de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 </a:t>
            </a:r>
            <a:r>
              <a:rPr b="1" i="1" lang="pt-BR" sz="2000" spc="-1" strike="noStrike">
                <a:solidFill>
                  <a:srgbClr val="0000ff"/>
                </a:solidFill>
                <a:latin typeface="Arial"/>
              </a:rPr>
              <a:t>CollectorDemo2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 como objeto de callback do consumidor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   (  o objeto de callback implementa o método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update()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 da 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       interface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MonitoringConsumer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 )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this.id = collector.addConsumer( 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this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 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b2b2b2"/>
                </a:solidFill>
                <a:latin typeface="Arial"/>
              </a:rPr>
              <a:t>// este método cria, associa e exibe um “checkbox” para cada sensor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initSensors(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CollectorDemo2 – itemStateChanged(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 método especificado pela interface ItemListener, invocado 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 quando a “checkbox” associada a um sensor é ativada ou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 desativada pelo usuário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public void itemStateChanged(ItemEvent ev) {            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 obtém Sensor associado à “checkbox” que foi clicada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Checkbox cb = (Checkbox) ev.getSource(); 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Sensor s =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(Sensor) sensorsByBox.get(cb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 habilita ou desabilita o sensor junto a este consumidor (“id”)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 (se a checkbox foi habilitada, habilita o sensor, senão desabilita)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llector.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setSensorEnabled(   id ,   s ,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(ItemEvent.SELECTED == ev.getStateChange())   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CollectorDemo2 – update(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 update() : para implementar a interface MonitoringConsumer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 informa o consumidor (“assinante”) sobre novos valores sensorados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public void update( long timeStamp,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MonitoringData[ ] data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) {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System.out.println("\nTime stamp: "+timeStamp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for (int i=0; i&lt;data.length; i++) {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 para cada entrada reportada...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if ( data[i] != null ) {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 imprime o “nome do sensor” desta entrada do relatório ...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        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System.out.print(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data[i].getSensorName().getSimpleName()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        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System.out.print(" \t= "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// ... e imprime o valor (“sensored value”) fornecido por este sensor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        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System.out.println(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data[i].getString()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Sumário da apresentação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4520" y="1874520"/>
            <a:ext cx="895176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1   Visão geral – serviço </a:t>
            </a:r>
            <a:r>
              <a:rPr b="1" i="1" lang="pt-BR" sz="2400" spc="-1" strike="noStrike">
                <a:solidFill>
                  <a:srgbClr val="0000ff"/>
                </a:solidFill>
                <a:latin typeface="Arial"/>
              </a:rPr>
              <a:t>Collector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   Exemplo 1: CollectorDem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   Exemplo 2: CollectorDemo2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  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lecto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outras APIs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Sumário da apresentação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4520" y="1874520"/>
            <a:ext cx="895176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ccff"/>
                </a:solidFill>
                <a:latin typeface="Arial"/>
              </a:rPr>
              <a:t>1   Visão geral – serviço </a:t>
            </a:r>
            <a:r>
              <a:rPr b="1" i="1" lang="pt-BR" sz="2400" spc="-1" strike="noStrike">
                <a:solidFill>
                  <a:srgbClr val="ccccff"/>
                </a:solidFill>
                <a:latin typeface="Arial"/>
              </a:rPr>
              <a:t>Collector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2   Exemplo 1: CollectorDem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3   Exemplo 2: CollectorDemo2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   </a:t>
            </a:r>
            <a:r>
              <a:rPr b="1" i="1" lang="pt-BR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llector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: outras APIs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Collector.getSensor(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O método 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getSensor()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 da interface 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Collector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 é utilizado para buscar um sensor pelo seu nome.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Parâmetros: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String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: nome do senso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Retorna uma referência ao </a:t>
            </a:r>
            <a:r>
              <a:rPr b="0" lang="pt-BR" sz="2000" spc="-1" strike="noStrike">
                <a:solidFill>
                  <a:srgbClr val="ff0000"/>
                </a:solidFill>
                <a:latin typeface="Arial"/>
              </a:rPr>
              <a:t>Senso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sejad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292929"/>
                </a:solidFill>
                <a:latin typeface="Courier New"/>
              </a:rPr>
              <a:t>public interface 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</a:rPr>
              <a:t>Collector</a:t>
            </a:r>
            <a:r>
              <a:rPr b="1" lang="pt-BR" sz="1800" spc="-1" strike="noStrike">
                <a:solidFill>
                  <a:srgbClr val="292929"/>
                </a:solidFill>
                <a:latin typeface="Courier New"/>
              </a:rPr>
              <a:t> {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Courier New"/>
              </a:rPr>
              <a:t>       </a:t>
            </a:r>
            <a:r>
              <a:rPr b="1" lang="pt-BR" sz="1800" spc="-1" strike="noStrike">
                <a:solidFill>
                  <a:srgbClr val="292929"/>
                </a:solidFill>
                <a:latin typeface="Courier New"/>
              </a:rPr>
              <a:t>public 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Sensor</a:t>
            </a:r>
            <a:r>
              <a:rPr b="1" lang="pt-BR" sz="1800" spc="-1" strike="noStrike">
                <a:solidFill>
                  <a:srgbClr val="292929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getSensor</a:t>
            </a:r>
            <a:r>
              <a:rPr b="1" lang="pt-BR" sz="1800" spc="-1" strike="noStrike">
                <a:solidFill>
                  <a:srgbClr val="292929"/>
                </a:solidFill>
                <a:latin typeface="Courier New"/>
              </a:rPr>
              <a:t>(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String nome</a:t>
            </a:r>
            <a:r>
              <a:rPr b="1" lang="pt-BR" sz="1800" spc="-1" strike="noStrike">
                <a:solidFill>
                  <a:srgbClr val="292929"/>
                </a:solidFill>
                <a:latin typeface="Courier New"/>
              </a:rPr>
              <a:t>)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7000" y="4221000"/>
            <a:ext cx="50688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Collector.removeConsumer(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O método 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removeConsumer()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 da interface 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Collector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 remove (des-registra) um consumidor junto ao serviço coletor.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Parâmetros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ConsumerId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: ID do consumido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292929"/>
                </a:solidFill>
                <a:latin typeface="Courier New"/>
              </a:rPr>
              <a:t>public interface 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</a:rPr>
              <a:t>Collector</a:t>
            </a:r>
            <a:r>
              <a:rPr b="1" lang="pt-BR" sz="1800" spc="-1" strike="noStrike">
                <a:solidFill>
                  <a:srgbClr val="292929"/>
                </a:solidFill>
                <a:latin typeface="Courier New"/>
              </a:rPr>
              <a:t> {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Courier New"/>
              </a:rPr>
              <a:t>       </a:t>
            </a:r>
            <a:r>
              <a:rPr b="1" lang="pt-BR" sz="1800" spc="-1" strike="noStrike">
                <a:solidFill>
                  <a:srgbClr val="292929"/>
                </a:solidFill>
                <a:latin typeface="Courier New"/>
              </a:rPr>
              <a:t>public 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void removeConsumer</a:t>
            </a:r>
            <a:r>
              <a:rPr b="1" lang="pt-BR" sz="1800" spc="-1" strike="noStrike">
                <a:solidFill>
                  <a:srgbClr val="292929"/>
                </a:solidFill>
                <a:latin typeface="Courier New"/>
              </a:rPr>
              <a:t>(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ConsumerId c</a:t>
            </a:r>
            <a:r>
              <a:rPr b="1" lang="pt-BR" sz="1800" spc="-1" strike="noStrike">
                <a:solidFill>
                  <a:srgbClr val="292929"/>
                </a:solidFill>
                <a:latin typeface="Courier New"/>
              </a:rPr>
              <a:t>)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07000" y="4221000"/>
            <a:ext cx="50688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Collector.addMonitor(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O método 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addMonitor()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 da interface 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Collector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 registra um novo monitor.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Parâmetros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Monitor: novo monitor a ser registrado no serviço coleto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292929"/>
                </a:solidFill>
                <a:latin typeface="Courier New"/>
              </a:rPr>
              <a:t>public interface 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</a:rPr>
              <a:t>Collector</a:t>
            </a:r>
            <a:r>
              <a:rPr b="1" lang="pt-BR" sz="1800" spc="-1" strike="noStrike">
                <a:solidFill>
                  <a:srgbClr val="292929"/>
                </a:solidFill>
                <a:latin typeface="Courier New"/>
              </a:rPr>
              <a:t> {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Courier New"/>
              </a:rPr>
              <a:t>       </a:t>
            </a:r>
            <a:r>
              <a:rPr b="1" lang="pt-BR" sz="1800" spc="-1" strike="noStrike">
                <a:solidFill>
                  <a:srgbClr val="292929"/>
                </a:solidFill>
                <a:latin typeface="Courier New"/>
              </a:rPr>
              <a:t>public 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void addMonitor</a:t>
            </a:r>
            <a:r>
              <a:rPr b="1" lang="pt-BR" sz="1800" spc="-1" strike="noStrike">
                <a:solidFill>
                  <a:srgbClr val="292929"/>
                </a:solidFill>
                <a:latin typeface="Courier New"/>
              </a:rPr>
              <a:t>(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Monitor m</a:t>
            </a:r>
            <a:r>
              <a:rPr b="1" lang="pt-BR" sz="1800" spc="-1" strike="noStrike">
                <a:solidFill>
                  <a:srgbClr val="292929"/>
                </a:solidFill>
                <a:latin typeface="Courier New"/>
              </a:rPr>
              <a:t>)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Interface Monitor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Reservada para sensores de sistem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Interface AppMonitor estende a interface Monitor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Para monitoração no nível da aplicação (sensores da aplicação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7000" y="3284640"/>
            <a:ext cx="50688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44880" y="333360"/>
            <a:ext cx="2203560" cy="41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Visão gera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Monitoração e sensores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As aplicações suportadas pelo middleware GRADEp podem executar com comportamentos diferentes de acordo com o ambiente em que estão inseridas, visando adaptação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As aplicações conscientes de contexto suportadas pelo middleware dependem, direta ou indiretamente, da informação extraídas por “sensores” para perceberem o ambiente e tomarem decisõ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Exemplos de sensores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Ocupação atual da CPU (%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Memória livre (bytes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Os sensores disponibilizados pelo serviço </a:t>
            </a:r>
            <a:r>
              <a:rPr b="0" i="1" lang="pt-BR" sz="2000" spc="-1" strike="noStrike">
                <a:solidFill>
                  <a:srgbClr val="292929"/>
                </a:solidFill>
                <a:latin typeface="Arial"/>
              </a:rPr>
              <a:t>Collector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são utilizados para alimentar o serviço </a:t>
            </a:r>
            <a:r>
              <a:rPr b="0" i="1" lang="pt-BR" sz="2000" spc="-1" strike="noStrike">
                <a:solidFill>
                  <a:srgbClr val="292929"/>
                </a:solidFill>
                <a:latin typeface="Arial"/>
              </a:rPr>
              <a:t>ContextManag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702200" y="260280"/>
            <a:ext cx="2203560" cy="41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Visão gera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Coleta de dados de sensores: visão da aplicaçã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A coleta de informações de sensores é feita pelo serviço Coletor (“Collector”) local de um nodo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Obtendo uma referência para o coletor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Courier New"/>
              </a:rPr>
              <a:t>Collector 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collector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= (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</a:rPr>
              <a:t>Collector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</a:rPr>
              <a:t> Exehda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</a:rPr>
              <a:t>getService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</a:rPr>
              <a:t>Collector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</a:rPr>
              <a:t>SERVICE_NAME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A partir do coletor, a aplicação pode consultar sensores de duas formas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Consulta eventual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 ( “</a:t>
            </a:r>
            <a:r>
              <a:rPr b="0" i="1" lang="pt-BR" sz="1800" spc="-1" strike="noStrike">
                <a:solidFill>
                  <a:srgbClr val="292929"/>
                </a:solidFill>
                <a:latin typeface="Arial"/>
              </a:rPr>
              <a:t>poll”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): através do Coletor, realiza uma consulta direta a um sensor específico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Assinatura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 (modelo “publicador-assinante”): um objeto </a:t>
            </a: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consumidor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 (da aplicação) registra, junto ao Coletor, interesse em determinados sensores e recebe uma chamada quando o Coletor detecta uma mudança de valores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Visão gera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Coletor gerencia 0 ou mais monitores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Cada monitor exporta N sensores para o coletor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Monitor nativo (Solaris, Linux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Monitor da aplicaçã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Monitor do runtime Jav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Para expandir o serviço coletor, o desenvolvedor deve implementar a interface 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Monitor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 e registrar o seu serviço monitor junto ao 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Collector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As aplicações devem utilizar a classe 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AppMonitor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ao invés de implementar a interface 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Monitor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devido a aspectos de seguranç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Coletor e consumidores: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Um coletor possui um conjunto de </a:t>
            </a:r>
            <a:r>
              <a:rPr b="0" lang="pt-BR" sz="2000" spc="-1" strike="noStrike" u="sng">
                <a:solidFill>
                  <a:srgbClr val="292929"/>
                </a:solidFill>
                <a:uFillTx/>
                <a:latin typeface="Arial"/>
              </a:rPr>
              <a:t>consumidores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que estão interessados no estado dos sensor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Sumário da apresentação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4520" y="1874520"/>
            <a:ext cx="895176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ccff"/>
                </a:solidFill>
                <a:latin typeface="Arial"/>
              </a:rPr>
              <a:t>1   Visão geral – serviço </a:t>
            </a:r>
            <a:r>
              <a:rPr b="1" i="1" lang="pt-BR" sz="2400" spc="-1" strike="noStrike">
                <a:solidFill>
                  <a:srgbClr val="ccccff"/>
                </a:solidFill>
                <a:latin typeface="Arial"/>
              </a:rPr>
              <a:t>Collector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   Exemplo 1: CollectorDem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3   Exemplo 2: CollectorDemo2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4   </a:t>
            </a:r>
            <a:r>
              <a:rPr b="1" i="1" lang="pt-BR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Collector</a:t>
            </a:r>
            <a:r>
              <a:rPr b="1" lang="pt-BR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: outras APIs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0" y="228600"/>
            <a:ext cx="2889360" cy="41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CollectorDemo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79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Exemplo 1: Aplicação </a:t>
            </a:r>
            <a:r>
              <a:rPr b="1" i="1" lang="pt-BR" sz="2400" spc="-1" strike="noStrike">
                <a:solidFill>
                  <a:srgbClr val="292929"/>
                </a:solidFill>
                <a:latin typeface="Arial"/>
              </a:rPr>
              <a:t>CollectorDem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Utiliza “</a:t>
            </a:r>
            <a:r>
              <a:rPr b="0" i="1" lang="pt-BR" sz="2000" spc="-1" strike="noStrike">
                <a:solidFill>
                  <a:srgbClr val="292929"/>
                </a:solidFill>
                <a:latin typeface="Arial"/>
              </a:rPr>
              <a:t>polling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” (consulta periódica) para obter o valor de sensores (indicados por nome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Local: </a:t>
            </a:r>
            <a:r>
              <a:rPr b="0" lang="pt-BR" sz="2000" spc="-1" strike="noStrike">
                <a:solidFill>
                  <a:srgbClr val="292929"/>
                </a:solidFill>
                <a:latin typeface="Courier New"/>
              </a:rPr>
              <a:t>/isam/isam-apps/collectordemo/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Arquivos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CollectorDemo.jav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92929"/>
                </a:solidFill>
                <a:latin typeface="Arial"/>
              </a:rPr>
              <a:t>Fonte da aplicação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collectordemo.isa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92929"/>
                </a:solidFill>
                <a:latin typeface="Arial"/>
              </a:rPr>
              <a:t>Descritor de disparo da aplicação em formato XML do ISAM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2:39:03Z</dcterms:created>
  <dc:creator>IARA AUGUSTIN</dc:creator>
  <dc:description/>
  <dc:language>en-US</dc:language>
  <cp:lastModifiedBy> Claudio Geyer</cp:lastModifiedBy>
  <cp:lastPrinted>2009-04-22T19:24:48Z</cp:lastPrinted>
  <dcterms:modified xsi:type="dcterms:W3CDTF">2005-08-03T23:34:54Z</dcterms:modified>
  <cp:revision>250</cp:revision>
  <dc:subject>apresentação para novos mestrandos</dc:subject>
  <dc:title>Projeto ISAM</dc:title>
</cp:coreProperties>
</file>