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701280" y="742680"/>
            <a:ext cx="53658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EEFC-5B5F-46D5-B588-D3BB56841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AC18-4F45-4605-A54B-615DE2B3F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7016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C676-5BBB-4540-B493-9B3A2DAB6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016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8160" y="387684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29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81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29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3400" y="76320"/>
            <a:ext cx="80899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81960" y="65246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7D04CFB2-4453-42B5-8A9B-0475A6ADA788}" type="slidenum">
              <a:rPr b="0" lang="pt-BR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736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08160" y="6308640"/>
            <a:ext cx="39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br>
              <a:rPr sz="1200"/>
            </a:b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Treinamento em Gradep -  julh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91520" y="640080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erviço 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W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175248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6400" y="2220840"/>
            <a:ext cx="473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52600" y="3809880"/>
            <a:ext cx="473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erviço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W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Worb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620120" y="345960"/>
            <a:ext cx="13716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rotocolo de Invocação Remota de Métod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rotocolo de Invocação Remota de Método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X-Worb-Op-Sess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ste atributo consiste em um identificador de sessão de 64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hexadecim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gerado pelo nodo emissor da invocação remot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caso o nodo chamador venha a entrar no modo de operação desconectado antes da conclusão da chamada remota,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este identificador  pode ser usado após a reconexão para recuperação do resultado daquela chamada remota por intermédio do atributo X-Worb-Op-Resum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rotocolo de Invocação Remota de Métod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OST /domain/obj/method HTTP/1.0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X-Worb-Op-Hash: ABCDABCD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X-Worb-Op-Resume: AABBCCDDEEFF0011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rotocolo de Invocação Remota de Métod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rotocolo de Invocação Remota de Método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formato do retorno de resultados relativos a uma invocação remota WOR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retorno: consiste em dois objetos Java serializad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o primeiro corresponde a condições de exceção detectadas no nodo remoto durante a execução da chamad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o segundo é referente ao resultado da chamad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em caso de sucesso, o campo correspondente à exceção contém o valor null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rotocolo de Invocação Remota de Métod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HTTP/1.0 200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ontent-type: application/x-java-serialized-objec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ontent-length: 123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&lt;exceção serializada&gt;&lt;resultado serializado&gt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Visão Geral: Serviço Worb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  Exemplo : Worb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0" y="228600"/>
            <a:ext cx="28893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WorbDem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emplo : Aplicação </a:t>
            </a: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Work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ocal: </a:t>
            </a:r>
            <a:r>
              <a:rPr b="0" lang="pt-BR" sz="2000" spc="-1" strike="noStrike">
                <a:solidFill>
                  <a:srgbClr val="292929"/>
                </a:solidFill>
                <a:latin typeface="Courier New"/>
              </a:rPr>
              <a:t>/isam/isam-apps/worbdemo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v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WorbDemo.ja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fonte da aplicaçã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worbdemo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descritor de disparo da aplicação em formato XML do ISA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WorbDem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emplo : Aplicação </a:t>
            </a: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Work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WSFooImp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implementa o serviço re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método strle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92929"/>
                </a:solidFill>
                <a:latin typeface="Arial"/>
              </a:rPr>
              <a:t>retorna o tamanho de um string passado na chamada (argumento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92929"/>
                </a:solidFill>
                <a:latin typeface="Arial"/>
              </a:rPr>
              <a:t>identifica o host do cliente chamado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WorbDem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classe principa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cria um serviço remoto do tipo WSFooImp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registra o serviço com certo nome (“foo”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busca o serviço pelo nom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92929"/>
                </a:solidFill>
                <a:latin typeface="Arial"/>
              </a:rPr>
              <a:t>é só uma demo ..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92929"/>
                </a:solidFill>
                <a:latin typeface="Arial"/>
              </a:rPr>
              <a:t>usual seria um (outro) programa cliente realizar a busc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realiza uma chamada ao serviço e imprime o resultad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WorbDemo – import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WorbDemo.java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Importa Worb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Exehda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Worb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0512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29528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WorbDem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927864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class WSFooImpl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mplements WSFoo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{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// define o método strlen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public int strlen(String s)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{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System.out.println("WSFooImpl.strlen() of "+s);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Worb worb = (Worb) Exehda.getService(Worb.SERVICE_NAME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// exibe o nodo que chamou o método remotamente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System.out.println("Caller is "+ worb.getClientHost());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// devolve o comprimento do string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return s.length();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WorbDemo – Construto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class WorbDemo()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construtor ------------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Obtém serviço(interface) worb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orb worb = (Worb) Exehda.getService(Worb.SERVICE_NAME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recebe uma URI para ser utilizada com o lookupServic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tring serviceURI = worb.exportService(new WSFooImpl(), WSFoo.class, "wsfoo");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devolve o referência para o serviço remot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SFoo foo = (WSFoo) worb.lookupService(serviceURI, WSFoo.class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Arial Unicode MS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exibe o comprimento do string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ystem.out.println("result:"+foo.strlen("123456789"));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8520" y="333360"/>
            <a:ext cx="159408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Autori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arko Pet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Versão (número, data, auto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1, junho de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2, 03 de agosto de 2005, Gey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175248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76400" y="2220840"/>
            <a:ext cx="473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2600" y="3809880"/>
            <a:ext cx="473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erviço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W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Worb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7620120" y="345960"/>
            <a:ext cx="13716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 Visão Geral: Serviço Worb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  Exemplo : Worb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0160" y="1341360"/>
            <a:ext cx="927864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 Visão Geral: Serviço Worb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iagrama de class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Visão ger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rotocolo de invocação remota de método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 Exemplo : Worb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iagrama de classes do Serviço Worb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1" name="uml-worb" descr=""/>
          <p:cNvPicPr/>
          <p:nvPr/>
        </p:nvPicPr>
        <p:blipFill>
          <a:blip r:embed="rId1"/>
          <a:stretch/>
        </p:blipFill>
        <p:spPr>
          <a:xfrm>
            <a:off x="914400" y="1728720"/>
            <a:ext cx="7772400" cy="353556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2895480" y="2495520"/>
            <a:ext cx="4114800" cy="1371600"/>
            <a:chOff x="2895480" y="2495520"/>
            <a:chExt cx="4114800" cy="1371600"/>
          </a:xfrm>
        </p:grpSpPr>
        <p:sp>
          <p:nvSpPr>
            <p:cNvPr id="73" name=""/>
            <p:cNvSpPr/>
            <p:nvPr/>
          </p:nvSpPr>
          <p:spPr>
            <a:xfrm>
              <a:off x="2895480" y="2495520"/>
              <a:ext cx="4114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2495520"/>
              <a:ext cx="4114800" cy="1371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Visão Geral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erviço Wor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bstração dos aspectos de baixo nível relativos ao tratamento das comunicações em re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odelo de comunicação baseado em RPCs, semelhante ao RMI porém sem necessidade de manutenção da conexão durante toda a execução da chamada remot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funcionalidade construída sobre a provida pelo serviço Dispatch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otocolo: cada chamada recebe um identificador ún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permanece válido durante desconexã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usado para recuperar o resultado da chamada remot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Visão Geral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terface disponibiliza métodos par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registro (exportService) e cancelamento do registro (unexportService) de um objeto (serviço na perspectiva do WORB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étodo lookupServi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o qual possibilita a obtenção de uma referência para um dado serviço re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étodo setExceptionHandl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que permite modificar o tratador de exceções de comunicação associado a uma dada referência remota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étodo getClientHos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quando utilizado dentro de um método previamente exportado pelo WORB, permite identificar o nodo emissor da invocação remota sendo tratada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rotocolo de Invocação Remota de Métod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rotocolo de Invocação Remota de Método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spectos de implement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onversão do par &lt;objeto, método&gt; em um path transmitido ao nodo remoto em uma requisição HTTP POS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arâmetros da requisição são transmitidos na forma de um array de objetos serializ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ecanismo padrão de serialização do Ja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doção deste formato indicada no atributo Content-type da requisição HTT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rês atributos estendidos, X-Worb-Op-Hash, X-Worb-Op-Session e X-Worb-Op-Resume, são definidos para o cabeçalho da requisição HTTP/Worb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rotocolo de Invocação Remota de Métod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OST /Domain/object-bind-name/method HTTP/1.0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X-Worb-Op-Hash: ABCDABCD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X-Worb-Op-Session: AABBCCDDEEFF0011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ontent-type: application/x-java-serialized-objec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ontent-length: 12345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&lt;parâmetros serializados&gt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2:39:03Z</dcterms:created>
  <dc:creator>IARA AUGUSTIN</dc:creator>
  <dc:description/>
  <dc:language>en-US</dc:language>
  <cp:lastModifiedBy> Claudio Geyer</cp:lastModifiedBy>
  <cp:lastPrinted>2009-04-22T19:24:48Z</cp:lastPrinted>
  <dcterms:modified xsi:type="dcterms:W3CDTF">2005-08-05T23:14:01Z</dcterms:modified>
  <cp:revision>283</cp:revision>
  <dc:subject>apresentação para novos mestrandos</dc:subject>
  <dc:title>Projeto ISAM</dc:title>
</cp:coreProperties>
</file>