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8520" y="406944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288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5960" y="136656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52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5960" y="4069440"/>
            <a:ext cx="297468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3040" y="75960"/>
            <a:ext cx="80838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2880" y="406944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2880" y="1366560"/>
            <a:ext cx="45086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8520" y="4069440"/>
            <a:ext cx="9239040" cy="24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7ED9AC9D-98DD-4AD8-A3CB-7FFA4AC3DC71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7360"/>
            <a:ext cx="9906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08160" y="6308640"/>
            <a:ext cx="802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Serviços do Middleware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reinamento em GRADEp – junh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8520" y="1366560"/>
            <a:ext cx="92390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gg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Logg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gistra os rastros de execu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mpregada para depuração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gistro de operações importantes para possível avaliação posteri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xecução Distribuí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hecimento de Contexto e Adapt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unicaçã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esso Pervasiv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hecimento de Contexto e Adaptaçã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llecto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Collecto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xtrai informações dos recursos, recebendo informação de sensores instalados nos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refinamento destas informações gera elementos de contex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figura parâmetros de operação dos senso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hecimento de Contexto e Adaptaçã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extManag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ContextManag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fina as informações sensorad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duz informações mais abstrat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usa uma cadeia para geração destas inform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aggrega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notifi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hecimento de Contexto e Adaptaçã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daptEngin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AdaptEngine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trole da adaptação func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acilita a definição e gerência de comportamentos adaptativ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lementos de contexto representados na forma de string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"&lt;elemento&gt;:&lt;estado&gt;"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ecanismo de carga de código contextualiz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hecimento de Contexto e Adaptaçã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hedul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Schedul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gerência das adaptações não-funciona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mprega a informação de monitoração (Collecto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tende as solicitações do serviço Execu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mplementação atual utiliza uma estratégia probabilística, tendo como base as redes bayesian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ode se utilizar diversos critérios, atualmente está se utilizando poder de processamento disponí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xecução Distribuí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conhecimento de Contexto e Adapt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esso Pervasiv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ORB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WORB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implifica as quetões de comunicação para o ambiente pervasiv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ecanismo semelhante a R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orém sem exigir que a conexão se mantenha estabelecida durante toda a execução remo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ratamento da desconexão planeja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xecução Distribuí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conhecimento de Contexto e Adapt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unic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Pervasiv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Pervasivo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atekeep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Gatekeep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rmedia acessos entre as entidades externas à plataforma ISAM e os serviços do middleware de execu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aliza os procedimentos de autenticação necessári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1368360"/>
            <a:ext cx="9906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292929"/>
                </a:solidFill>
                <a:latin typeface="Arial"/>
              </a:rPr>
              <a:t>Rodrigo Real e Adenauer Yami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656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720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2, agosto de 2005, Gey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23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conhecimento de Contexto e Adaptaç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unicaçã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esso Pervasiv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cuto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Exec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trola o ciclo de vida das aplic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stanciação remota e migração de Ox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rage com a CIB e repositório de códi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adrão de projeto Strateg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eleção de nodo de execução através do serviço Schedu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utiliza o serviço Worb para acesso remoto aos no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ell Information Base - CIB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Cell Information Base - CIB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ase de informações da célu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ntém os dados estruturais da célu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formações referentes aos usuári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rganização baseada em espaços de nomes tip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oi selecionado o servidor LDAP para armazenamento das inform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XManag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OXManag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OX é a instância de objet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riada por intermédio do serviço Execu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à qual pode ser associada meta-informação em tempo de execu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OXManager é responsável pela gerência e manutenção da meta-informação associada a um O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ferece consulta e atualização pervasivas aos atributos do OX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cover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Discover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ponsável pela localização de recursos especializado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busca é feita por parâmetros abstrat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amplitude de pesquisa é parametrizáve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róprio no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egmento loc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élula loc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izinhança nível 1, vizinhança nível 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serviço ResourceBroker intermedia as interações inter-celula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source Brok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Resource Broker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trole da alocação de recursos às aplic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etermina quais recursos são visíveis externamente à célu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rage com o Discoverer e Schedu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ltera a "permeabilidade" da célula usando o serviço Gatewa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23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Distribuída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atewa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Gateway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rmedia as comunicações de nodos externos com recursos internos da célu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princípio nenhum recurso é visível externamen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ResourceBroker define esta visibilidade externa parametrizando o Gatewa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Claudio Geyer</cp:lastModifiedBy>
  <dcterms:modified xsi:type="dcterms:W3CDTF">2005-08-04T15:51:04Z</dcterms:modified>
  <cp:revision>4</cp:revision>
  <dc:subject/>
  <dc:title>Slide 1</dc:title>
</cp:coreProperties>
</file>