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9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9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29640" y="6524640"/>
            <a:ext cx="118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CDCEC7DF-FDF5-4AB8-A805-5196D566FF9A}" type="slidenum">
              <a:rPr b="0" lang="pt-BR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14560" y="6308640"/>
            <a:ext cx="366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Rede Nacional de Ensino e Pesquisa</a:t>
            </a:r>
            <a:br>
              <a:rPr sz="1200"/>
            </a:b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Treinamento em Gradep -  julh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22000" y="640080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HelloWorld 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351160" y="6110280"/>
            <a:ext cx="503280" cy="53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14480" y="6143760"/>
            <a:ext cx="542880" cy="447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315120" y="6151680"/>
            <a:ext cx="728640" cy="35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686040" y="6110280"/>
            <a:ext cx="544680" cy="58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133960" y="6110280"/>
            <a:ext cx="411120" cy="588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688160" y="6019920"/>
            <a:ext cx="54144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3440" y="5789520"/>
            <a:ext cx="780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" y="1295280"/>
            <a:ext cx="7801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7034040" y="345960"/>
            <a:ext cx="1265400" cy="882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Treinamento no GRADEp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92929"/>
                </a:solidFill>
                <a:latin typeface="Tahoma"/>
              </a:rPr>
              <a:t>HelloWorld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292929"/>
                </a:solidFill>
                <a:latin typeface="Tahoma"/>
              </a:rPr>
              <a:t>Args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HelloWorld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Como Executa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HelloWorld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– Como Executar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tr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és do GRADEp Deskto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inha de comando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gradep-ru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arâmetro: arquivo do descritor de disparo da aplicação: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helloWorld.is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429000"/>
            <a:ext cx="8077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$gradep-run helloworld.is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HelloWorld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Saíd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 do programa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&gt; Hello World!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048120"/>
            <a:ext cx="21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Args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Args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– Visão Geral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rograma exemplo escrito em Jav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xecutado sobre o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MiddleWar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GRAD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cebe argumentos de entrad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mprime o numero e quais os argumentos forneci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necessita de dois arquiv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rgs.is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rgs.j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Args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- Arquivo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Args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- Arquivos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gs.isa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rquivo XM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ontém parâmetros para ser executado sobre o GRADE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formato:</a:t>
            </a:r>
            <a:br>
              <a:rPr sz="1800"/>
            </a:b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amapp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="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"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=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rgs.isam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"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o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tl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rgs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tl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end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AM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eam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endor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is is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AM Args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mo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plicatio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co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=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rgs.png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" /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o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Args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- Arquivo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in class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=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rgs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" /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r href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="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da://args.jar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"/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amapp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Args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- Arquivo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Args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- Arquivos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gs.j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rquivo que contém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lasses Java para rodar a aplicação</a:t>
            </a:r>
            <a:br>
              <a:rPr sz="1800"/>
            </a:b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cc99"/>
                </a:solidFill>
                <a:latin typeface="Arial"/>
              </a:rPr>
              <a:t>// Args.java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ublic class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Args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ublic static void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main(String[ ] args)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ystem.out.println("args.length="+args.length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for (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int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i=0; i&lt;args.length; i++) {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System.out.println("args["+i+"]="+args[i])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Args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Como Executa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Args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– Como Executar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tr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és do GRADEp Deskto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inha de comando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gradep-ru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arâmetro: arquivo do descritor de disparo da aplicação: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rgs.is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124080"/>
            <a:ext cx="8077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$gradep-run args.is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Args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Entrada e Saíd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ada do Programa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Exemplo de execucao do programa Arg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 do programa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&gt; args.length=6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&gt; args[0]=Exempl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&gt; args[1]=d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&gt; args[2]=execuca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&gt; args[3]=d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&gt; args[4]= program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&gt; args[5]= Arg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Treinamento no GRADEp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92929"/>
                </a:solidFill>
                <a:latin typeface="Tahoma"/>
              </a:rPr>
              <a:t>HelloWorld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292929"/>
                </a:solidFill>
                <a:latin typeface="Tahoma"/>
              </a:rPr>
              <a:t>Args</a:t>
            </a:r>
            <a:endParaRPr b="1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utori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utor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grid Oliveira de Nun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Versão (número, data, autor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1, junho de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2, 02 de agosto de 2005, Gey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3, 02 de agosto de 2005, Ingri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4, 03 de agosto de 2005, Gey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HelloWorld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xemplo de programa Java executado pelo GRAD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rg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dem com uso de argument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HelloWorld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Visão Ger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rquiv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helloWorld.isa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helloWorld.j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omo executa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aíd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Args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Visão Ger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rquiv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rgs.isa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rgs.j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omo executa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Entrada e Saíd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HelloWorld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– Visão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HelloWorld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– Visão Geral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rograma exemplo escrito em Jav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xecutado sobre o </a:t>
            </a:r>
            <a:r>
              <a:rPr b="0" i="1" lang="pt-BR" sz="2000" spc="-1" strike="noStrike">
                <a:solidFill>
                  <a:srgbClr val="292929"/>
                </a:solidFill>
                <a:latin typeface="Arial"/>
              </a:rPr>
              <a:t>MiddleWar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GRAD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mprime na saída padrão a mensagem “Hello World!”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necessita de dois arquivo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helloWorld.is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helloWorld.j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HelloWorld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- Arquivo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Arial"/>
              </a:rPr>
              <a:t>HelloWorld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 - Arquivos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helloWorld.is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arquivo XM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contém parâmetros para ser executado sobre o GRADEp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formato:</a:t>
            </a:r>
            <a:br>
              <a:rPr sz="1600"/>
            </a:b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amapp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="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"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="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loWorld.isam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"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o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tl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lo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orld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tl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end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AM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eam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endor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is is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AM HelloWorld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mo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plicatio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con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="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loworld.png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" /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o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HelloWorld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- Arquivo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in class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="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loWorld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" /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r href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="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da://helloworld.jar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"/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amapp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7467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Arial"/>
              </a:rPr>
              <a:t>HelloWorld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- Arquivo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3760" y="1341360"/>
            <a:ext cx="85647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HelloWorld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- Arquivos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helloWorld.j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rquivo que contém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classes Java para rodar a aplicação</a:t>
            </a:r>
            <a:br>
              <a:rPr sz="1600"/>
            </a:br>
            <a:r>
              <a:rPr b="0" lang="pt-BR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// HelloWorld.jav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public class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HelloWorld {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public static void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main(String[ ] args) {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// Imprime na saída padr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ystem.out.println("Hello World!");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00:48:33Z</dcterms:created>
  <dc:creator>Ingrid Nunes</dc:creator>
  <dc:description/>
  <dc:language>en-US</dc:language>
  <cp:lastModifiedBy> Claudio Geyer</cp:lastModifiedBy>
  <dcterms:modified xsi:type="dcterms:W3CDTF">2005-08-04T02:55:22Z</dcterms:modified>
  <cp:revision>21</cp:revision>
  <dc:subject/>
  <dc:title>Treinamento no GRADEp</dc:title>
</cp:coreProperties>
</file>