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9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9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29640" y="6524640"/>
            <a:ext cx="118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EB5EFB9F-7DAD-489E-8DAD-2101EF485C2C}" type="slidenum">
              <a:rPr b="0" lang="pt-BR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14560" y="6308640"/>
            <a:ext cx="366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br>
              <a:rPr sz="1200"/>
            </a:b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Treinamento em Gradep -  julh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770520" y="640080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Servi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ço 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51160" y="6110280"/>
            <a:ext cx="503280" cy="53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14480" y="6143760"/>
            <a:ext cx="542880" cy="44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315120" y="6151680"/>
            <a:ext cx="728640" cy="35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686040" y="6110280"/>
            <a:ext cx="544680" cy="5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133960" y="6110280"/>
            <a:ext cx="411120" cy="58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688160" y="6019920"/>
            <a:ext cx="54144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3440" y="5789520"/>
            <a:ext cx="780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" y="1295280"/>
            <a:ext cx="7801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034040" y="345960"/>
            <a:ext cx="1265400" cy="882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Servi</a:t>
            </a:r>
            <a:r>
              <a:rPr b="1" lang="pt-BR" sz="1800" spc="-1" strike="noStrike">
                <a:solidFill>
                  <a:srgbClr val="292929"/>
                </a:solidFill>
                <a:latin typeface="Tahoma"/>
              </a:rPr>
              <a:t>ço </a:t>
            </a:r>
            <a:r>
              <a:rPr b="1" i="1" lang="pt-BR" sz="1800" spc="-1" strike="noStrike">
                <a:solidFill>
                  <a:srgbClr val="292929"/>
                </a:solidFill>
                <a:latin typeface="Tahoma"/>
              </a:rPr>
              <a:t>Executor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292929"/>
                </a:solidFill>
                <a:latin typeface="Tahoma"/>
              </a:rPr>
              <a:t>ExecutorDemo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Interface do Executor</a:t>
            </a:r>
            <a:br>
              <a:rPr sz="2800"/>
            </a:b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Executa a ação fornecida na aplicação, esperando seu término para retorna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Acti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(ApplicationId app,Runnable action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pp – aplicação onde a ação será executada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ction – ação a ser executa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Seta uma heurística de agendamento por aplicação. Este método está </a:t>
            </a:r>
            <a:r>
              <a:rPr b="1" i="1" lang="pt-BR" sz="2000" spc="-1" strike="noStrike">
                <a:solidFill>
                  <a:srgbClr val="00cc99"/>
                </a:solidFill>
                <a:latin typeface="Arial"/>
              </a:rPr>
              <a:t>deprecated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Heuristic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(SchedulingHeuristic sh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h – a heurística de agendamen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nterface –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SchedulingHeuristic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nterface –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SchedulingHeuristic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terface definida dentro da interface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Execut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iga as heurísticas de agendamento à operação d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Execut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efine os métod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ostI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ooseCreationHost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String cls,Object[] params,Object hint,Vector toAvoid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ostI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ooseMigrationHost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ObjectId o,Object hint,Vector toAvoid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ls – classe a ser instancia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 – objeto a ser migrad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 – parâmetros a serem passados ao constru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hint – dica para guiar o processo de seleçao de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oAvoid – lista de hosts a evit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torno: identificador do host escolhi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Executor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ExecutorDemo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xemplo de uma aplicação do serviç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Executo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no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ocal: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/isam/isam-apps/executordemo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v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xecutorDemo.ja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onte da aplicação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xecutordemo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descritor de disparo da aplicação em formato XML do ISAM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ExecutorDem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classe </a:t>
            </a: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Walk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ExecutorDemo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– classe </a:t>
            </a: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Walke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mplementa as interfaces 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Runnabl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e 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Serializab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cionais ou dependentes do comportamento da aplica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tribut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tring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ame 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– nome do obje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tring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– localização do obje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int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count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– contador de passos da execução do obje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éto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() – a cada 2 segundos, imprime a localização do objeto, enquanto a Thread não é interromp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tWher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(String where) – seta a localização do obje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ExecutorDem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classe </a:t>
            </a: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WalkerActivato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tivador da classe </a:t>
            </a: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Walk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tivação: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public void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activate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(ObjectId oxID,Object obj,MarshaledOX extState);</a:t>
            </a:r>
            <a:br>
              <a:rPr sz="1800"/>
            </a:b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eta localização do obje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ria uma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thread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para o obje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inicia a execução da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esativação: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public void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deactivate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(ObjectId oxID,Object obj,MarshaledOX oxState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throws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InterruptedException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interrompe a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spera término da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Executor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ExecutorDemo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cebe como parâmetro três identificadores de Host (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HostId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ria instância do serviç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Executor:</a:t>
            </a:r>
            <a:br>
              <a:rPr sz="2000"/>
            </a:b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utor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 executor =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utor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Exehda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getService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utor.SERVICE_NAME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);</a:t>
            </a:r>
            <a:br>
              <a:rPr sz="2000"/>
            </a:b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ria objeto no primeiro Host fornecid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ObjectId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 walkerID =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executor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eateObject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(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alker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//Classe a ser instanciad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 Object[] { "Walker#0" }, </a:t>
            </a: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//Argumento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alkerActivator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//Ativat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h1);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//Host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Executor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ExecutorDemo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igra o objeto entre o segundo e o terceiro host indefinitvamente:</a:t>
            </a:r>
            <a:br>
              <a:rPr sz="1800"/>
            </a:b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leep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(10000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executor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eObject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(walkerID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h2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System.out.println("Moved to "+h2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leep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(10000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executor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eObject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(walkerID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h3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System.out.println("Moved to "+h3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étod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millis): faz a thread corrente parar sua execução durante os milesegundos forneci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Servi</a:t>
            </a:r>
            <a:r>
              <a:rPr b="1" lang="pt-BR" sz="1800" spc="-1" strike="noStrike">
                <a:solidFill>
                  <a:srgbClr val="292929"/>
                </a:solidFill>
                <a:latin typeface="Tahoma"/>
              </a:rPr>
              <a:t>ço </a:t>
            </a:r>
            <a:r>
              <a:rPr b="1" i="1" lang="pt-BR" sz="1800" spc="-1" strike="noStrike">
                <a:solidFill>
                  <a:srgbClr val="292929"/>
                </a:solidFill>
                <a:latin typeface="Tahoma"/>
              </a:rPr>
              <a:t>Executor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292929"/>
                </a:solidFill>
                <a:latin typeface="Tahoma"/>
              </a:rPr>
              <a:t>ExecutorDemo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tori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utor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grid Oliveira de Nun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Versão (número, data, auto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1, junho de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2, 03 de agosto de 2005, Gey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umári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Visão G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Activat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Migrab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SchedulingHeurist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ExecutorDem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lasse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Walk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lasse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WalkerActivat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Visão Geral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efine métodos par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isparar e terminar aplicaçõ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riar e migrar objetos (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OXes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igar heurísticas por aplicação que irão guiar a seleção de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host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tanto na instanciação como na migração remotas dos objet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oção de um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Activato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por obje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stanciação através d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Design Pattern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Activato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Activato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sponsável por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nectar o objeto ao seu ambiente de execu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arregar e inicializar qualquer outro recurso extra antes do objeto iniciar sua execu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specificado quando o OX é instancia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través do método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createObject(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igado ao objeto – carregado com ele mesmo que haja migr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aso seja omitido, o sistema procurará um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Activato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que sirva para o obje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Interface do Executor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métodos de instância</a:t>
            </a:r>
            <a:br>
              <a:rPr sz="2400"/>
            </a:b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Cria um objeto na aplicação que o invoca, invocando o construtor apropriado de acordo com a lista de parâmetro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ObjectI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eateObject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(Class c,Object[] p,Activator a,Object hint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 – classe a ser instancia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 – parâmetros a serem passados ao constru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 –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Activator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customizado do obje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hint – dica para guiar o processo de seleçao de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Retorno: identificador do objet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92929"/>
                </a:solidFill>
                <a:latin typeface="Arial"/>
              </a:rPr>
              <a:t>Interface do Executor</a:t>
            </a:r>
            <a:br>
              <a:rPr sz="3200"/>
            </a:br>
            <a:r>
              <a:rPr b="1" lang="pt-BR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// Migra um OX existente entre dois nodo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veObject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(ObjectId ox,Object placementHint)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x – objeto a ser migra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lacementHint – dica para onde o objeto será migra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Interface do Executor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Desativa o objeto OX, armazenando seu estado e outras informações de gerenciamento no objeto MarshaledOX retornad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Necessário por exemplo antes da migração de um objet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arshaledO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activateObject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(ObjectId ox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x – objeto a ser desativad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Retorno: objeto com informações de estado do objeto desativado</a:t>
            </a:r>
            <a:br>
              <a:rPr sz="2000"/>
            </a:b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Retorna a execução de um objeto desativad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ateObject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(MarshaledOX oxState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xState – objeto com informações de estado do objeto a ser ativad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Interface do Executor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Dispara a execução de uma aplicação descrita pelo documento com o descritor de dispar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Applicati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(org.isam.util.xml.XmlElement launchingDesc) throws MalformedAppLaunchingDescriptorException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auchingDesc – documento com o descritor de disparo da aplicação</a:t>
            </a:r>
            <a:br>
              <a:rPr sz="1800"/>
            </a:b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Faz a aplicação abortar sua execução, parando todas as suas </a:t>
            </a:r>
            <a:r>
              <a:rPr b="1" i="1" lang="pt-BR" sz="2000" spc="-1" strike="noStrike">
                <a:solidFill>
                  <a:srgbClr val="00cc99"/>
                </a:solidFill>
                <a:latin typeface="Arial"/>
              </a:rPr>
              <a:t>thread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tApplicati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Retorna a aplicação cuja </a:t>
            </a:r>
            <a:r>
              <a:rPr b="1" i="1" lang="pt-BR" sz="2000" spc="-1" strike="noStrike">
                <a:solidFill>
                  <a:srgbClr val="00cc99"/>
                </a:solidFill>
                <a:latin typeface="Arial"/>
              </a:rPr>
              <a:t>thread</a:t>
            </a: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 chamadora pertenc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pplicationId currentApplication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Retorno: identificador da aplicaçã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6:53:00Z</dcterms:created>
  <dc:creator>Ingrid Nunes</dc:creator>
  <dc:description/>
  <dc:language>en-US</dc:language>
  <cp:lastModifiedBy> Claudio Geyer</cp:lastModifiedBy>
  <dcterms:modified xsi:type="dcterms:W3CDTF">2005-08-05T15:59:08Z</dcterms:modified>
  <cp:revision>30</cp:revision>
  <dc:subject/>
  <dc:title>Treinamento no GRADEp</dc:title>
</cp:coreProperties>
</file>