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907588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680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833640" y="0"/>
            <a:ext cx="2934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701280" y="742680"/>
            <a:ext cx="536580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76440" y="4704840"/>
            <a:ext cx="54165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-360" y="940896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3833640" y="9408960"/>
            <a:ext cx="2934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297E-3A01-4EF4-9D60-26E1257FD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833640" y="9408960"/>
            <a:ext cx="2934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C98EF-5D93-44D7-A953-BF4EFFEC1F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360" y="940896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-36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701640" y="743040"/>
            <a:ext cx="5365800" cy="371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02880" y="4704840"/>
            <a:ext cx="496260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79000" cy="229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8160" y="3876840"/>
            <a:ext cx="9279000" cy="229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4528080" cy="229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3040" y="1366920"/>
            <a:ext cx="4528080" cy="229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8160" y="3876840"/>
            <a:ext cx="4528080" cy="229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53040" y="3876840"/>
            <a:ext cx="4528080" cy="229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2987640" cy="229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35560" y="1366920"/>
            <a:ext cx="2987640" cy="229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72960" y="1366920"/>
            <a:ext cx="2987640" cy="229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8160" y="3876840"/>
            <a:ext cx="2987640" cy="229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35560" y="3876840"/>
            <a:ext cx="2987640" cy="229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72960" y="3876840"/>
            <a:ext cx="2987640" cy="229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8160" y="1366920"/>
            <a:ext cx="927900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790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452808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3040" y="1366920"/>
            <a:ext cx="452808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33400" y="76320"/>
            <a:ext cx="80899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4528080" cy="229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3040" y="1366920"/>
            <a:ext cx="452808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8160" y="3876840"/>
            <a:ext cx="4528080" cy="229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452808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3040" y="1366920"/>
            <a:ext cx="4528080" cy="229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53040" y="3876840"/>
            <a:ext cx="4528080" cy="229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4528080" cy="229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53040" y="1366920"/>
            <a:ext cx="4528080" cy="229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8160" y="3876840"/>
            <a:ext cx="9279000" cy="229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906120" cy="6869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8160" y="1366920"/>
            <a:ext cx="92790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481960" y="6524640"/>
            <a:ext cx="128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pt-BR" sz="1200" spc="-1" strike="noStrike">
                <a:solidFill>
                  <a:srgbClr val="3333cc"/>
                </a:solidFill>
                <a:latin typeface="Arial"/>
              </a:rPr>
              <a:t>Slide </a:t>
            </a:r>
            <a:fld id="{8A8FE0F6-9D0E-4B4D-BE38-C71F2F51E5BF}" type="slidenum">
              <a:rPr b="0" lang="pt-BR" sz="1200" spc="-1" strike="noStrike">
                <a:solidFill>
                  <a:srgbClr val="33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23736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208160" y="6308640"/>
            <a:ext cx="3973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3333cc"/>
                </a:solidFill>
                <a:latin typeface="Arial"/>
              </a:rPr>
              <a:t>Rede Nacional de Ensino e Pesquisa</a:t>
            </a:r>
            <a:br>
              <a:rPr sz="1200"/>
            </a:br>
            <a:r>
              <a:rPr b="0" lang="pt-BR" sz="1200" spc="-1" strike="noStrike">
                <a:solidFill>
                  <a:srgbClr val="3333cc"/>
                </a:solidFill>
                <a:latin typeface="Arial"/>
              </a:rPr>
              <a:t>Treinamento em Gradep -  junho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965640" y="6381720"/>
            <a:ext cx="186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cc"/>
                </a:solidFill>
                <a:latin typeface="Arial"/>
              </a:rPr>
              <a:t>Serviço Context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3520" y="1752480"/>
            <a:ext cx="853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3366"/>
                </a:solidFill>
                <a:latin typeface="Arial"/>
              </a:rPr>
              <a:t>Treinamento no GRADEp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17720" y="1109520"/>
            <a:ext cx="6494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76400" y="2220840"/>
            <a:ext cx="4734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352600" y="3809880"/>
            <a:ext cx="473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Serviço </a:t>
            </a:r>
            <a:r>
              <a:rPr b="1" i="1" lang="pt-BR" sz="1800" spc="-1" strike="noStrike">
                <a:solidFill>
                  <a:srgbClr val="000000"/>
                </a:solidFill>
                <a:latin typeface="Tahoma"/>
              </a:rPr>
              <a:t>ContextMana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Tahoma"/>
              </a:rPr>
              <a:t>CtxManager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46280" y="6110280"/>
            <a:ext cx="546120" cy="539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098720" y="6143760"/>
            <a:ext cx="588960" cy="447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6842160" y="6151680"/>
            <a:ext cx="789120" cy="3538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3994200" y="6110280"/>
            <a:ext cx="588960" cy="5889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5562720" y="6110280"/>
            <a:ext cx="444240" cy="5889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8329680" y="6019920"/>
            <a:ext cx="585720" cy="685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62120" y="5789520"/>
            <a:ext cx="845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295280"/>
            <a:ext cx="845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8"/>
          <a:stretch/>
        </p:blipFill>
        <p:spPr>
          <a:xfrm>
            <a:off x="7620120" y="345960"/>
            <a:ext cx="1371600" cy="88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CtxManagerDemo – imports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8160" y="1360440"/>
            <a:ext cx="92790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CtxManagerDemo.java:  (trechos selecionados)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// importa ContextManager, Context, ContextState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// e ContextListener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import org.isam.exehda.Exehda;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import org.isam.exehda.services.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ContextManager</a:t>
            </a: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import org.isam.exehda.services.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ContextManager.Context</a:t>
            </a: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import org.isam.exehda.services.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ContextManager.ContextState</a:t>
            </a: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import org.isam.exehda.services.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ContextManager.ContextListener</a:t>
            </a: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905120"/>
            <a:ext cx="906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1295280"/>
            <a:ext cx="906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CtxManagerDemo –  Contexto “load” (XML)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8160" y="1268280"/>
            <a:ext cx="92790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public class CtxManagerDemo {</a:t>
            </a:r>
            <a:endParaRPr b="1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static final String CTXDEF</a:t>
            </a: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 = ( ""         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// declara o XML do contexto “load” em uma string</a:t>
            </a:r>
            <a:endParaRPr b="1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+ "&lt;CONTEXT n='load'&gt;\n"</a:t>
            </a:r>
            <a:endParaRPr b="1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+ "  &lt;STATES&gt;\n"</a:t>
            </a:r>
            <a:endParaRPr b="1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+ "    &lt;STATE n='free for chat'/&gt;\n"</a:t>
            </a:r>
            <a:endParaRPr b="1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+ "    &lt;STATE n='occupied'/&gt;\n"</a:t>
            </a:r>
            <a:endParaRPr b="1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+ "    &lt;STATE n='do not disturb!'/&gt;\n"</a:t>
            </a:r>
            <a:endParaRPr b="1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+ "  &lt;/STATES&gt;\n"</a:t>
            </a:r>
            <a:endParaRPr b="1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+ "  &lt;FILTER syntax='xml:NumericRangeMapping'&gt;\n"</a:t>
            </a:r>
            <a:endParaRPr b="1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+ "    &lt;INDEX&gt;\n"</a:t>
            </a:r>
            <a:endParaRPr b="1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+ "      &lt;SENSOR n='CPU_OCCUP_IDLE'/&gt;\n"</a:t>
            </a:r>
            <a:endParaRPr b="1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+ "    &lt;/INDEX&gt;\n"</a:t>
            </a:r>
            <a:endParaRPr b="1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+ "    &lt;MAPPINGS&gt;\n"</a:t>
            </a:r>
            <a:endParaRPr b="1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+ "      &lt;RANGE ub='30' state='do not disturb!'/&gt;\n"</a:t>
            </a:r>
            <a:endParaRPr b="1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+ "      &lt;RANGE lbo='30' ub='60' state='occupied'/&gt;\n"</a:t>
            </a:r>
            <a:endParaRPr b="1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+ "      &lt;RANGE lbo='60' state='free for chat'/&gt;\n"</a:t>
            </a:r>
            <a:endParaRPr b="1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+ "      &lt;DEFAULT state='occupied'/&gt;\n"</a:t>
            </a:r>
            <a:endParaRPr b="1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+ "    &lt;/MAPPINGS&gt;\n"</a:t>
            </a:r>
            <a:endParaRPr b="1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+ "  &lt;/FILTER&gt;\n"</a:t>
            </a:r>
            <a:endParaRPr b="1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+ "&lt;/CONTEXT&gt;\n").replace('\'','"');</a:t>
            </a:r>
            <a:endParaRPr b="1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CtxManagerDemo –  Contexto “gui” (XML)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8160" y="1268280"/>
            <a:ext cx="92790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// declara o XML do contexto “gui”: tipo de interface de saída disponível para a aplicação</a:t>
            </a:r>
            <a:endParaRPr b="1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static final String CTXDEF2 </a:t>
            </a: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= ( ""</a:t>
            </a:r>
            <a:endParaRPr b="1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+ "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&lt;CONTEXT n='gui'&gt;</a:t>
            </a: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\n"</a:t>
            </a:r>
            <a:endParaRPr b="1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+ "  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&lt;STATES&gt;</a:t>
            </a: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\n"</a:t>
            </a:r>
            <a:endParaRPr b="1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+ "    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&lt;STATE n='console'/&gt;</a:t>
            </a: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\n"</a:t>
            </a:r>
            <a:endParaRPr b="1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+ "    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&lt;STATE n='pda'/&gt;</a:t>
            </a: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\n"</a:t>
            </a:r>
            <a:endParaRPr b="1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+ "    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&lt;STATE n='desktop'/&gt;</a:t>
            </a: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\n"</a:t>
            </a:r>
            <a:endParaRPr b="1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+ "  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&lt;/STATES&gt;</a:t>
            </a: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\n"</a:t>
            </a:r>
            <a:endParaRPr b="1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+ "  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&lt;FILTER syntax='xml:StringMapping'&gt;</a:t>
            </a: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\n"</a:t>
            </a:r>
            <a:endParaRPr b="1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+ "    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&lt;INDEX&gt;</a:t>
            </a: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\n"</a:t>
            </a:r>
            <a:endParaRPr b="1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+ "      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&lt;SENSOR n='runtime.gui.awt.mode'/&gt;</a:t>
            </a: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\n"</a:t>
            </a:r>
            <a:endParaRPr b="1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+ "    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&lt;/INDEX&gt;</a:t>
            </a: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\n"</a:t>
            </a:r>
            <a:endParaRPr b="1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+ "    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&lt;MAPPINGS&gt;</a:t>
            </a: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\n"</a:t>
            </a:r>
            <a:endParaRPr b="1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+ "      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&lt;MATCH op='equals' v='none' ignoreCase='true' state='console'/&gt;</a:t>
            </a: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\n"</a:t>
            </a:r>
            <a:endParaRPr b="1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+ "      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&lt;MATCH op='equals' v='awt-low res' ignoreCase='true' state='pda'/&gt;</a:t>
            </a: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\n"</a:t>
            </a:r>
            <a:endParaRPr b="1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+ "      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&lt;MATCH op='prefix' v='swing' ignoreCase='true' state='desktop'/&gt;</a:t>
            </a: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\n"</a:t>
            </a:r>
            <a:endParaRPr b="1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+ "      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&lt;DEFAULT state='console'/&gt;</a:t>
            </a: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\n"</a:t>
            </a:r>
            <a:endParaRPr b="1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+ "    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&lt;/MAPPINGS&gt;</a:t>
            </a: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\n"</a:t>
            </a:r>
            <a:endParaRPr b="1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+ "  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&lt;/FILTER&gt;</a:t>
            </a: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\n"</a:t>
            </a:r>
            <a:endParaRPr b="1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+ "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&lt;/CONTEXT&gt;</a:t>
            </a: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\n").replace('\'','"');</a:t>
            </a:r>
            <a:endParaRPr b="1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27840" y="3319560"/>
            <a:ext cx="33512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615000" y="2997360"/>
            <a:ext cx="245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Tags XML: próximo slide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Contexto “gui” (XML)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8160" y="1268280"/>
            <a:ext cx="92790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CONTEXT n='gui'&gt;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STATES&gt;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STATE n='console'/&gt;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STATE n='pda'/&gt;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STATE n='desktop'/&gt;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STATES&gt;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FILTER 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syntax='xml:StringMapping'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&lt;INDEX&gt;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&lt;SENSOR n='runtime.gui.awt.mode'/&gt;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&lt;/INDEX&gt;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9933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339933"/>
                </a:solidFill>
                <a:latin typeface="Arial"/>
              </a:rPr>
              <a:t>&lt;MAPPINGS&gt;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9933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339933"/>
                </a:solidFill>
                <a:latin typeface="Arial"/>
              </a:rPr>
              <a:t>&lt;MATCH op='equals' v='none' ignoreCase='true' state='console'/&gt;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9933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339933"/>
                </a:solidFill>
                <a:latin typeface="Arial"/>
              </a:rPr>
              <a:t>&lt;MATCH op='equals' v='awt-low res' ignoreCase='true' state='pda'/&gt;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9933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339933"/>
                </a:solidFill>
                <a:latin typeface="Arial"/>
              </a:rPr>
              <a:t>&lt;MATCH op='prefix' v='swing' ignoreCase='true' state='desktop'/&gt;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9933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339933"/>
                </a:solidFill>
                <a:latin typeface="Arial"/>
              </a:rPr>
              <a:t>&lt;DEFAULT state='console'/&gt;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9933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339933"/>
                </a:solidFill>
                <a:latin typeface="Arial"/>
              </a:rPr>
              <a:t>&lt;/MAPPINGS&gt;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FILTER&gt;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CONTEXT&gt;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952880" y="1628640"/>
            <a:ext cx="648000" cy="1440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73600" y="112536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Times New Roman"/>
              </a:rPr>
              <a:t>Mapeamento de string: para quando o sensor produz uma str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097600" y="2276640"/>
            <a:ext cx="576000" cy="12254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73600" y="184464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ff"/>
                </a:solidFill>
                <a:latin typeface="Times New Roman"/>
              </a:rPr>
              <a:t>Sensor monitora uma propriedade (string) do runtime Jav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5457960" y="3645000"/>
            <a:ext cx="574560" cy="576000"/>
          </a:xfrm>
          <a:prstGeom prst="line">
            <a:avLst/>
          </a:prstGeom>
          <a:ln w="93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27480" y="2708280"/>
            <a:ext cx="3542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9933"/>
                </a:solidFill>
                <a:latin typeface="Times New Roman"/>
              </a:rPr>
              <a:t>Op = operaçã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9933"/>
                </a:solidFill>
                <a:latin typeface="Times New Roman"/>
              </a:rPr>
              <a:t>   </a:t>
            </a:r>
            <a:r>
              <a:rPr b="0" lang="pt-BR" sz="1800" spc="-1" strike="noStrike">
                <a:solidFill>
                  <a:srgbClr val="339933"/>
                </a:solidFill>
                <a:latin typeface="Times New Roman"/>
              </a:rPr>
              <a:t>equals = igual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9933"/>
                </a:solidFill>
                <a:latin typeface="Times New Roman"/>
              </a:rPr>
              <a:t>   </a:t>
            </a:r>
            <a:r>
              <a:rPr b="0" lang="pt-BR" sz="1800" spc="-1" strike="noStrike">
                <a:solidFill>
                  <a:srgbClr val="339933"/>
                </a:solidFill>
                <a:latin typeface="Times New Roman"/>
              </a:rPr>
              <a:t>prefix = prefix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9933"/>
                </a:solidFill>
                <a:latin typeface="Times New Roman"/>
              </a:rPr>
              <a:t>v = valor (ao qual aplica a operaçã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9933"/>
                </a:solidFill>
                <a:latin typeface="Times New Roman"/>
              </a:rPr>
              <a:t>ignoreCase = sensível a maiúscula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89240" y="522936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11880" y="5229360"/>
            <a:ext cx="5211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Se modo AWT começa com “swing”, é deskt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Se é “awt-low-res” é PD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Se é “none”, então é console texto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CtxManagerDemo – main() (1/3)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7900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// Ponto de entrada da aplicação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public static void main( String[] args ) throws Exception {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// Obtém referência para o serviço ContextManager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ContextManager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 ctxman = (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ContextManager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                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Exehda.getService( ContextManager.SERVICE_NAME );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// Cria contextos (Context) baseados nos descritores XML. O serviço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// ContextManager fica responsável por solicitar ao serviço Coletor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// o registro dos sensores apropriados.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Context ctx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 = ctxman.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createContext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( CTXDEF );      </a:t>
            </a: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// contexto “load”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Context ctx2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 = ctxman.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createContext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( CTXDEF2 );  </a:t>
            </a: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// contexto “gui”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35360" y="5084640"/>
            <a:ext cx="506880" cy="337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CtxManagerDemo – main() (2/3)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7900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// declara uma subclasse (anônima) de ContextListener, 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// sobrescrevendo o seu método: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//   void contextChanged(ContextState p, ContextState c);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ContextListener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 l = new 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ContextListener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() {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      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public 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void contextChanged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ContextState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 prev, 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ContextState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 curr) {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System.out.println("Context changed from "+prev+" to "+curr);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      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};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// registra as instâncias dos contextos “load” e “gui” no ContextManager,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// associando, a estas instâncias, o objeto ContextListener criado acima.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ctxman.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addContextListener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( l, ctx );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ctxman.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addContextListener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( l, ctx2 );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68880" y="5281560"/>
            <a:ext cx="41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ff0000"/>
                </a:solidFill>
                <a:latin typeface="Arial"/>
              </a:rPr>
              <a:t>}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29240" y="5805360"/>
            <a:ext cx="4032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972840" y="5805360"/>
            <a:ext cx="131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Próximo sl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5360" y="2492280"/>
            <a:ext cx="506880" cy="337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ContextManager.addContextListener()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7900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O método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addContextListener()</a:t>
            </a: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 da interface </a:t>
            </a:r>
            <a:r>
              <a:rPr b="0" lang="pt-BR" sz="2400" spc="-1" strike="noStrike">
                <a:solidFill>
                  <a:srgbClr val="0000ff"/>
                </a:solidFill>
                <a:latin typeface="Arial"/>
              </a:rPr>
              <a:t>ContextManager</a:t>
            </a: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  associa um objeto “escutador” (</a:t>
            </a:r>
            <a:r>
              <a:rPr b="0" i="1" lang="pt-BR" sz="2400" spc="-1" strike="noStrike">
                <a:solidFill>
                  <a:srgbClr val="292929"/>
                </a:solidFill>
                <a:latin typeface="Arial"/>
              </a:rPr>
              <a:t>listener</a:t>
            </a: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) a um elemento de contexto: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Argumentos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"/>
              </a:rPr>
              <a:t>ContextListener</a:t>
            </a: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: objeto que será notificado sobre mudanças no contexto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"/>
              </a:rPr>
              <a:t>Context</a:t>
            </a: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: o contexto em questão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20880" y="4221000"/>
            <a:ext cx="898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292929"/>
                </a:solidFill>
                <a:latin typeface="Courier New"/>
              </a:rPr>
              <a:t>public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1" lang="pt-BR" sz="1800" spc="-1" strike="noStrike">
                <a:solidFill>
                  <a:srgbClr val="0000ff"/>
                </a:solidFill>
                <a:latin typeface="Courier New"/>
              </a:rPr>
              <a:t> ContextManager</a:t>
            </a:r>
            <a:r>
              <a:rPr b="1" lang="pt-BR" sz="1800" spc="-1" strike="noStrike">
                <a:solidFill>
                  <a:srgbClr val="292929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1" lang="pt-BR" sz="1800" spc="-1" strike="noStrike">
                <a:solidFill>
                  <a:srgbClr val="ff0000"/>
                </a:solidFill>
                <a:latin typeface="Courier New"/>
              </a:rPr>
              <a:t> void addContextListener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pt-BR" sz="1800" spc="-1" strike="noStrike">
                <a:solidFill>
                  <a:srgbClr val="ff0000"/>
                </a:solidFill>
                <a:latin typeface="Courier New"/>
              </a:rPr>
              <a:t>ContextListener l, Context c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7000" y="4294080"/>
            <a:ext cx="506880" cy="337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CtxManagerDemo – main() (3/3)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7900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// aguarda 60 segundos para que seja possível mudar o 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// contexto através da modificação dos valores dos sensores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// ( por exemplo, mudança na ocupação de CPU, ...)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292929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292929"/>
                </a:solidFill>
                <a:latin typeface="Arial"/>
              </a:rPr>
              <a:t>System.out.println("Waiting for context events...");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292929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292929"/>
                </a:solidFill>
                <a:latin typeface="Arial"/>
              </a:rPr>
              <a:t>Thread.currentThread().sleep(60000);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292929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292929"/>
                </a:solidFill>
                <a:latin typeface="Arial"/>
              </a:rPr>
              <a:t>System.out.println("Cleaning up...");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// remove uma associação entre um Context e um ContextListener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// ( parâmetros: idem ao addContextListener() )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292929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292929"/>
                </a:solidFill>
                <a:latin typeface="Arial"/>
              </a:rPr>
              <a:t>ctxman.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removeContextListener</a:t>
            </a:r>
            <a:r>
              <a:rPr b="1" lang="pt-BR" sz="1800" spc="-1" strike="noStrike">
                <a:solidFill>
                  <a:srgbClr val="292929"/>
                </a:solidFill>
                <a:latin typeface="Arial"/>
              </a:rPr>
              <a:t>( l, ctx );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292929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292929"/>
                </a:solidFill>
                <a:latin typeface="Arial"/>
              </a:rPr>
              <a:t>ctxman.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removeContextListener</a:t>
            </a:r>
            <a:r>
              <a:rPr b="1" lang="pt-BR" sz="1800" spc="-1" strike="noStrike">
                <a:solidFill>
                  <a:srgbClr val="292929"/>
                </a:solidFill>
                <a:latin typeface="Arial"/>
              </a:rPr>
              <a:t>( l, ctx2 );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292929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// libera o Context do “load”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292929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292929"/>
                </a:solidFill>
                <a:latin typeface="Arial"/>
              </a:rPr>
              <a:t>ctxman.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releaseContext</a:t>
            </a:r>
            <a:r>
              <a:rPr b="1" lang="pt-BR" sz="1800" spc="-1" strike="noStrike">
                <a:solidFill>
                  <a:srgbClr val="292929"/>
                </a:solidFill>
                <a:latin typeface="Arial"/>
              </a:rPr>
              <a:t>( ctx );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292929"/>
                </a:solidFill>
                <a:latin typeface="Arial"/>
              </a:rPr>
              <a:t>}</a:t>
            </a:r>
            <a:r>
              <a:rPr b="1" lang="pt-BR" sz="1800" spc="-1" strike="noStrike">
                <a:solidFill>
                  <a:srgbClr val="b2b2b2"/>
                </a:solidFill>
                <a:latin typeface="Arial"/>
              </a:rPr>
              <a:t> // fim do main() e do demo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47800" y="5518080"/>
            <a:ext cx="3097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13080" y="5527800"/>
            <a:ext cx="955440" cy="206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68520" y="5734080"/>
            <a:ext cx="6264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894280" y="5373720"/>
            <a:ext cx="146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Próximo slide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07000" y="4221000"/>
            <a:ext cx="506880" cy="337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ContextManager. releaseContext()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790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O método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releaseContext()</a:t>
            </a: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 da interface </a:t>
            </a:r>
            <a:r>
              <a:rPr b="0" lang="pt-BR" sz="2400" spc="-1" strike="noStrike">
                <a:solidFill>
                  <a:srgbClr val="0000ff"/>
                </a:solidFill>
                <a:latin typeface="Arial"/>
              </a:rPr>
              <a:t>ContextManager</a:t>
            </a: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 notifica o ContextManager de que o contexto não é mais necessário: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Recebe como argumento o </a:t>
            </a: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Context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que pode ser liberado</a:t>
            </a: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A liberação de um Context serve para possível liberação de recursos alocados por sensores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20880" y="4221000"/>
            <a:ext cx="898524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292929"/>
                </a:solidFill>
                <a:latin typeface="Courier New"/>
              </a:rPr>
              <a:t>public </a:t>
            </a:r>
            <a:r>
              <a:rPr b="1" lang="pt-BR" sz="17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1" lang="pt-BR" sz="1700" spc="-1" strike="noStrike">
                <a:solidFill>
                  <a:srgbClr val="0000ff"/>
                </a:solidFill>
                <a:latin typeface="Courier New"/>
              </a:rPr>
              <a:t> ContextManager</a:t>
            </a:r>
            <a:r>
              <a:rPr b="1" lang="pt-BR" sz="1700" spc="-1" strike="noStrike">
                <a:solidFill>
                  <a:srgbClr val="292929"/>
                </a:solidFill>
                <a:latin typeface="Courier New"/>
              </a:rPr>
              <a:t> {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7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1" lang="pt-BR" sz="1700" spc="-1" strike="noStrike">
                <a:solidFill>
                  <a:srgbClr val="ff0000"/>
                </a:solidFill>
                <a:latin typeface="Courier New"/>
              </a:rPr>
              <a:t> void releaseContext</a:t>
            </a:r>
            <a:r>
              <a:rPr b="1" lang="pt-BR" sz="17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pt-BR" sz="1700" spc="-1" strike="noStrike">
                <a:solidFill>
                  <a:srgbClr val="ff0000"/>
                </a:solidFill>
                <a:latin typeface="Courier New"/>
              </a:rPr>
              <a:t>Context h</a:t>
            </a:r>
            <a:r>
              <a:rPr b="1" lang="pt-BR" sz="17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7000" y="4294080"/>
            <a:ext cx="506880" cy="337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048520" y="333360"/>
            <a:ext cx="1594080" cy="419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Autoria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790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Autor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Fábio Reis Cec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Data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Junho de 2005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Versão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66"/>
                </a:solidFill>
                <a:latin typeface="Arial"/>
              </a:rPr>
              <a:t>Sumário da apresentação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4520" y="1874520"/>
            <a:ext cx="895176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1   Visão geral – serviço </a:t>
            </a:r>
            <a:r>
              <a:rPr b="1" i="1" lang="pt-BR" sz="2400" spc="-1" strike="noStrike">
                <a:solidFill>
                  <a:srgbClr val="0000ff"/>
                </a:solidFill>
                <a:latin typeface="Arial"/>
              </a:rPr>
              <a:t>ContextManager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   Exemplo: CtxManagerDemo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44880" y="333360"/>
            <a:ext cx="2203560" cy="419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Visão geral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790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O serviço ContextManager é responsável pelo refinamento da informação bruta produzida pela monitoração de sensores;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Produz informações abstratas (mnemônicas) referentes aos elementos de contexto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A linguagem empregada para a definição dos elementos de contexto utiliza o formato XML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Exemplo: contexto “load”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8160" y="1366560"/>
            <a:ext cx="916308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EXEMPLO: contexto 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“load”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 (“ocupação”)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Mapear a ociosidade da CPU do nodo em um valor simbólico para a aplicação que executa neste nodo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Quando o contexto muda (valor sensorado de ociosidade da CPU), a aplicação deve ser notificada, recebendo o novo valor (estado) do contexto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505240" y="3284640"/>
          <a:ext cx="4646520" cy="2685960"/>
        </p:xfrm>
        <a:graphic>
          <a:graphicData uri="http://schemas.openxmlformats.org/drawingml/2006/table">
            <a:tbl>
              <a:tblPr/>
              <a:tblGrid>
                <a:gridCol w="2322360"/>
                <a:gridCol w="2324160"/>
              </a:tblGrid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Elemento de contex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(Mnemônic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Ociosidade da CPU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ree for ch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alor &gt; 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occup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60 &gt; valor &gt; 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do not disturb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0 &gt; va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Exemplo: contexto “load” (XML)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790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&lt;CONTEXT n='load'&gt;</a:t>
            </a:r>
            <a:endParaRPr b="1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&lt;STATES&gt;</a:t>
            </a:r>
            <a:endParaRPr b="1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&lt;STATE n='free for chat'/&gt;</a:t>
            </a:r>
            <a:endParaRPr b="1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&lt;STATE n='occupied'/&gt;</a:t>
            </a:r>
            <a:endParaRPr b="1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&lt;STATE n='do not disturb!'/&gt;</a:t>
            </a:r>
            <a:endParaRPr b="1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&lt;/STATES&gt;</a:t>
            </a:r>
            <a:endParaRPr b="1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&lt;FILTER </a:t>
            </a:r>
            <a:r>
              <a:rPr b="1" lang="pt-BR" sz="1600" spc="-1" strike="noStrike">
                <a:solidFill>
                  <a:srgbClr val="339933"/>
                </a:solidFill>
                <a:latin typeface="Arial"/>
              </a:rPr>
              <a:t>syntax='xml:NumericRangeMapping'</a:t>
            </a: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&gt;</a:t>
            </a:r>
            <a:endParaRPr b="1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&lt;INDEX&gt;</a:t>
            </a:r>
            <a:endParaRPr b="1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&lt;SENSOR n='CPU_OCCUP_IDLE'/&gt;</a:t>
            </a:r>
            <a:endParaRPr b="1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&lt;/INDEX&gt;</a:t>
            </a:r>
            <a:endParaRPr b="1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b49e4c"/>
                </a:solidFill>
                <a:latin typeface="Arial"/>
              </a:rPr>
              <a:t>    </a:t>
            </a:r>
            <a:r>
              <a:rPr b="1" lang="pt-BR" sz="1600" spc="-1" strike="noStrike">
                <a:solidFill>
                  <a:srgbClr val="b49e4c"/>
                </a:solidFill>
                <a:latin typeface="Arial"/>
              </a:rPr>
              <a:t>&lt;MAPPINGS&gt;</a:t>
            </a:r>
            <a:endParaRPr b="1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b49e4c"/>
                </a:solidFill>
                <a:latin typeface="Arial"/>
              </a:rPr>
              <a:t>      </a:t>
            </a:r>
            <a:r>
              <a:rPr b="1" lang="pt-BR" sz="1600" spc="-1" strike="noStrike">
                <a:solidFill>
                  <a:srgbClr val="b49e4c"/>
                </a:solidFill>
                <a:latin typeface="Arial"/>
              </a:rPr>
              <a:t>&lt;RANGE ub='30' state='do not disturb!'/&gt;</a:t>
            </a:r>
            <a:endParaRPr b="1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b49e4c"/>
                </a:solidFill>
                <a:latin typeface="Arial"/>
              </a:rPr>
              <a:t>      </a:t>
            </a:r>
            <a:r>
              <a:rPr b="1" lang="pt-BR" sz="1600" spc="-1" strike="noStrike">
                <a:solidFill>
                  <a:srgbClr val="b49e4c"/>
                </a:solidFill>
                <a:latin typeface="Arial"/>
              </a:rPr>
              <a:t>&lt;RANGE lbo='30' ub='60' state='occupied'/&gt;</a:t>
            </a:r>
            <a:endParaRPr b="1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b49e4c"/>
                </a:solidFill>
                <a:latin typeface="Arial"/>
              </a:rPr>
              <a:t>      </a:t>
            </a:r>
            <a:r>
              <a:rPr b="1" lang="pt-BR" sz="1600" spc="-1" strike="noStrike">
                <a:solidFill>
                  <a:srgbClr val="b49e4c"/>
                </a:solidFill>
                <a:latin typeface="Arial"/>
              </a:rPr>
              <a:t>&lt;RANGE lbo='60' state='free for chat'/&gt;</a:t>
            </a:r>
            <a:endParaRPr b="1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b49e4c"/>
                </a:solidFill>
                <a:latin typeface="Arial"/>
              </a:rPr>
              <a:t>      </a:t>
            </a:r>
            <a:r>
              <a:rPr b="1" lang="pt-BR" sz="1600" spc="-1" strike="noStrike">
                <a:solidFill>
                  <a:srgbClr val="b49e4c"/>
                </a:solidFill>
                <a:latin typeface="Arial"/>
              </a:rPr>
              <a:t>&lt;DEFAULT state='occupied'/&gt;</a:t>
            </a:r>
            <a:endParaRPr b="1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b49e4c"/>
                </a:solidFill>
                <a:latin typeface="Arial"/>
              </a:rPr>
              <a:t>    </a:t>
            </a:r>
            <a:r>
              <a:rPr b="1" lang="pt-BR" sz="1600" spc="-1" strike="noStrike">
                <a:solidFill>
                  <a:srgbClr val="b49e4c"/>
                </a:solidFill>
                <a:latin typeface="Arial"/>
              </a:rPr>
              <a:t>&lt;/MAPPINGS&gt;</a:t>
            </a:r>
            <a:endParaRPr b="1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&lt;/FILTER&gt;</a:t>
            </a:r>
            <a:endParaRPr b="1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&lt;/CONTEXT&gt;</a:t>
            </a:r>
            <a:endParaRPr b="1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873240" y="1557360"/>
            <a:ext cx="2879640" cy="64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20920" y="1197000"/>
            <a:ext cx="209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Times New Roman"/>
              </a:rPr>
              <a:t>Elementos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Times New Roman"/>
              </a:rPr>
              <a:t>Contexto (estad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21240" y="3429000"/>
            <a:ext cx="223200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22360" y="3213000"/>
            <a:ext cx="108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ff"/>
                </a:solidFill>
                <a:latin typeface="Times New Roman"/>
              </a:rPr>
              <a:t>Sens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240160" y="2565360"/>
            <a:ext cx="1513080" cy="287280"/>
          </a:xfrm>
          <a:prstGeom prst="line">
            <a:avLst/>
          </a:prstGeom>
          <a:ln w="9360">
            <a:solidFill>
              <a:srgbClr val="3399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31720" y="2133720"/>
            <a:ext cx="2581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9933"/>
                </a:solidFill>
                <a:latin typeface="Times New Roman"/>
              </a:rPr>
              <a:t>Sintaxe do mapea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9933"/>
                </a:solidFill>
                <a:latin typeface="Times New Roman"/>
              </a:rPr>
              <a:t>(neste caso, de interval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9933"/>
                </a:solidFill>
                <a:latin typeface="Times New Roman"/>
              </a:rPr>
              <a:t>numéricos para mnemônic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168520" y="4508640"/>
            <a:ext cx="1584360" cy="0"/>
          </a:xfrm>
          <a:prstGeom prst="line">
            <a:avLst/>
          </a:prstGeom>
          <a:ln w="9360">
            <a:solidFill>
              <a:srgbClr val="b49e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19480" y="4005360"/>
            <a:ext cx="2328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b49e4c"/>
                </a:solidFill>
                <a:latin typeface="Times New Roman"/>
              </a:rPr>
              <a:t>Mape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b49e4c"/>
                </a:solidFill>
                <a:latin typeface="Times New Roman"/>
              </a:rPr>
              <a:t>  </a:t>
            </a:r>
            <a:r>
              <a:rPr b="0" lang="pt-BR" sz="2000" spc="-1" strike="noStrike">
                <a:solidFill>
                  <a:srgbClr val="b49e4c"/>
                </a:solidFill>
                <a:latin typeface="Times New Roman"/>
              </a:rPr>
              <a:t>ub = limite super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b49e4c"/>
                </a:solidFill>
                <a:latin typeface="Times New Roman"/>
              </a:rPr>
              <a:t>  </a:t>
            </a:r>
            <a:r>
              <a:rPr b="0" lang="pt-BR" sz="2000" spc="-1" strike="noStrike">
                <a:solidFill>
                  <a:srgbClr val="b49e4c"/>
                </a:solidFill>
                <a:latin typeface="Times New Roman"/>
              </a:rPr>
              <a:t>lbo = limite infer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02200" y="260280"/>
            <a:ext cx="2203560" cy="419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Visão geral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790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No GRADEp a informação de um contexto registrado é produzida por uma cadeia de detecção de contexto de três partes: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Agregador (aggregator): responsável pela composição dos dados de um ou mais sensores para a produção de um valor agregado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Tradutor (translator): converte um valor agregado em um valor abstrato (mnemônico – equivalente a ``pouca bateria’’, ``máquina ociosa’’, etc.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Notificador (notifier): detecta alterações no dado abstrato fornecido pelo tradutor, disparando então eventos de modificação de contexto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Atualmente são suportados elementos de contexto “mono-sensor” (entrada o dado de monitoração proveniente de um único sensor).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Em desenvolvimento: 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Suporte a elementos de contexto compostos ou multi-sensor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Inclusão de um componente preditor (Predictor) em paralelo com o componente agregador na cadeia de detecção de contexto, para prever mudanças de contexto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66"/>
                </a:solidFill>
                <a:latin typeface="Arial"/>
              </a:rPr>
              <a:t>Sumário da apresentação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4520" y="1874520"/>
            <a:ext cx="895176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ccff"/>
                </a:solidFill>
                <a:latin typeface="Arial"/>
              </a:rPr>
              <a:t>1   Visão geral – serviço </a:t>
            </a:r>
            <a:r>
              <a:rPr b="1" i="1" lang="pt-BR" sz="2400" spc="-1" strike="noStrike">
                <a:solidFill>
                  <a:srgbClr val="ccccff"/>
                </a:solidFill>
                <a:latin typeface="Arial"/>
              </a:rPr>
              <a:t>ContextManager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2   Exemplo: CtxManagerDemo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0" y="228600"/>
            <a:ext cx="2889360" cy="419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CtxManagerDemo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790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Exemplo: Aplicação </a:t>
            </a:r>
            <a:r>
              <a:rPr b="1" i="1" lang="pt-BR" sz="2400" spc="-1" strike="noStrike">
                <a:solidFill>
                  <a:srgbClr val="292929"/>
                </a:solidFill>
                <a:latin typeface="Arial"/>
              </a:rPr>
              <a:t>ContextManagerDemo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Exemplo de uma aplicação consciente de contexto no GRADEp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Local: </a:t>
            </a:r>
            <a:r>
              <a:rPr b="0" lang="pt-BR" sz="2000" spc="-1" strike="noStrike">
                <a:solidFill>
                  <a:srgbClr val="292929"/>
                </a:solidFill>
                <a:latin typeface="Courier New"/>
              </a:rPr>
              <a:t>/isam/isam-apps/ctxmanagerdemo/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Arquivos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CtxManagerDemo.jav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292929"/>
                </a:solidFill>
                <a:latin typeface="Arial"/>
              </a:rPr>
              <a:t>Fonte da aplicação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ctxmanagerdemo.isam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292929"/>
                </a:solidFill>
                <a:latin typeface="Arial"/>
              </a:rPr>
              <a:t>Descritor de disparo da aplicação em formato XML do ISAM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12:39:03Z</dcterms:created>
  <dc:creator>IARA AUGUSTIN</dc:creator>
  <dc:description/>
  <dc:language>en-US</dc:language>
  <cp:lastModifiedBy> Claudio Geyer</cp:lastModifiedBy>
  <cp:lastPrinted>2009-04-22T19:24:48Z</cp:lastPrinted>
  <dcterms:modified xsi:type="dcterms:W3CDTF">2005-08-03T23:38:10Z</dcterms:modified>
  <cp:revision>264</cp:revision>
  <dc:subject>apresentação para novos mestrandos</dc:subject>
  <dc:title>Projeto ISAM</dc:title>
</cp:coreProperties>
</file>