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8160" y="4071240"/>
            <a:ext cx="924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816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324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600" y="136692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7400" y="136692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8160" y="407124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600" y="407124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7400" y="4071240"/>
            <a:ext cx="297540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3040" y="75960"/>
            <a:ext cx="808524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816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3240" y="407124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3240" y="1366920"/>
            <a:ext cx="45093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8160" y="4071240"/>
            <a:ext cx="924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90612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481960" y="652464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2A2476E9-D6B1-40E8-853B-7790159ADC58}" type="slidenum">
              <a:rPr b="0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7360"/>
            <a:ext cx="990612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08160" y="6308640"/>
            <a:ext cx="725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Rede Nacional de Ensino e Pesquisa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 Programa Geral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Treinamento em GRADEp – junho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2590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2600" y="3809880"/>
            <a:ext cx="473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iddleware GRADE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ograma do 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922320" y="549360"/>
            <a:ext cx="1295280" cy="588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6681960" y="333360"/>
            <a:ext cx="215892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1368360"/>
            <a:ext cx="99061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Auto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. Geye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julho de 2005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Versã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v1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quipe Gera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quipe responsável pela preparação do treinament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r. Adenauer Yamin (UCPel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. Fabio Cecin (II-UFRG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ac. Gustavo Frainer (II-UFRG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ra. Iara Augustin (UFSM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grid Nunes (II-UFRG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. Luciano Cavalheiro (II-UFRG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. Marko Petek (II-UFRG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. Rodrigo Real (UCPel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úmula do curs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Visão gera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presentação Geral do Middleware GRADEp (Introdução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rquitetura do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ocumentação dos componentes do middleware (JavaDoc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spectos da Instal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5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esenvolvendo Aplicações com o Middleware GRADEp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o d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presentação Geral do Middleware GRADEp (Introdução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rquitetura do GRADE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ocumentação dos componentes do middleware (JavaDoc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Aspectos da Instala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empo total: 3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1o d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ática em laboratório sobre documentação, compilação, instalaç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empo: total: 2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o d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esenvolvendo Aplicações com o Middleware GRADEp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imeiras AP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empo total: 1 ho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o d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esenvolvendo Aplicações com o Middleware GRADEp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utras AP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empo total: 1,5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ática em laboratório: 1,5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esenvolvendo Aplicações com o Middleware GRADE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últimas AP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empo total: 1,5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rática em laboratório: 1,5 hor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terial de curs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aterial de curs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lides do profess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exto tutorial complement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sta de exercíci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3040" y="75960"/>
            <a:ext cx="808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837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terial adicional do projet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8160" y="1366920"/>
            <a:ext cx="92408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áginas do projeto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ttp://saloon.inf.ufrgs.br/groups/gradep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ocumentação adiciona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latórios do projeto GT GRAD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latório de especificação do plano pilo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cumentação de desenvolvimen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cumentação de programas font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JavaD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ágina da RNP sobre o programa de G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ttp://www.rnp.br/pd/gts2004-2005/grade_pervasiva.htm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2590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GT GRAD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17720" y="1109520"/>
            <a:ext cx="649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52600" y="3809880"/>
            <a:ext cx="473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iddleware GRADE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ograma do 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46280" y="611028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98720" y="6143760"/>
            <a:ext cx="588960" cy="447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842160" y="6151680"/>
            <a:ext cx="789120" cy="353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994200" y="61102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562720" y="6110280"/>
            <a:ext cx="444240" cy="588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8329680" y="6019920"/>
            <a:ext cx="58572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578952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295280"/>
            <a:ext cx="845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922320" y="549360"/>
            <a:ext cx="1295280" cy="588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6681960" y="333360"/>
            <a:ext cx="2158920" cy="949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Claudio Geyer</cp:lastModifiedBy>
  <dcterms:modified xsi:type="dcterms:W3CDTF">2005-08-04T06:54:48Z</dcterms:modified>
  <cp:revision>5</cp:revision>
  <dc:subject/>
  <dc:title>No Slide Title</dc:title>
</cp:coreProperties>
</file>