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8160" y="4071240"/>
            <a:ext cx="924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816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324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600" y="136692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7400" y="136692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8160" y="407124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600" y="407124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7400" y="407124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3040" y="75960"/>
            <a:ext cx="808524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816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324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8160" y="4071240"/>
            <a:ext cx="924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481960" y="65246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EEE29B7E-1AA3-43D4-88B7-4E9136B0F6F2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7360"/>
            <a:ext cx="990612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08160" y="6308640"/>
            <a:ext cx="725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 Programa Geral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Treinamento em GRADEp – junho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2600" y="3809880"/>
            <a:ext cx="473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ograma do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evis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Revis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ontex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otiv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tetur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Funcional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erviç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stal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ompil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ocument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52600" y="3809880"/>
            <a:ext cx="473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ograma do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1368360"/>
            <a:ext cx="9906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A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. Geye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julho de 2005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Vers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v1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quipe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quipe responsável pela preparação do treinament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r. Adenauer Yamin (UCPel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. Fabio Cecin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ac. Gustavo Frainer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ra. Iara Augustin (UFSM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grid Nunes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. Luciano Cavalheiro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. Marko Petek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. Rodrigo Real (UCPel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úmula do curs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presentação Geral do Middleware GRADEp (Introdução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tetura do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ocumentação dos componentes do middleware (JavaDoc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spectos da Instal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5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esenvolvendo Aplicações com o Middleware GRADEp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o d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presentação Geral do Middleware GRADEp (Introdução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quitetura do GRADE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ocumentação dos componentes do middleware (JavaDoc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spectos da Instala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empo total: 3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1o d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ática em laboratório sobre documentação, compilação, instala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empo: total: 2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o d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senvolvendo Aplicações com o Middleware GRADEp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imeiras AP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empo total: 1 ho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o d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senvolvendo Aplicações com o Middleware GRADEp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utras AP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empo total: 1,5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ática em laboratório: 1,5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senvolvendo Aplicações com o Middleware GRADE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últimas AP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empo total: 1,5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ática em laboratório: 1,5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terial de curs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aterial de curs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lides do profess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exto tutorial complement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sta de exercíci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terial adicional do projet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áginas do projet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ttp://saloon.inf.ufrgs.br/groups/gradep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ocumentação adiciona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latórios do projeto GT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latório de especificação do plano pilo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cumentação de desenvolvimen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cumentação de programas font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JavaD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ágina da RNP sobre o programa de G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ttp://www.rnp.br/pd/gts2004-2005/grade_pervasiva.htm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29:02Z</dcterms:created>
  <dc:creator> Claudio Geyer</dc:creator>
  <dc:description/>
  <dc:language>en-US</dc:language>
  <cp:lastModifiedBy> Claudio Geyer</cp:lastModifiedBy>
  <dcterms:modified xsi:type="dcterms:W3CDTF">2005-08-05T19:37:53Z</dcterms:modified>
  <cp:revision>3</cp:revision>
  <dc:subject/>
  <dc:title>Slide 1</dc:title>
</cp:coreProperties>
</file>