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24.wmf" ContentType="image/x-wmf"/>
  <Override PartName="/ppt/media/image22.wmf" ContentType="image/x-wmf"/>
  <Override PartName="/ppt/media/image6.png" ContentType="image/png"/>
  <Override PartName="/ppt/media/image21.png" ContentType="image/png"/>
  <Override PartName="/ppt/media/image23.png" ContentType="image/png"/>
  <Override PartName="/ppt/media/image13.jpeg" ContentType="image/jpeg"/>
  <Override PartName="/ppt/media/image19.jpeg" ContentType="image/jpeg"/>
  <Override PartName="/ppt/media/image20.wmf" ContentType="image/x-wmf"/>
  <Override PartName="/ppt/media/image18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8160" y="407124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324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60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740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16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60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740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3040" y="75960"/>
            <a:ext cx="808524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324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9074DA18-FCBC-4567-B86C-36715C253EC0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7360"/>
            <a:ext cx="9906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08160" y="6308640"/>
            <a:ext cx="69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Visão Geral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Treinamento em GRADEp – junh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2600" y="380988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ão G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-360" y="1268280"/>
            <a:ext cx="990612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esde sua criação, a computação em grade tem atravessado diferentes fases ou gerações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imeira geração – década de 90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permitiu a interconexão de grandes centros de super-computação para obter poder computacional agregado não disponível em nenhum dos participantes da grade, ou para compor e coordenar computação distribuída em centenas de estações de trabalho dos usuários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originou projetos como SETI@HOME , GLOBUS e COND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visa aplicações de dados intensivos (data grids) ou computação intensiva (computation grids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definição de grade era “uma grade computacional é uma infra-estrutura de software e hardware que fornece confiável, consistente, e pervasivo  acesso a capacidades computacionais”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146160"/>
            <a:ext cx="808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Motivação e Histórico da proposta do GRAD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erações da Grade Computacion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4520" y="1341000"/>
            <a:ext cx="8951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pt-BR" sz="2400" spc="-1" strike="noStrike">
                <a:solidFill>
                  <a:srgbClr val="292929"/>
                </a:solidFill>
                <a:latin typeface="Times New Roman"/>
              </a:rPr>
              <a:t>segunda geração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caracterizada pela capacidade de ligar centros regionais, nacionais e internacionais e pela adoção de padrões que permitem o emprego da infra-estrutura computacional em escala global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do ponto de vista arquitetural, a segunda geração usa middlewares de grade como 'cola' entre sistemas distribuídos heterogêneos, usuários, recursos e políticas locai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os middlewares têm desafios técnicos nas áreas de comunicação, escalonamento, segurança, informação, acesso a dados e tolerância a falhas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a grade é definida como ‘compartilhamento coordenado de recursos e resolução de problemas distribuídos em dinâmicas e multi-institucionais Organizações Virtuais'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um representante desta geração é a evolução do Globus: Globus Toolkit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Gerações da Grade Computacion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2800" spc="-1" strike="noStrike">
                <a:solidFill>
                  <a:srgbClr val="292929"/>
                </a:solidFill>
                <a:latin typeface="Times New Roman"/>
              </a:rPr>
              <a:t>terceira geração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Open Grid Services Architecture (OGSA), adota Web Services como tecnologia referencial</a:t>
            </a:r>
            <a:r>
              <a:rPr b="1" i="1" lang="pt-BR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o Globus Toolkit 3/4 é a versão atual.  Este define grid services que estendem o conceito de Web Services devido ao fato de qu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imes New Roman"/>
              </a:rPr>
              <a:t>(a) serviços em grade devem ser dinâmicos e transientes, pois nem todos os serviços participam da computação no no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imes New Roman"/>
              </a:rPr>
              <a:t>(b) serviços em grade são globalmente distribuídos, sem um controle centr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imes New Roman"/>
              </a:rPr>
              <a:t>(c) aplicações podem requerer centenas de serviços, que devem ser coordenados de modo eficien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pt-BR" sz="1800" spc="-1" strike="noStrike">
                <a:solidFill>
                  <a:srgbClr val="292929"/>
                </a:solidFill>
                <a:latin typeface="Times New Roman"/>
              </a:rPr>
              <a:t>(d) aplicações podem ter vida longa (long-lived), impactando os requisitos dos serviç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Gerações de Grade Computacion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2520" y="1125000"/>
            <a:ext cx="9240840" cy="51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2800" spc="-1" strike="noStrike">
                <a:solidFill>
                  <a:srgbClr val="292929"/>
                </a:solidFill>
                <a:latin typeface="Times New Roman"/>
              </a:rPr>
              <a:t>próxima geração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dirigida pelo uso eficiente e efetivo de dados armazenados e sua transformação em informação (information grids) e conhecimento (knowledge grids)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estudos recentes definem a Grade com Semântica (Semantic Grid) como uma extensão da grade corrente na qual informação e serviços adquirem um significado bem-definido para permitir a pessoas e computadores trabalharem em cooperação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esses estudos propõem o emprego de tecnologias da Semantic Web na grade e despertam o interesse de novas áreas, como Ciências Sociais e Humanas e Inteligência Artifici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o advento de dispositivos sem fio, que estão aumentando em número e em poder de processamento, cria oportunidades de aumentar a diversidade de usuários e tecnologias que utilizam a grad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permitirão o desenvolvimento de novos tipos de aplic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BR" sz="2000" spc="-1" strike="noStrike">
                <a:solidFill>
                  <a:srgbClr val="292929"/>
                </a:solidFill>
                <a:latin typeface="Times New Roman"/>
              </a:rPr>
              <a:t>motivação para o desenvolvimento d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Projetos Grade integrada com Mobilidad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Interesse muito recente da comunidade científica de grad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rojetos representante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ojeto Akogrimo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(www.mobilegrids.org)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 , início em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ojeto Ubigrid (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http://ubigrid.lancs.ac.uk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), lançamento em 200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ojeto ISAM (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www.inf.ufrgs.b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), início em 200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rojetos Grade integrada com Mobilida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Arial"/>
              </a:rPr>
              <a:t>Akogrim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iciado em setembro/2004 como parte do projeto da Grade Europé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tegra os conceitos de grade e comunicação móvel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revê três cenários de validação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-learning, focaliza construir estudo de caso para novos modos de aprender utilizando a infraestrutura Akogrimo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-health, explora a tecnologia de grade e mobilidade no domínio da saú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tendimento a desastres, onde Akogrimo servirá como plataforma de colaboração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Projetos Grade integrada com Mobilidad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Ubigrid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a Universidade de Lancaster, o Grupo de Pesquisa UbiGrid investiga o uso de tecnologias de grade no suporte a experimentos de sistemas de computação ubíqua (pervasiva) em larga escala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 idéias do grupo foram apresentadas no Ubicomp 2003 em um 'position paper'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s pontos de sinergia entre computação em grade e computação ubíqua relacionados pelo grupo são: heterogeneidade,  interoperabilidade, pagamento pelo uso e interação de grande número de recurso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ntretanto, o grupo reconhece que hoje há pouco reconhecimento na comunidade de grade computacional da necessidade da computação ubíqu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creditam que esta situação deverá se alterar nos próximos ano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Projetos Grade integrada com Mobilidad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Projeto ISAM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iniciado em maio/2001 no II/UFRG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foco em Computação Pervasiva em Larga Escal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na época, primeiro projeto a enfocar o uso de grade para criar uma infra-estrutura de computação pervasi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integra conceitos de Grade computacional, computação sensível ao contexto e computação móvel para construir um ambiente de Computação Pervasiva com mobilidade lógica e física em larga escal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enfatiza a adaptação ao contexto de execução para implementar a semântica ‘siga-me’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primeiras teses abordaram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definição de abstrações para a programação de aplicações pervasivas (ISAMadap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600" spc="-1" strike="noStrike">
                <a:solidFill>
                  <a:srgbClr val="292929"/>
                </a:solidFill>
                <a:latin typeface="Arial"/>
              </a:rPr>
              <a:t>projeto do middleware de suporte à execução das aplicações pervasivas e ao gerenciamento do ambiente (EXEHDA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ponto de partida para a proposta do piloto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5840" y="1557360"/>
            <a:ext cx="6809040" cy="21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mputação pervasiva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+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mputação em grade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+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mputação consciente do 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41240" y="-243360"/>
            <a:ext cx="82659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GRADEp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afios de um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ntegrando conceitos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2600" y="3863880"/>
            <a:ext cx="2895480" cy="6098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4680" y="4633920"/>
            <a:ext cx="5906880" cy="104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ahoma"/>
              </a:rPr>
              <a:t>Infra-estrutura para</a:t>
            </a:r>
            <a:br>
              <a:rPr sz="1600"/>
            </a:br>
            <a:r>
              <a:rPr b="1" lang="pt-BR" sz="3600" spc="-1" strike="noStrike">
                <a:solidFill>
                  <a:srgbClr val="003366"/>
                </a:solidFill>
                <a:latin typeface="Tahoma"/>
              </a:rPr>
              <a:t>Grade Perva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1680" y="1503360"/>
            <a:ext cx="370368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90840" y="1555920"/>
            <a:ext cx="3611520" cy="529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59080" y="2349360"/>
            <a:ext cx="3924360" cy="530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3166920"/>
            <a:ext cx="6296040" cy="530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120" y="1125360"/>
            <a:ext cx="8161560" cy="482472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Dot"/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90040" y="4281480"/>
            <a:ext cx="177300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ccff"/>
                </a:solidFill>
                <a:latin typeface="Tahoma"/>
              </a:rPr>
              <a:t>Visão</a:t>
            </a:r>
            <a:br>
              <a:rPr sz="2400"/>
            </a:br>
            <a:r>
              <a:rPr b="1" lang="pt-BR" sz="2400" spc="-1" strike="noStrike">
                <a:solidFill>
                  <a:srgbClr val="33ccff"/>
                </a:solidFill>
                <a:latin typeface="Tahoma"/>
              </a:rPr>
              <a:t>GRA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2880" y="-398520"/>
            <a:ext cx="8089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incipais tecnologias envolvida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1160" y="1319040"/>
          <a:ext cx="821700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319040"/>
                    <a:ext cx="821700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1368360"/>
            <a:ext cx="9906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odrigo Real e Adenauer Yamin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Versão (número, data, autor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1, junho de 2005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2, agosto de 2005, Gey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 organização física do GRADEp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8160" y="1366560"/>
            <a:ext cx="454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440" y="4797360"/>
            <a:ext cx="9002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ganização celular (critério de vizinhança estático e/ou dinâm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erência multi-institu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posição dinâmica (incre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219320"/>
          <a:ext cx="5472000" cy="33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547200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7238880" y="1393920"/>
            <a:ext cx="2129040" cy="1877760"/>
            <a:chOff x="7238880" y="1393920"/>
            <a:chExt cx="2129040" cy="1877760"/>
          </a:xfrm>
        </p:grpSpPr>
        <p:sp>
          <p:nvSpPr>
            <p:cNvPr id="106" name=""/>
            <p:cNvSpPr/>
            <p:nvPr/>
          </p:nvSpPr>
          <p:spPr>
            <a:xfrm>
              <a:off x="7238880" y="1393920"/>
              <a:ext cx="2129040" cy="1877760"/>
            </a:xfrm>
            <a:custGeom>
              <a:avLst/>
              <a:gdLst/>
              <a:ahLst/>
              <a:rect l="l" t="t" r="r" b="b"/>
              <a:pathLst>
                <a:path w="5919" h="5222">
                  <a:moveTo>
                    <a:pt x="0" y="623"/>
                  </a:moveTo>
                  <a:cubicBezTo>
                    <a:pt x="0" y="311"/>
                    <a:pt x="425" y="0"/>
                    <a:pt x="848" y="0"/>
                  </a:cubicBezTo>
                  <a:lnTo>
                    <a:pt x="5070" y="0"/>
                  </a:lnTo>
                  <a:cubicBezTo>
                    <a:pt x="5493" y="0"/>
                    <a:pt x="5918" y="311"/>
                    <a:pt x="5918" y="623"/>
                  </a:cubicBezTo>
                  <a:lnTo>
                    <a:pt x="5918" y="3724"/>
                  </a:lnTo>
                  <a:cubicBezTo>
                    <a:pt x="5918" y="4036"/>
                    <a:pt x="5493" y="4349"/>
                    <a:pt x="5070" y="4349"/>
                  </a:cubicBezTo>
                  <a:lnTo>
                    <a:pt x="2493" y="4349"/>
                  </a:lnTo>
                  <a:lnTo>
                    <a:pt x="356" y="5221"/>
                  </a:lnTo>
                  <a:lnTo>
                    <a:pt x="958" y="4349"/>
                  </a:lnTo>
                  <a:cubicBezTo>
                    <a:pt x="480" y="4349"/>
                    <a:pt x="0" y="4046"/>
                    <a:pt x="0" y="3744"/>
                  </a:cubicBezTo>
                  <a:lnTo>
                    <a:pt x="0" y="623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8080" y="1713600"/>
              <a:ext cx="197172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636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ahoma"/>
                </a:rPr>
                <a:t>Combina rede infra-estruturada, com suporte a operação sem fi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454880" y="3581280"/>
            <a:ext cx="1917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36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omputação mó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78840" y="3073320"/>
            <a:ext cx="368280" cy="495360"/>
          </a:xfrm>
          <a:custGeom>
            <a:avLst/>
            <a:gdLst/>
            <a:ahLst/>
            <a:rect l="l" t="t" r="r" b="b"/>
            <a:pathLst>
              <a:path w="1024" h="1377">
                <a:moveTo>
                  <a:pt x="1023" y="0"/>
                </a:moveTo>
                <a:lnTo>
                  <a:pt x="1023" y="1031"/>
                </a:lnTo>
                <a:lnTo>
                  <a:pt x="512" y="1376"/>
                </a:lnTo>
                <a:lnTo>
                  <a:pt x="0" y="1031"/>
                </a:lnTo>
                <a:lnTo>
                  <a:pt x="0" y="0"/>
                </a:lnTo>
                <a:lnTo>
                  <a:pt x="512" y="343"/>
                </a:lnTo>
                <a:lnTo>
                  <a:pt x="10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410080"/>
            <a:ext cx="495360" cy="368280"/>
          </a:xfrm>
          <a:custGeom>
            <a:avLst/>
            <a:gdLst/>
            <a:ahLst/>
            <a:rect l="l" t="t" r="r" b="b"/>
            <a:pathLst>
              <a:path w="1377" h="1024">
                <a:moveTo>
                  <a:pt x="0" y="0"/>
                </a:moveTo>
                <a:lnTo>
                  <a:pt x="1031" y="0"/>
                </a:lnTo>
                <a:lnTo>
                  <a:pt x="1376" y="511"/>
                </a:lnTo>
                <a:lnTo>
                  <a:pt x="1031" y="1023"/>
                </a:lnTo>
                <a:lnTo>
                  <a:pt x="0" y="1023"/>
                </a:lnTo>
                <a:lnTo>
                  <a:pt x="343" y="511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50040" y="5410080"/>
            <a:ext cx="2260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36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omputação em gr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4160" y="1282680"/>
            <a:ext cx="85341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Potencialização d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eterogene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de recurs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mportamentos operacionais (flutuação na banda das conexões, re-acomodação física dos nodos, etc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scalabilidade (necessidade d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ariabilidade na disponibilidade e no acesso aos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gerência multi-instituc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nexões transient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Semântica Siga-me (</a:t>
            </a:r>
            <a:r>
              <a:rPr b="1" i="1" lang="en-GB" sz="2400" spc="-1" strike="noStrike">
                <a:solidFill>
                  <a:srgbClr val="292929"/>
                </a:solidFill>
                <a:latin typeface="Arial"/>
              </a:rPr>
              <a:t>follow-me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Adaptação funcional e não-funcional ao mei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incipais aspectos operacionais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tencialização provocada pela mobilidade d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terogene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de recursos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omportamentos operacionais (flutuação na banda das conexões, reacomodação física dos nodos, etc.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calabil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iabilidade na disponibilidade e no acesso aos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gerência multi-instituciona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onexões trans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mântica Siga-me (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follow-me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daptação funcional e não-funcional ao mei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3400" y="1371600"/>
            <a:ext cx="8172720" cy="4305240"/>
          </a:xfrm>
          <a:custGeom>
            <a:avLst/>
            <a:gdLst/>
            <a:ahLst/>
            <a:rect l="l" t="t" r="r" b="b"/>
            <a:pathLst>
              <a:path w="22703" h="11960">
                <a:moveTo>
                  <a:pt x="12049" y="2403"/>
                </a:moveTo>
                <a:lnTo>
                  <a:pt x="10218" y="1044"/>
                </a:lnTo>
                <a:lnTo>
                  <a:pt x="8984" y="3534"/>
                </a:lnTo>
                <a:lnTo>
                  <a:pt x="4732" y="2007"/>
                </a:lnTo>
                <a:lnTo>
                  <a:pt x="5647" y="4327"/>
                </a:lnTo>
                <a:lnTo>
                  <a:pt x="1233" y="4579"/>
                </a:lnTo>
                <a:lnTo>
                  <a:pt x="4134" y="6418"/>
                </a:lnTo>
                <a:lnTo>
                  <a:pt x="0" y="7128"/>
                </a:lnTo>
                <a:lnTo>
                  <a:pt x="3498" y="8511"/>
                </a:lnTo>
                <a:lnTo>
                  <a:pt x="1348" y="9869"/>
                </a:lnTo>
                <a:lnTo>
                  <a:pt x="5049" y="10099"/>
                </a:lnTo>
                <a:lnTo>
                  <a:pt x="5169" y="11959"/>
                </a:lnTo>
                <a:lnTo>
                  <a:pt x="7909" y="10035"/>
                </a:lnTo>
                <a:lnTo>
                  <a:pt x="9142" y="10914"/>
                </a:lnTo>
                <a:lnTo>
                  <a:pt x="10375" y="9618"/>
                </a:lnTo>
                <a:lnTo>
                  <a:pt x="12207" y="10433"/>
                </a:lnTo>
                <a:lnTo>
                  <a:pt x="12799" y="8824"/>
                </a:lnTo>
                <a:lnTo>
                  <a:pt x="15706" y="9618"/>
                </a:lnTo>
                <a:lnTo>
                  <a:pt x="15387" y="7944"/>
                </a:lnTo>
                <a:lnTo>
                  <a:pt x="19842" y="8655"/>
                </a:lnTo>
                <a:lnTo>
                  <a:pt x="17218" y="6816"/>
                </a:lnTo>
                <a:lnTo>
                  <a:pt x="19202" y="6252"/>
                </a:lnTo>
                <a:lnTo>
                  <a:pt x="17853" y="5207"/>
                </a:lnTo>
                <a:lnTo>
                  <a:pt x="22702" y="3679"/>
                </a:lnTo>
                <a:lnTo>
                  <a:pt x="17218" y="3617"/>
                </a:lnTo>
                <a:lnTo>
                  <a:pt x="18924" y="1756"/>
                </a:lnTo>
                <a:lnTo>
                  <a:pt x="15265" y="3199"/>
                </a:lnTo>
                <a:lnTo>
                  <a:pt x="15544" y="0"/>
                </a:lnTo>
                <a:lnTo>
                  <a:pt x="12049" y="2403"/>
                </a:ln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320" y="3151080"/>
            <a:ext cx="4637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25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Aspectos antagô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incipais aspectos operacionais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74680" y="1282320"/>
            <a:ext cx="92455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tencialização provocada pela mobilidade da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terogene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de recursos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omportamentos operacionais (flutuação na banda das conexões, reacomodação física dos nodos, etc.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calabil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iabilidade na disponibilidade e no acesso aos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gerência multi-instituciona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onexões trans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mântica Siga-me (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follow-me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daptação funcional e não-funcional ao mei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3400" y="1371600"/>
            <a:ext cx="8172720" cy="4305240"/>
          </a:xfrm>
          <a:custGeom>
            <a:avLst/>
            <a:gdLst/>
            <a:ahLst/>
            <a:rect l="l" t="t" r="r" b="b"/>
            <a:pathLst>
              <a:path w="22703" h="11960">
                <a:moveTo>
                  <a:pt x="12049" y="2403"/>
                </a:moveTo>
                <a:lnTo>
                  <a:pt x="10218" y="1044"/>
                </a:lnTo>
                <a:lnTo>
                  <a:pt x="8984" y="3534"/>
                </a:lnTo>
                <a:lnTo>
                  <a:pt x="4732" y="2007"/>
                </a:lnTo>
                <a:lnTo>
                  <a:pt x="5647" y="4327"/>
                </a:lnTo>
                <a:lnTo>
                  <a:pt x="1233" y="4579"/>
                </a:lnTo>
                <a:lnTo>
                  <a:pt x="4134" y="6418"/>
                </a:lnTo>
                <a:lnTo>
                  <a:pt x="0" y="7128"/>
                </a:lnTo>
                <a:lnTo>
                  <a:pt x="3498" y="8511"/>
                </a:lnTo>
                <a:lnTo>
                  <a:pt x="1348" y="9869"/>
                </a:lnTo>
                <a:lnTo>
                  <a:pt x="5049" y="10099"/>
                </a:lnTo>
                <a:lnTo>
                  <a:pt x="5169" y="11959"/>
                </a:lnTo>
                <a:lnTo>
                  <a:pt x="7909" y="10035"/>
                </a:lnTo>
                <a:lnTo>
                  <a:pt x="9142" y="10914"/>
                </a:lnTo>
                <a:lnTo>
                  <a:pt x="10375" y="9618"/>
                </a:lnTo>
                <a:lnTo>
                  <a:pt x="12207" y="10433"/>
                </a:lnTo>
                <a:lnTo>
                  <a:pt x="12799" y="8824"/>
                </a:lnTo>
                <a:lnTo>
                  <a:pt x="15706" y="9618"/>
                </a:lnTo>
                <a:lnTo>
                  <a:pt x="15387" y="7944"/>
                </a:lnTo>
                <a:lnTo>
                  <a:pt x="19842" y="8655"/>
                </a:lnTo>
                <a:lnTo>
                  <a:pt x="17218" y="6816"/>
                </a:lnTo>
                <a:lnTo>
                  <a:pt x="19202" y="6252"/>
                </a:lnTo>
                <a:lnTo>
                  <a:pt x="17853" y="5207"/>
                </a:lnTo>
                <a:lnTo>
                  <a:pt x="22702" y="3679"/>
                </a:lnTo>
                <a:lnTo>
                  <a:pt x="17218" y="3617"/>
                </a:lnTo>
                <a:lnTo>
                  <a:pt x="18924" y="1756"/>
                </a:lnTo>
                <a:lnTo>
                  <a:pt x="15265" y="3199"/>
                </a:lnTo>
                <a:lnTo>
                  <a:pt x="15544" y="0"/>
                </a:lnTo>
                <a:lnTo>
                  <a:pt x="12049" y="2403"/>
                </a:ln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00280" y="2793960"/>
            <a:ext cx="54342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25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iliar estes aspectos antagônicos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467160" y="3889440"/>
            <a:ext cx="4147920" cy="1041480"/>
            <a:chOff x="3467160" y="3889440"/>
            <a:chExt cx="4147920" cy="1041480"/>
          </a:xfrm>
        </p:grpSpPr>
        <p:sp>
          <p:nvSpPr>
            <p:cNvPr id="122" name=""/>
            <p:cNvSpPr/>
            <p:nvPr/>
          </p:nvSpPr>
          <p:spPr>
            <a:xfrm>
              <a:off x="3467160" y="3889440"/>
              <a:ext cx="4147920" cy="1041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9480" y="4074840"/>
              <a:ext cx="38955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112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a central no desenvolvimento do GRAD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incipais aspectos operacionais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i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ão GRADEp: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esafios de uma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Grade Pervasiv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jetiv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ceber e implementar um middleware para Grades Pervasiv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m ambiente de desenvolvimento de aplicaçõ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m ambiente de execução com um conjunto de serviç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acilidades para o desenvolvimento e execução de aplicaçõ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daptação ao contex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bilidade e pervasivida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 gra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 Grade Pervasi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ios de utilização por exempl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Funcionalidades do GRADE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plicações Típica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O GRADEp na RN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ios de utilização por exemplo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WalkEd (Editor de Texto Pervasivo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777000" y="2708280"/>
            <a:ext cx="2533680" cy="3379680"/>
            <a:chOff x="6777000" y="2708280"/>
            <a:chExt cx="2533680" cy="33796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6777000" y="2708280"/>
              <a:ext cx="253368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777000" y="2708280"/>
              <a:ext cx="2533680" cy="3379680"/>
            </a:xfrm>
            <a:custGeom>
              <a:avLst/>
              <a:gdLst>
                <a:gd name="textAreaLeft" fmla="*/ 360 w 2533680"/>
                <a:gd name="textAreaRight" fmla="*/ 2533320 w 2533680"/>
                <a:gd name="textAreaTop" fmla="*/ 360 h 3379680"/>
                <a:gd name="textAreaBottom" fmla="*/ 3379320 h 3379680"/>
              </a:gdLst>
              <a:ahLst/>
              <a:rect l="textAreaLeft" t="textAreaTop" r="textAreaRight" b="textAreaBottom"/>
              <a:pathLst>
                <a:path w="21600" h="28811">
                  <a:moveTo>
                    <a:pt x="13" y="0"/>
                  </a:moveTo>
                  <a:arcTo wR="13" hR="13" stAng="16200000" swAng="-5400000"/>
                  <a:lnTo>
                    <a:pt x="0" y="28798"/>
                  </a:lnTo>
                  <a:arcTo wR="13" hR="13" stAng="10800000" swAng="-5400000"/>
                  <a:lnTo>
                    <a:pt x="21587" y="2881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17600" y="1967040"/>
            <a:ext cx="4243320" cy="4194000"/>
            <a:chOff x="417600" y="1967040"/>
            <a:chExt cx="4243320" cy="4194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17600" y="1967040"/>
              <a:ext cx="424332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17600" y="1967040"/>
              <a:ext cx="4243320" cy="4194000"/>
            </a:xfrm>
            <a:prstGeom prst="roundRect">
              <a:avLst>
                <a:gd name="adj" fmla="val 3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0520" y="5445000"/>
            <a:ext cx="1290600" cy="368280"/>
            <a:chOff x="3800520" y="5445000"/>
            <a:chExt cx="1290600" cy="368280"/>
          </a:xfrm>
        </p:grpSpPr>
        <p:sp>
          <p:nvSpPr>
            <p:cNvPr id="138" name=""/>
            <p:cNvSpPr/>
            <p:nvPr/>
          </p:nvSpPr>
          <p:spPr>
            <a:xfrm>
              <a:off x="3800520" y="5445000"/>
              <a:ext cx="1290600" cy="36180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520" y="5445000"/>
              <a:ext cx="12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032520" y="5373720"/>
            <a:ext cx="1652400" cy="368280"/>
            <a:chOff x="6032520" y="5373720"/>
            <a:chExt cx="1652400" cy="368280"/>
          </a:xfrm>
        </p:grpSpPr>
        <p:sp>
          <p:nvSpPr>
            <p:cNvPr id="141" name=""/>
            <p:cNvSpPr/>
            <p:nvPr/>
          </p:nvSpPr>
          <p:spPr>
            <a:xfrm>
              <a:off x="6032520" y="5373720"/>
              <a:ext cx="1652400" cy="36216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32520" y="5373720"/>
              <a:ext cx="16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p Zau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44520" y="1125360"/>
            <a:ext cx="93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Perfil: integração computação móvel e computação distribuí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tivo: funcionalidade e flexibilidade no uso da ferramenta de edi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ios de utilização por exemplo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WalkEd (Editor de Texto Pervasivo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2711520"/>
            <a:ext cx="2533680" cy="3379680"/>
            <a:chOff x="6781680" y="2711520"/>
            <a:chExt cx="2533680" cy="3379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781680" y="2711520"/>
              <a:ext cx="253368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81680" y="2711520"/>
              <a:ext cx="2533680" cy="3379680"/>
            </a:xfrm>
            <a:custGeom>
              <a:avLst/>
              <a:gdLst>
                <a:gd name="textAreaLeft" fmla="*/ 360 w 2533680"/>
                <a:gd name="textAreaRight" fmla="*/ 2533320 w 2533680"/>
                <a:gd name="textAreaTop" fmla="*/ 360 h 3379680"/>
                <a:gd name="textAreaBottom" fmla="*/ 3379320 h 3379680"/>
              </a:gdLst>
              <a:ahLst/>
              <a:rect l="textAreaLeft" t="textAreaTop" r="textAreaRight" b="textAreaBottom"/>
              <a:pathLst>
                <a:path w="21600" h="28811">
                  <a:moveTo>
                    <a:pt x="13" y="0"/>
                  </a:moveTo>
                  <a:arcTo wR="13" hR="13" stAng="16200000" swAng="-5400000"/>
                  <a:lnTo>
                    <a:pt x="0" y="28798"/>
                  </a:lnTo>
                  <a:arcTo wR="13" hR="13" stAng="10800000" swAng="-5400000"/>
                  <a:lnTo>
                    <a:pt x="21587" y="2881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17600" y="1967040"/>
            <a:ext cx="4243320" cy="4194000"/>
            <a:chOff x="417600" y="1967040"/>
            <a:chExt cx="4243320" cy="419400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17600" y="1967040"/>
              <a:ext cx="424332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17600" y="1967040"/>
              <a:ext cx="4243320" cy="4194000"/>
            </a:xfrm>
            <a:prstGeom prst="roundRect">
              <a:avLst>
                <a:gd name="adj" fmla="val 3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00520" y="5445000"/>
            <a:ext cx="1290600" cy="368280"/>
            <a:chOff x="3800520" y="5445000"/>
            <a:chExt cx="1290600" cy="368280"/>
          </a:xfrm>
        </p:grpSpPr>
        <p:sp>
          <p:nvSpPr>
            <p:cNvPr id="153" name=""/>
            <p:cNvSpPr/>
            <p:nvPr/>
          </p:nvSpPr>
          <p:spPr>
            <a:xfrm>
              <a:off x="3800520" y="5445000"/>
              <a:ext cx="1290600" cy="36180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0520" y="5445000"/>
              <a:ext cx="12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032520" y="5373720"/>
            <a:ext cx="2116080" cy="368280"/>
            <a:chOff x="6032520" y="5373720"/>
            <a:chExt cx="2116080" cy="368280"/>
          </a:xfrm>
        </p:grpSpPr>
        <p:sp>
          <p:nvSpPr>
            <p:cNvPr id="156" name=""/>
            <p:cNvSpPr/>
            <p:nvPr/>
          </p:nvSpPr>
          <p:spPr>
            <a:xfrm>
              <a:off x="6032520" y="5373720"/>
              <a:ext cx="2116080" cy="36216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32520" y="53737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A Sharp Zau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4520" y="1125360"/>
            <a:ext cx="93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Perfil: integração computação móvel e computação distribuí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tivo: funcionalidade e flexibilidade no uso da ferramenta de edi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029200" y="1523880"/>
            <a:ext cx="1604880" cy="1062000"/>
            <a:chOff x="5029200" y="1523880"/>
            <a:chExt cx="1604880" cy="1062000"/>
          </a:xfrm>
        </p:grpSpPr>
        <p:sp>
          <p:nvSpPr>
            <p:cNvPr id="160" name=""/>
            <p:cNvSpPr/>
            <p:nvPr/>
          </p:nvSpPr>
          <p:spPr>
            <a:xfrm>
              <a:off x="5029200" y="1523880"/>
              <a:ext cx="1604880" cy="1062000"/>
            </a:xfrm>
            <a:custGeom>
              <a:avLst/>
              <a:gdLst/>
              <a:ahLst/>
              <a:rect l="l" t="t" r="r" b="b"/>
              <a:pathLst>
                <a:path w="4464" h="2956">
                  <a:moveTo>
                    <a:pt x="0" y="1478"/>
                  </a:moveTo>
                  <a:lnTo>
                    <a:pt x="550" y="1700"/>
                  </a:lnTo>
                  <a:lnTo>
                    <a:pt x="170" y="2043"/>
                  </a:lnTo>
                  <a:lnTo>
                    <a:pt x="806" y="2109"/>
                  </a:lnTo>
                  <a:lnTo>
                    <a:pt x="652" y="2523"/>
                  </a:lnTo>
                  <a:lnTo>
                    <a:pt x="1280" y="2423"/>
                  </a:lnTo>
                  <a:lnTo>
                    <a:pt x="1378" y="2843"/>
                  </a:lnTo>
                  <a:lnTo>
                    <a:pt x="1897" y="2592"/>
                  </a:lnTo>
                  <a:lnTo>
                    <a:pt x="2231" y="2955"/>
                  </a:lnTo>
                  <a:lnTo>
                    <a:pt x="2568" y="2591"/>
                  </a:lnTo>
                  <a:lnTo>
                    <a:pt x="3084" y="2843"/>
                  </a:lnTo>
                  <a:lnTo>
                    <a:pt x="3185" y="2422"/>
                  </a:lnTo>
                  <a:lnTo>
                    <a:pt x="3810" y="2523"/>
                  </a:lnTo>
                  <a:lnTo>
                    <a:pt x="3658" y="2107"/>
                  </a:lnTo>
                  <a:lnTo>
                    <a:pt x="4292" y="2043"/>
                  </a:lnTo>
                  <a:lnTo>
                    <a:pt x="3912" y="1698"/>
                  </a:lnTo>
                  <a:lnTo>
                    <a:pt x="4463" y="1478"/>
                  </a:lnTo>
                  <a:lnTo>
                    <a:pt x="3912" y="1255"/>
                  </a:lnTo>
                  <a:lnTo>
                    <a:pt x="4292" y="912"/>
                  </a:lnTo>
                  <a:lnTo>
                    <a:pt x="3656" y="846"/>
                  </a:lnTo>
                  <a:lnTo>
                    <a:pt x="3810" y="432"/>
                  </a:lnTo>
                  <a:lnTo>
                    <a:pt x="3182" y="532"/>
                  </a:lnTo>
                  <a:lnTo>
                    <a:pt x="3084" y="112"/>
                  </a:lnTo>
                  <a:lnTo>
                    <a:pt x="2564" y="363"/>
                  </a:lnTo>
                  <a:lnTo>
                    <a:pt x="2231" y="0"/>
                  </a:lnTo>
                  <a:lnTo>
                    <a:pt x="1894" y="364"/>
                  </a:lnTo>
                  <a:lnTo>
                    <a:pt x="1378" y="112"/>
                  </a:lnTo>
                  <a:lnTo>
                    <a:pt x="1277" y="533"/>
                  </a:lnTo>
                  <a:lnTo>
                    <a:pt x="652" y="432"/>
                  </a:lnTo>
                  <a:lnTo>
                    <a:pt x="804" y="848"/>
                  </a:lnTo>
                  <a:lnTo>
                    <a:pt x="170" y="912"/>
                  </a:lnTo>
                  <a:lnTo>
                    <a:pt x="550" y="1257"/>
                  </a:lnTo>
                  <a:lnTo>
                    <a:pt x="0" y="147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94080" y="1739160"/>
              <a:ext cx="13014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Adaptação ao  tipo do dispos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ios de utilização por exemplo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WalkEd (Editor de Texto Pervasivo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781680" y="2743200"/>
            <a:ext cx="2533680" cy="3379680"/>
            <a:chOff x="6781680" y="2743200"/>
            <a:chExt cx="2533680" cy="33796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6781680" y="2743200"/>
              <a:ext cx="253368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743200"/>
              <a:ext cx="2533680" cy="3379680"/>
            </a:xfrm>
            <a:custGeom>
              <a:avLst/>
              <a:gdLst>
                <a:gd name="textAreaLeft" fmla="*/ 360 w 2533680"/>
                <a:gd name="textAreaRight" fmla="*/ 2533320 w 2533680"/>
                <a:gd name="textAreaTop" fmla="*/ 360 h 3379680"/>
                <a:gd name="textAreaBottom" fmla="*/ 3379320 h 3379680"/>
              </a:gdLst>
              <a:ahLst/>
              <a:rect l="textAreaLeft" t="textAreaTop" r="textAreaRight" b="textAreaBottom"/>
              <a:pathLst>
                <a:path w="21600" h="28811">
                  <a:moveTo>
                    <a:pt x="13" y="0"/>
                  </a:moveTo>
                  <a:arcTo wR="13" hR="13" stAng="16200000" swAng="-5400000"/>
                  <a:lnTo>
                    <a:pt x="0" y="28798"/>
                  </a:lnTo>
                  <a:arcTo wR="13" hR="13" stAng="10800000" swAng="-5400000"/>
                  <a:lnTo>
                    <a:pt x="21587" y="2881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7600" y="1967040"/>
            <a:ext cx="4243320" cy="4194000"/>
            <a:chOff x="417600" y="1967040"/>
            <a:chExt cx="4243320" cy="419400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17600" y="1967040"/>
              <a:ext cx="424332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17600" y="1967040"/>
              <a:ext cx="4243320" cy="4194000"/>
            </a:xfrm>
            <a:prstGeom prst="roundRect">
              <a:avLst>
                <a:gd name="adj" fmla="val 3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800520" y="5445000"/>
            <a:ext cx="1290600" cy="368280"/>
            <a:chOff x="3800520" y="5445000"/>
            <a:chExt cx="1290600" cy="368280"/>
          </a:xfrm>
        </p:grpSpPr>
        <p:sp>
          <p:nvSpPr>
            <p:cNvPr id="171" name=""/>
            <p:cNvSpPr/>
            <p:nvPr/>
          </p:nvSpPr>
          <p:spPr>
            <a:xfrm>
              <a:off x="3800520" y="5445000"/>
              <a:ext cx="1290600" cy="36180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0520" y="5445000"/>
              <a:ext cx="12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44520" y="1125360"/>
            <a:ext cx="93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Perfil: integração computação móvel e computação distribuí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tivo: funcionalidade e flexibilidade no uso da ferramenta de edi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29200" y="1523880"/>
            <a:ext cx="1604880" cy="1062000"/>
            <a:chOff x="5029200" y="1523880"/>
            <a:chExt cx="1604880" cy="1062000"/>
          </a:xfrm>
        </p:grpSpPr>
        <p:sp>
          <p:nvSpPr>
            <p:cNvPr id="175" name=""/>
            <p:cNvSpPr/>
            <p:nvPr/>
          </p:nvSpPr>
          <p:spPr>
            <a:xfrm>
              <a:off x="5029200" y="1523880"/>
              <a:ext cx="1604880" cy="1062000"/>
            </a:xfrm>
            <a:custGeom>
              <a:avLst/>
              <a:gdLst/>
              <a:ahLst/>
              <a:rect l="l" t="t" r="r" b="b"/>
              <a:pathLst>
                <a:path w="4464" h="2956">
                  <a:moveTo>
                    <a:pt x="0" y="1478"/>
                  </a:moveTo>
                  <a:lnTo>
                    <a:pt x="550" y="1700"/>
                  </a:lnTo>
                  <a:lnTo>
                    <a:pt x="170" y="2043"/>
                  </a:lnTo>
                  <a:lnTo>
                    <a:pt x="806" y="2109"/>
                  </a:lnTo>
                  <a:lnTo>
                    <a:pt x="652" y="2523"/>
                  </a:lnTo>
                  <a:lnTo>
                    <a:pt x="1280" y="2423"/>
                  </a:lnTo>
                  <a:lnTo>
                    <a:pt x="1378" y="2843"/>
                  </a:lnTo>
                  <a:lnTo>
                    <a:pt x="1897" y="2592"/>
                  </a:lnTo>
                  <a:lnTo>
                    <a:pt x="2231" y="2955"/>
                  </a:lnTo>
                  <a:lnTo>
                    <a:pt x="2568" y="2591"/>
                  </a:lnTo>
                  <a:lnTo>
                    <a:pt x="3084" y="2843"/>
                  </a:lnTo>
                  <a:lnTo>
                    <a:pt x="3185" y="2422"/>
                  </a:lnTo>
                  <a:lnTo>
                    <a:pt x="3810" y="2523"/>
                  </a:lnTo>
                  <a:lnTo>
                    <a:pt x="3658" y="2107"/>
                  </a:lnTo>
                  <a:lnTo>
                    <a:pt x="4292" y="2043"/>
                  </a:lnTo>
                  <a:lnTo>
                    <a:pt x="3912" y="1698"/>
                  </a:lnTo>
                  <a:lnTo>
                    <a:pt x="4463" y="1478"/>
                  </a:lnTo>
                  <a:lnTo>
                    <a:pt x="3912" y="1255"/>
                  </a:lnTo>
                  <a:lnTo>
                    <a:pt x="4292" y="912"/>
                  </a:lnTo>
                  <a:lnTo>
                    <a:pt x="3656" y="846"/>
                  </a:lnTo>
                  <a:lnTo>
                    <a:pt x="3810" y="432"/>
                  </a:lnTo>
                  <a:lnTo>
                    <a:pt x="3182" y="532"/>
                  </a:lnTo>
                  <a:lnTo>
                    <a:pt x="3084" y="112"/>
                  </a:lnTo>
                  <a:lnTo>
                    <a:pt x="2564" y="363"/>
                  </a:lnTo>
                  <a:lnTo>
                    <a:pt x="2231" y="0"/>
                  </a:lnTo>
                  <a:lnTo>
                    <a:pt x="1894" y="364"/>
                  </a:lnTo>
                  <a:lnTo>
                    <a:pt x="1378" y="112"/>
                  </a:lnTo>
                  <a:lnTo>
                    <a:pt x="1277" y="533"/>
                  </a:lnTo>
                  <a:lnTo>
                    <a:pt x="652" y="432"/>
                  </a:lnTo>
                  <a:lnTo>
                    <a:pt x="804" y="848"/>
                  </a:lnTo>
                  <a:lnTo>
                    <a:pt x="170" y="912"/>
                  </a:lnTo>
                  <a:lnTo>
                    <a:pt x="550" y="1257"/>
                  </a:lnTo>
                  <a:lnTo>
                    <a:pt x="0" y="147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4080" y="1739160"/>
              <a:ext cx="13014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Adaptação ao  tipo do dispos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58000" y="1752480"/>
            <a:ext cx="1519200" cy="604800"/>
            <a:chOff x="6858000" y="1752480"/>
            <a:chExt cx="1519200" cy="604800"/>
          </a:xfrm>
        </p:grpSpPr>
        <p:sp>
          <p:nvSpPr>
            <p:cNvPr id="178" name=""/>
            <p:cNvSpPr/>
            <p:nvPr/>
          </p:nvSpPr>
          <p:spPr>
            <a:xfrm>
              <a:off x="6858000" y="1752480"/>
              <a:ext cx="1519200" cy="604800"/>
            </a:xfrm>
            <a:custGeom>
              <a:avLst/>
              <a:gdLst/>
              <a:ahLst/>
              <a:rect l="l" t="t" r="r" b="b"/>
              <a:pathLst>
                <a:path w="4226" h="1686">
                  <a:moveTo>
                    <a:pt x="4225" y="1685"/>
                  </a:moveTo>
                  <a:lnTo>
                    <a:pt x="568" y="1685"/>
                  </a:lnTo>
                  <a:lnTo>
                    <a:pt x="0" y="843"/>
                  </a:lnTo>
                  <a:lnTo>
                    <a:pt x="568" y="0"/>
                  </a:lnTo>
                  <a:lnTo>
                    <a:pt x="4225" y="0"/>
                  </a:lnTo>
                  <a:lnTo>
                    <a:pt x="3657" y="843"/>
                  </a:lnTo>
                  <a:lnTo>
                    <a:pt x="4225" y="1685"/>
                  </a:lnTo>
                </a:path>
              </a:pathLst>
            </a:custGeom>
            <a:solidFill>
              <a:srgbClr val="8f8fd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858000" y="1752480"/>
              <a:ext cx="1515960" cy="601560"/>
              <a:chOff x="6858000" y="1752480"/>
              <a:chExt cx="1515960" cy="601560"/>
            </a:xfrm>
          </p:grpSpPr>
          <p:sp>
            <p:nvSpPr>
              <p:cNvPr id="180" name=""/>
              <p:cNvSpPr/>
              <p:nvPr/>
            </p:nvSpPr>
            <p:spPr>
              <a:xfrm>
                <a:off x="6858000" y="1752480"/>
                <a:ext cx="1515960" cy="60156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58000" y="1762920"/>
                <a:ext cx="151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aptaç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ão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Func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82" name=""/>
          <p:cNvCxnSpPr/>
          <p:nvPr/>
        </p:nvCxnSpPr>
        <p:spPr>
          <a:xfrm>
            <a:off x="4665600" y="4065480"/>
            <a:ext cx="2116800" cy="370800"/>
          </a:xfrm>
          <a:prstGeom prst="curvedConnector5">
            <a:avLst>
              <a:gd name="adj1" fmla="val 49991"/>
              <a:gd name="adj2" fmla="val 49951"/>
              <a:gd name="adj3" fmla="val 49991"/>
            </a:avLst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3" name=""/>
          <p:cNvGrpSpPr/>
          <p:nvPr/>
        </p:nvGrpSpPr>
        <p:grpSpPr>
          <a:xfrm>
            <a:off x="6032520" y="5373720"/>
            <a:ext cx="2116080" cy="368280"/>
            <a:chOff x="6032520" y="5373720"/>
            <a:chExt cx="2116080" cy="368280"/>
          </a:xfrm>
        </p:grpSpPr>
        <p:sp>
          <p:nvSpPr>
            <p:cNvPr id="184" name=""/>
            <p:cNvSpPr/>
            <p:nvPr/>
          </p:nvSpPr>
          <p:spPr>
            <a:xfrm>
              <a:off x="6032520" y="5373720"/>
              <a:ext cx="2116080" cy="36216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32520" y="53737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A Sharp Zau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ios de utilização por exemplo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WalkEd (Editor de Texto Pervasivo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77000" y="2708280"/>
            <a:ext cx="2533680" cy="3379680"/>
            <a:chOff x="6777000" y="2708280"/>
            <a:chExt cx="2533680" cy="3379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777000" y="2708280"/>
              <a:ext cx="253368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777000" y="2708280"/>
              <a:ext cx="2533680" cy="3379680"/>
            </a:xfrm>
            <a:custGeom>
              <a:avLst/>
              <a:gdLst>
                <a:gd name="textAreaLeft" fmla="*/ 360 w 2533680"/>
                <a:gd name="textAreaRight" fmla="*/ 2533320 w 2533680"/>
                <a:gd name="textAreaTop" fmla="*/ 360 h 3379680"/>
                <a:gd name="textAreaBottom" fmla="*/ 3379320 h 3379680"/>
              </a:gdLst>
              <a:ahLst/>
              <a:rect l="textAreaLeft" t="textAreaTop" r="textAreaRight" b="textAreaBottom"/>
              <a:pathLst>
                <a:path w="21600" h="28811">
                  <a:moveTo>
                    <a:pt x="13" y="0"/>
                  </a:moveTo>
                  <a:arcTo wR="13" hR="13" stAng="16200000" swAng="-5400000"/>
                  <a:lnTo>
                    <a:pt x="0" y="28798"/>
                  </a:lnTo>
                  <a:arcTo wR="13" hR="13" stAng="10800000" swAng="-5400000"/>
                  <a:lnTo>
                    <a:pt x="21587" y="2881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7600" y="1967040"/>
            <a:ext cx="4243320" cy="4194000"/>
            <a:chOff x="417600" y="1967040"/>
            <a:chExt cx="4243320" cy="41940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417600" y="1967040"/>
              <a:ext cx="424332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17600" y="1967040"/>
              <a:ext cx="4243320" cy="4194000"/>
            </a:xfrm>
            <a:prstGeom prst="roundRect">
              <a:avLst>
                <a:gd name="adj" fmla="val 3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800520" y="5445000"/>
            <a:ext cx="1290600" cy="368280"/>
            <a:chOff x="3800520" y="5445000"/>
            <a:chExt cx="1290600" cy="368280"/>
          </a:xfrm>
        </p:grpSpPr>
        <p:sp>
          <p:nvSpPr>
            <p:cNvPr id="195" name=""/>
            <p:cNvSpPr/>
            <p:nvPr/>
          </p:nvSpPr>
          <p:spPr>
            <a:xfrm>
              <a:off x="3800520" y="5445000"/>
              <a:ext cx="1290600" cy="36180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0520" y="5445000"/>
              <a:ext cx="12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44520" y="1125360"/>
            <a:ext cx="93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Perfil: integração computação móvel e computação distribuí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tivo: funcionalidade e flexibilidade no uso da ferramenta de edi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962520"/>
            <a:ext cx="1067040" cy="761760"/>
          </a:xfrm>
          <a:custGeom>
            <a:avLst/>
            <a:gdLst/>
            <a:ahLst/>
            <a:rect l="l" t="t" r="r" b="b"/>
            <a:pathLst>
              <a:path w="2965" h="2117">
                <a:moveTo>
                  <a:pt x="0" y="1058"/>
                </a:moveTo>
                <a:lnTo>
                  <a:pt x="590" y="0"/>
                </a:lnTo>
                <a:lnTo>
                  <a:pt x="590" y="529"/>
                </a:lnTo>
                <a:lnTo>
                  <a:pt x="2374" y="529"/>
                </a:lnTo>
                <a:lnTo>
                  <a:pt x="2374" y="0"/>
                </a:lnTo>
                <a:lnTo>
                  <a:pt x="2964" y="1058"/>
                </a:lnTo>
                <a:lnTo>
                  <a:pt x="2374" y="2116"/>
                </a:lnTo>
                <a:lnTo>
                  <a:pt x="2374" y="1587"/>
                </a:lnTo>
                <a:lnTo>
                  <a:pt x="590" y="1587"/>
                </a:lnTo>
                <a:lnTo>
                  <a:pt x="590" y="2116"/>
                </a:lnTo>
                <a:lnTo>
                  <a:pt x="0" y="1058"/>
                </a:ln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3040" y="3473280"/>
            <a:ext cx="689760" cy="338040"/>
            <a:chOff x="5333040" y="3473280"/>
            <a:chExt cx="689760" cy="338040"/>
          </a:xfrm>
        </p:grpSpPr>
        <p:sp>
          <p:nvSpPr>
            <p:cNvPr id="200" name=""/>
            <p:cNvSpPr/>
            <p:nvPr/>
          </p:nvSpPr>
          <p:spPr>
            <a:xfrm>
              <a:off x="5334120" y="3473280"/>
              <a:ext cx="688680" cy="33372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333040" y="3473280"/>
              <a:ext cx="689040" cy="338040"/>
              <a:chOff x="5333040" y="3473280"/>
              <a:chExt cx="689040" cy="338040"/>
            </a:xfrm>
          </p:grpSpPr>
          <p:sp>
            <p:nvSpPr>
              <p:cNvPr id="202" name=""/>
              <p:cNvSpPr/>
              <p:nvPr/>
            </p:nvSpPr>
            <p:spPr>
              <a:xfrm>
                <a:off x="5334120" y="3473280"/>
                <a:ext cx="686880" cy="33228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33040" y="3473280"/>
                <a:ext cx="689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ex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334120" y="4844880"/>
            <a:ext cx="825480" cy="338040"/>
            <a:chOff x="5334120" y="4844880"/>
            <a:chExt cx="825480" cy="338040"/>
          </a:xfrm>
        </p:grpSpPr>
        <p:sp>
          <p:nvSpPr>
            <p:cNvPr id="205" name=""/>
            <p:cNvSpPr/>
            <p:nvPr/>
          </p:nvSpPr>
          <p:spPr>
            <a:xfrm>
              <a:off x="5334120" y="4844880"/>
              <a:ext cx="825480" cy="33372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334120" y="4844880"/>
              <a:ext cx="824400" cy="338040"/>
              <a:chOff x="5334120" y="4844880"/>
              <a:chExt cx="824400" cy="338040"/>
            </a:xfrm>
          </p:grpSpPr>
          <p:sp>
            <p:nvSpPr>
              <p:cNvPr id="207" name=""/>
              <p:cNvSpPr/>
              <p:nvPr/>
            </p:nvSpPr>
            <p:spPr>
              <a:xfrm>
                <a:off x="5334120" y="4844880"/>
                <a:ext cx="824040" cy="33228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34120" y="4844880"/>
                <a:ext cx="8244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ódig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4267080" y="1676520"/>
            <a:ext cx="3319560" cy="1773000"/>
            <a:chOff x="4267080" y="1676520"/>
            <a:chExt cx="3319560" cy="1773000"/>
          </a:xfrm>
        </p:grpSpPr>
        <p:sp>
          <p:nvSpPr>
            <p:cNvPr id="210" name=""/>
            <p:cNvSpPr/>
            <p:nvPr/>
          </p:nvSpPr>
          <p:spPr>
            <a:xfrm>
              <a:off x="4267080" y="1676520"/>
              <a:ext cx="3319560" cy="1773000"/>
            </a:xfrm>
            <a:custGeom>
              <a:avLst/>
              <a:gdLst/>
              <a:ahLst/>
              <a:rect l="l" t="t" r="r" b="b"/>
              <a:pathLst>
                <a:path w="9226" h="4931">
                  <a:moveTo>
                    <a:pt x="0" y="2465"/>
                  </a:moveTo>
                  <a:lnTo>
                    <a:pt x="1136" y="2835"/>
                  </a:lnTo>
                  <a:lnTo>
                    <a:pt x="351" y="3408"/>
                  </a:lnTo>
                  <a:lnTo>
                    <a:pt x="1666" y="3517"/>
                  </a:lnTo>
                  <a:lnTo>
                    <a:pt x="1349" y="4208"/>
                  </a:lnTo>
                  <a:lnTo>
                    <a:pt x="2646" y="4041"/>
                  </a:lnTo>
                  <a:lnTo>
                    <a:pt x="2846" y="4741"/>
                  </a:lnTo>
                  <a:lnTo>
                    <a:pt x="3923" y="4323"/>
                  </a:lnTo>
                  <a:lnTo>
                    <a:pt x="4612" y="4930"/>
                  </a:lnTo>
                  <a:lnTo>
                    <a:pt x="5307" y="4322"/>
                  </a:lnTo>
                  <a:lnTo>
                    <a:pt x="6377" y="4741"/>
                  </a:lnTo>
                  <a:lnTo>
                    <a:pt x="6583" y="4039"/>
                  </a:lnTo>
                  <a:lnTo>
                    <a:pt x="7874" y="4208"/>
                  </a:lnTo>
                  <a:lnTo>
                    <a:pt x="7561" y="3515"/>
                  </a:lnTo>
                  <a:lnTo>
                    <a:pt x="8873" y="3408"/>
                  </a:lnTo>
                  <a:lnTo>
                    <a:pt x="8089" y="2832"/>
                  </a:lnTo>
                  <a:lnTo>
                    <a:pt x="9225" y="2465"/>
                  </a:lnTo>
                  <a:lnTo>
                    <a:pt x="8087" y="2094"/>
                  </a:lnTo>
                  <a:lnTo>
                    <a:pt x="8873" y="1521"/>
                  </a:lnTo>
                  <a:lnTo>
                    <a:pt x="7558" y="1412"/>
                  </a:lnTo>
                  <a:lnTo>
                    <a:pt x="7874" y="721"/>
                  </a:lnTo>
                  <a:lnTo>
                    <a:pt x="6578" y="888"/>
                  </a:lnTo>
                  <a:lnTo>
                    <a:pt x="6377" y="188"/>
                  </a:lnTo>
                  <a:lnTo>
                    <a:pt x="5300" y="606"/>
                  </a:lnTo>
                  <a:lnTo>
                    <a:pt x="4612" y="0"/>
                  </a:lnTo>
                  <a:lnTo>
                    <a:pt x="3916" y="607"/>
                  </a:lnTo>
                  <a:lnTo>
                    <a:pt x="2846" y="188"/>
                  </a:lnTo>
                  <a:lnTo>
                    <a:pt x="2640" y="890"/>
                  </a:lnTo>
                  <a:lnTo>
                    <a:pt x="1349" y="721"/>
                  </a:lnTo>
                  <a:lnTo>
                    <a:pt x="1662" y="1414"/>
                  </a:lnTo>
                  <a:lnTo>
                    <a:pt x="351" y="1521"/>
                  </a:lnTo>
                  <a:lnTo>
                    <a:pt x="1135" y="2097"/>
                  </a:lnTo>
                  <a:lnTo>
                    <a:pt x="0" y="2465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19400" y="1980720"/>
              <a:ext cx="2061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ahoma"/>
                </a:rPr>
                <a:t>1)</a:t>
              </a: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3333cc"/>
                  </a:solidFill>
                  <a:latin typeface="Tahoma"/>
                </a:rPr>
                <a:t>Acesso pervasivo:</a:t>
              </a:r>
              <a:br>
                <a:rPr sz="1000"/>
              </a:br>
              <a:r>
                <a:rPr b="0" lang="en-US" sz="1000" spc="-1" strike="noStrike">
                  <a:solidFill>
                    <a:srgbClr val="3333cc"/>
                  </a:solidFill>
                  <a:latin typeface="Tahoma"/>
                </a:rPr>
                <a:t>    - a dados;</a:t>
              </a:r>
              <a:br>
                <a:rPr sz="1000"/>
              </a:br>
              <a:r>
                <a:rPr b="0" lang="en-US" sz="1000" spc="-1" strike="noStrike">
                  <a:solidFill>
                    <a:srgbClr val="3333cc"/>
                  </a:solidFill>
                  <a:latin typeface="Tahoma"/>
                </a:rPr>
                <a:t>     - a c</a:t>
              </a:r>
              <a:r>
                <a:rPr b="0" lang="en-US" sz="1000" spc="-1" strike="noStrike">
                  <a:solidFill>
                    <a:srgbClr val="3333cc"/>
                  </a:solidFill>
                  <a:latin typeface="Tahoma"/>
                  <a:ea typeface="ＭＳ Ｐゴシック"/>
                </a:rPr>
                <a:t>ódig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ahoma"/>
                  <a:ea typeface="ＭＳ Ｐゴシック"/>
                </a:rPr>
                <a:t>          </a:t>
              </a:r>
              <a:r>
                <a:rPr b="0" lang="en-US" sz="1000" spc="-1" strike="noStrike">
                  <a:solidFill>
                    <a:srgbClr val="3333cc"/>
                  </a:solidFill>
                  <a:latin typeface="Tahoma"/>
                  <a:ea typeface="ＭＳ Ｐゴシック"/>
                </a:rPr>
                <a:t>2) Mobilidade de códig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32520" y="5373720"/>
            <a:ext cx="2116080" cy="368280"/>
            <a:chOff x="6032520" y="5373720"/>
            <a:chExt cx="2116080" cy="368280"/>
          </a:xfrm>
        </p:grpSpPr>
        <p:sp>
          <p:nvSpPr>
            <p:cNvPr id="213" name=""/>
            <p:cNvSpPr/>
            <p:nvPr/>
          </p:nvSpPr>
          <p:spPr>
            <a:xfrm>
              <a:off x="6032520" y="5373720"/>
              <a:ext cx="2116080" cy="362160"/>
            </a:xfrm>
            <a:prstGeom prst="roundRect">
              <a:avLst>
                <a:gd name="adj" fmla="val 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2520" y="53737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A Sharp Zau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ão GRADEp: Desafios de uma Grade Pervasi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GRADEp: cenários de utilização por exempl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Funcionalidades do GRADE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plicações Típica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 GRADEp na RN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262080" y="67320"/>
            <a:ext cx="9556560" cy="776520"/>
            <a:chOff x="262080" y="67320"/>
            <a:chExt cx="9556560" cy="776520"/>
          </a:xfrm>
        </p:grpSpPr>
        <p:sp>
          <p:nvSpPr>
            <p:cNvPr id="216" name=""/>
            <p:cNvSpPr/>
            <p:nvPr/>
          </p:nvSpPr>
          <p:spPr>
            <a:xfrm>
              <a:off x="262080" y="75960"/>
              <a:ext cx="955656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080" y="67320"/>
              <a:ext cx="95565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DEp: c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rios de utilização por exemplos</a:t>
              </a:r>
              <a:r>
                <a:rPr b="1" lang="en-US" sz="3600" spc="-1" strike="noStrike">
                  <a:solidFill>
                    <a:srgbClr val="003366"/>
                  </a:solidFill>
                  <a:latin typeface="Monotype Corsiva"/>
                </a:rPr>
                <a:t> </a:t>
              </a:r>
              <a:br>
                <a:rPr sz="44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 Aplicação Gen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584280" y="2717640"/>
          <a:ext cx="47750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2717640"/>
                    <a:ext cx="47750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523280" y="3592440"/>
            <a:ext cx="1977840" cy="25416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4915080" y="5572080"/>
            <a:ext cx="985680" cy="357120"/>
            <a:chOff x="4915080" y="5572080"/>
            <a:chExt cx="985680" cy="357120"/>
          </a:xfrm>
        </p:grpSpPr>
        <p:sp>
          <p:nvSpPr>
            <p:cNvPr id="222" name=""/>
            <p:cNvSpPr/>
            <p:nvPr/>
          </p:nvSpPr>
          <p:spPr>
            <a:xfrm>
              <a:off x="4915080" y="5572080"/>
              <a:ext cx="985680" cy="35712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15080" y="5572080"/>
              <a:ext cx="98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13640" y="5551560"/>
            <a:ext cx="1887480" cy="357120"/>
            <a:chOff x="6713640" y="5551560"/>
            <a:chExt cx="1887480" cy="357120"/>
          </a:xfrm>
        </p:grpSpPr>
        <p:sp>
          <p:nvSpPr>
            <p:cNvPr id="225" name=""/>
            <p:cNvSpPr/>
            <p:nvPr/>
          </p:nvSpPr>
          <p:spPr>
            <a:xfrm>
              <a:off x="6713640" y="5551560"/>
              <a:ext cx="1887480" cy="35712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13640" y="555156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PDA Sharp Zau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86400" y="2133720"/>
            <a:ext cx="1604880" cy="1062000"/>
            <a:chOff x="5486400" y="2133720"/>
            <a:chExt cx="1604880" cy="1062000"/>
          </a:xfrm>
        </p:grpSpPr>
        <p:sp>
          <p:nvSpPr>
            <p:cNvPr id="228" name=""/>
            <p:cNvSpPr/>
            <p:nvPr/>
          </p:nvSpPr>
          <p:spPr>
            <a:xfrm>
              <a:off x="5486400" y="2133720"/>
              <a:ext cx="1604880" cy="1062000"/>
            </a:xfrm>
            <a:custGeom>
              <a:avLst/>
              <a:gdLst/>
              <a:ahLst/>
              <a:rect l="l" t="t" r="r" b="b"/>
              <a:pathLst>
                <a:path w="4464" h="2955">
                  <a:moveTo>
                    <a:pt x="0" y="1477"/>
                  </a:moveTo>
                  <a:lnTo>
                    <a:pt x="550" y="1699"/>
                  </a:lnTo>
                  <a:lnTo>
                    <a:pt x="170" y="2042"/>
                  </a:lnTo>
                  <a:lnTo>
                    <a:pt x="806" y="2108"/>
                  </a:lnTo>
                  <a:lnTo>
                    <a:pt x="652" y="2522"/>
                  </a:lnTo>
                  <a:lnTo>
                    <a:pt x="1280" y="2422"/>
                  </a:lnTo>
                  <a:lnTo>
                    <a:pt x="1378" y="2842"/>
                  </a:lnTo>
                  <a:lnTo>
                    <a:pt x="1897" y="2591"/>
                  </a:lnTo>
                  <a:lnTo>
                    <a:pt x="2231" y="2954"/>
                  </a:lnTo>
                  <a:lnTo>
                    <a:pt x="2568" y="2590"/>
                  </a:lnTo>
                  <a:lnTo>
                    <a:pt x="3084" y="2842"/>
                  </a:lnTo>
                  <a:lnTo>
                    <a:pt x="3185" y="2421"/>
                  </a:lnTo>
                  <a:lnTo>
                    <a:pt x="3810" y="2522"/>
                  </a:lnTo>
                  <a:lnTo>
                    <a:pt x="3658" y="2106"/>
                  </a:lnTo>
                  <a:lnTo>
                    <a:pt x="4292" y="2042"/>
                  </a:lnTo>
                  <a:lnTo>
                    <a:pt x="3912" y="1697"/>
                  </a:lnTo>
                  <a:lnTo>
                    <a:pt x="4463" y="1477"/>
                  </a:lnTo>
                  <a:lnTo>
                    <a:pt x="3912" y="1255"/>
                  </a:lnTo>
                  <a:lnTo>
                    <a:pt x="4292" y="912"/>
                  </a:lnTo>
                  <a:lnTo>
                    <a:pt x="3656" y="846"/>
                  </a:lnTo>
                  <a:lnTo>
                    <a:pt x="3810" y="432"/>
                  </a:lnTo>
                  <a:lnTo>
                    <a:pt x="3182" y="532"/>
                  </a:lnTo>
                  <a:lnTo>
                    <a:pt x="3084" y="112"/>
                  </a:lnTo>
                  <a:lnTo>
                    <a:pt x="2564" y="363"/>
                  </a:lnTo>
                  <a:lnTo>
                    <a:pt x="2231" y="0"/>
                  </a:lnTo>
                  <a:lnTo>
                    <a:pt x="1894" y="364"/>
                  </a:lnTo>
                  <a:lnTo>
                    <a:pt x="1378" y="112"/>
                  </a:lnTo>
                  <a:lnTo>
                    <a:pt x="1277" y="533"/>
                  </a:lnTo>
                  <a:lnTo>
                    <a:pt x="652" y="432"/>
                  </a:lnTo>
                  <a:lnTo>
                    <a:pt x="804" y="848"/>
                  </a:lnTo>
                  <a:lnTo>
                    <a:pt x="170" y="912"/>
                  </a:lnTo>
                  <a:lnTo>
                    <a:pt x="550" y="1257"/>
                  </a:lnTo>
                  <a:lnTo>
                    <a:pt x="0" y="1477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1280" y="2349000"/>
              <a:ext cx="13014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Adaptação da interface ao  tipo de dispos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44520" y="1125360"/>
            <a:ext cx="936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Perfil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ecução distribuída multi-institucion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tivo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usca de desempenho e flexibilidade na inter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905120"/>
            <a:ext cx="430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61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terface gr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ＭＳ Ｐゴシック"/>
              </a:rPr>
              <a:t>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/>
          <p:nvPr/>
        </p:nvCxnSpPr>
        <p:spPr>
          <a:xfrm>
            <a:off x="5257440" y="3733560"/>
            <a:ext cx="2265840" cy="8262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62080" y="67320"/>
            <a:ext cx="9556560" cy="776520"/>
            <a:chOff x="262080" y="67320"/>
            <a:chExt cx="9556560" cy="776520"/>
          </a:xfrm>
        </p:grpSpPr>
        <p:sp>
          <p:nvSpPr>
            <p:cNvPr id="234" name=""/>
            <p:cNvSpPr/>
            <p:nvPr/>
          </p:nvSpPr>
          <p:spPr>
            <a:xfrm>
              <a:off x="262080" y="75960"/>
              <a:ext cx="955656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080" y="67320"/>
              <a:ext cx="95565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DEp: c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rios de utilização por exemplos</a:t>
              </a:r>
              <a:r>
                <a:rPr b="1" lang="en-US" sz="3600" spc="-1" strike="noStrike">
                  <a:solidFill>
                    <a:srgbClr val="003366"/>
                  </a:solidFill>
                  <a:latin typeface="Monotype Corsiva"/>
                </a:rPr>
                <a:t> </a:t>
              </a:r>
              <a:br>
                <a:rPr sz="44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 Aplicação Gen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6" name=""/>
          <p:cNvGraphicFramePr/>
          <p:nvPr/>
        </p:nvGraphicFramePr>
        <p:xfrm>
          <a:off x="584280" y="2717640"/>
          <a:ext cx="47750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2717640"/>
                    <a:ext cx="47750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523280" y="3592440"/>
            <a:ext cx="1977840" cy="254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915080" y="5572080"/>
            <a:ext cx="985680" cy="357120"/>
            <a:chOff x="4915080" y="5572080"/>
            <a:chExt cx="985680" cy="357120"/>
          </a:xfrm>
        </p:grpSpPr>
        <p:sp>
          <p:nvSpPr>
            <p:cNvPr id="240" name=""/>
            <p:cNvSpPr/>
            <p:nvPr/>
          </p:nvSpPr>
          <p:spPr>
            <a:xfrm>
              <a:off x="4915080" y="5572080"/>
              <a:ext cx="985680" cy="35712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15080" y="5572080"/>
              <a:ext cx="98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713640" y="5551560"/>
            <a:ext cx="1887480" cy="357120"/>
            <a:chOff x="6713640" y="5551560"/>
            <a:chExt cx="1887480" cy="357120"/>
          </a:xfrm>
        </p:grpSpPr>
        <p:sp>
          <p:nvSpPr>
            <p:cNvPr id="243" name=""/>
            <p:cNvSpPr/>
            <p:nvPr/>
          </p:nvSpPr>
          <p:spPr>
            <a:xfrm>
              <a:off x="6713640" y="5551560"/>
              <a:ext cx="1887480" cy="35712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13640" y="555156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PDA Sharp Zau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86400" y="2133720"/>
            <a:ext cx="1604880" cy="1062000"/>
            <a:chOff x="5486400" y="2133720"/>
            <a:chExt cx="1604880" cy="1062000"/>
          </a:xfrm>
        </p:grpSpPr>
        <p:sp>
          <p:nvSpPr>
            <p:cNvPr id="246" name=""/>
            <p:cNvSpPr/>
            <p:nvPr/>
          </p:nvSpPr>
          <p:spPr>
            <a:xfrm>
              <a:off x="5486400" y="2133720"/>
              <a:ext cx="1604880" cy="1062000"/>
            </a:xfrm>
            <a:custGeom>
              <a:avLst/>
              <a:gdLst/>
              <a:ahLst/>
              <a:rect l="l" t="t" r="r" b="b"/>
              <a:pathLst>
                <a:path w="4464" h="2955">
                  <a:moveTo>
                    <a:pt x="0" y="1477"/>
                  </a:moveTo>
                  <a:lnTo>
                    <a:pt x="550" y="1699"/>
                  </a:lnTo>
                  <a:lnTo>
                    <a:pt x="170" y="2042"/>
                  </a:lnTo>
                  <a:lnTo>
                    <a:pt x="806" y="2108"/>
                  </a:lnTo>
                  <a:lnTo>
                    <a:pt x="652" y="2522"/>
                  </a:lnTo>
                  <a:lnTo>
                    <a:pt x="1280" y="2422"/>
                  </a:lnTo>
                  <a:lnTo>
                    <a:pt x="1378" y="2842"/>
                  </a:lnTo>
                  <a:lnTo>
                    <a:pt x="1897" y="2591"/>
                  </a:lnTo>
                  <a:lnTo>
                    <a:pt x="2231" y="2954"/>
                  </a:lnTo>
                  <a:lnTo>
                    <a:pt x="2568" y="2590"/>
                  </a:lnTo>
                  <a:lnTo>
                    <a:pt x="3084" y="2842"/>
                  </a:lnTo>
                  <a:lnTo>
                    <a:pt x="3185" y="2421"/>
                  </a:lnTo>
                  <a:lnTo>
                    <a:pt x="3810" y="2522"/>
                  </a:lnTo>
                  <a:lnTo>
                    <a:pt x="3658" y="2106"/>
                  </a:lnTo>
                  <a:lnTo>
                    <a:pt x="4292" y="2042"/>
                  </a:lnTo>
                  <a:lnTo>
                    <a:pt x="3912" y="1697"/>
                  </a:lnTo>
                  <a:lnTo>
                    <a:pt x="4463" y="1477"/>
                  </a:lnTo>
                  <a:lnTo>
                    <a:pt x="3912" y="1255"/>
                  </a:lnTo>
                  <a:lnTo>
                    <a:pt x="4292" y="912"/>
                  </a:lnTo>
                  <a:lnTo>
                    <a:pt x="3656" y="846"/>
                  </a:lnTo>
                  <a:lnTo>
                    <a:pt x="3810" y="432"/>
                  </a:lnTo>
                  <a:lnTo>
                    <a:pt x="3182" y="532"/>
                  </a:lnTo>
                  <a:lnTo>
                    <a:pt x="3084" y="112"/>
                  </a:lnTo>
                  <a:lnTo>
                    <a:pt x="2564" y="363"/>
                  </a:lnTo>
                  <a:lnTo>
                    <a:pt x="2231" y="0"/>
                  </a:lnTo>
                  <a:lnTo>
                    <a:pt x="1894" y="364"/>
                  </a:lnTo>
                  <a:lnTo>
                    <a:pt x="1378" y="112"/>
                  </a:lnTo>
                  <a:lnTo>
                    <a:pt x="1277" y="533"/>
                  </a:lnTo>
                  <a:lnTo>
                    <a:pt x="652" y="432"/>
                  </a:lnTo>
                  <a:lnTo>
                    <a:pt x="804" y="848"/>
                  </a:lnTo>
                  <a:lnTo>
                    <a:pt x="170" y="912"/>
                  </a:lnTo>
                  <a:lnTo>
                    <a:pt x="550" y="1257"/>
                  </a:lnTo>
                  <a:lnTo>
                    <a:pt x="0" y="1477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1280" y="2349000"/>
              <a:ext cx="13014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Adaptação da interface ao  tipo de dispos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44520" y="1125360"/>
            <a:ext cx="936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Perfil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ecução distribuída multi-institucion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tivo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usca de desempenho e flexibilidade na inter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905120"/>
            <a:ext cx="430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61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terface gr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ＭＳ Ｐゴシック"/>
              </a:rPr>
              <a:t>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391520" y="2362320"/>
            <a:ext cx="1519200" cy="606240"/>
            <a:chOff x="7391520" y="2362320"/>
            <a:chExt cx="1519200" cy="606240"/>
          </a:xfrm>
        </p:grpSpPr>
        <p:sp>
          <p:nvSpPr>
            <p:cNvPr id="251" name=""/>
            <p:cNvSpPr/>
            <p:nvPr/>
          </p:nvSpPr>
          <p:spPr>
            <a:xfrm>
              <a:off x="7391520" y="2362320"/>
              <a:ext cx="1519200" cy="606240"/>
            </a:xfrm>
            <a:custGeom>
              <a:avLst/>
              <a:gdLst/>
              <a:ahLst/>
              <a:rect l="l" t="t" r="r" b="b"/>
              <a:pathLst>
                <a:path w="4225" h="1690">
                  <a:moveTo>
                    <a:pt x="4224" y="1689"/>
                  </a:moveTo>
                  <a:lnTo>
                    <a:pt x="568" y="1689"/>
                  </a:lnTo>
                  <a:lnTo>
                    <a:pt x="0" y="844"/>
                  </a:lnTo>
                  <a:lnTo>
                    <a:pt x="568" y="0"/>
                  </a:lnTo>
                  <a:lnTo>
                    <a:pt x="4224" y="0"/>
                  </a:lnTo>
                  <a:lnTo>
                    <a:pt x="3656" y="844"/>
                  </a:lnTo>
                  <a:lnTo>
                    <a:pt x="4224" y="1689"/>
                  </a:lnTo>
                </a:path>
              </a:pathLst>
            </a:custGeom>
            <a:solidFill>
              <a:srgbClr val="8f8fd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391520" y="2362320"/>
              <a:ext cx="1515960" cy="603000"/>
              <a:chOff x="7391520" y="2362320"/>
              <a:chExt cx="1515960" cy="603000"/>
            </a:xfrm>
          </p:grpSpPr>
          <p:sp>
            <p:nvSpPr>
              <p:cNvPr id="253" name=""/>
              <p:cNvSpPr/>
              <p:nvPr/>
            </p:nvSpPr>
            <p:spPr>
              <a:xfrm>
                <a:off x="7391520" y="2362320"/>
                <a:ext cx="1515960" cy="60300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91520" y="2373480"/>
                <a:ext cx="151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aptaç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ão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Func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5" name=""/>
          <p:cNvCxnSpPr/>
          <p:nvPr/>
        </p:nvCxnSpPr>
        <p:spPr>
          <a:xfrm>
            <a:off x="5257440" y="3733560"/>
            <a:ext cx="2265840" cy="8262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262080" y="67320"/>
            <a:ext cx="9556560" cy="776520"/>
            <a:chOff x="262080" y="67320"/>
            <a:chExt cx="9556560" cy="776520"/>
          </a:xfrm>
        </p:grpSpPr>
        <p:sp>
          <p:nvSpPr>
            <p:cNvPr id="257" name=""/>
            <p:cNvSpPr/>
            <p:nvPr/>
          </p:nvSpPr>
          <p:spPr>
            <a:xfrm>
              <a:off x="262080" y="75960"/>
              <a:ext cx="955656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080" y="67320"/>
              <a:ext cx="95565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DEp: c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rios de utilização por exemplos</a:t>
              </a:r>
              <a:r>
                <a:rPr b="1" lang="en-US" sz="3600" spc="-1" strike="noStrike">
                  <a:solidFill>
                    <a:srgbClr val="003366"/>
                  </a:solidFill>
                  <a:latin typeface="Monotype Corsiva"/>
                </a:rPr>
                <a:t> </a:t>
              </a:r>
              <a:br>
                <a:rPr sz="44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 Aplicação Gen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595440" y="2427120"/>
          <a:ext cx="414792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427120"/>
                    <a:ext cx="41479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300640" y="2392200"/>
          <a:ext cx="4148280" cy="31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0640" y="2392200"/>
                    <a:ext cx="41482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592200" y="1498680"/>
            <a:ext cx="430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61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omportamento da distrib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4120" y="4365000"/>
            <a:ext cx="2058840" cy="448920"/>
            <a:chOff x="2724120" y="4365000"/>
            <a:chExt cx="2058840" cy="448920"/>
          </a:xfrm>
        </p:grpSpPr>
        <p:sp>
          <p:nvSpPr>
            <p:cNvPr id="265" name=""/>
            <p:cNvSpPr/>
            <p:nvPr/>
          </p:nvSpPr>
          <p:spPr>
            <a:xfrm>
              <a:off x="2724120" y="4410000"/>
              <a:ext cx="2058840" cy="360360"/>
            </a:xfrm>
            <a:prstGeom prst="roundRect">
              <a:avLst>
                <a:gd name="adj" fmla="val 440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2724120" y="4365000"/>
              <a:ext cx="2055600" cy="448920"/>
              <a:chOff x="2724120" y="4365000"/>
              <a:chExt cx="2055600" cy="448920"/>
            </a:xfrm>
          </p:grpSpPr>
          <p:sp>
            <p:nvSpPr>
              <p:cNvPr id="267" name=""/>
              <p:cNvSpPr/>
              <p:nvPr/>
            </p:nvSpPr>
            <p:spPr>
              <a:xfrm>
                <a:off x="2724120" y="4409640"/>
                <a:ext cx="2055600" cy="357480"/>
              </a:xfrm>
              <a:prstGeom prst="roundRect">
                <a:avLst>
                  <a:gd name="adj" fmla="val 4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24120" y="4365000"/>
                <a:ext cx="205560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2 instanciação remota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do GeneAl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6465960" y="4495680"/>
            <a:ext cx="2170080" cy="532080"/>
            <a:chOff x="6465960" y="4495680"/>
            <a:chExt cx="2170080" cy="532080"/>
          </a:xfrm>
        </p:grpSpPr>
        <p:sp>
          <p:nvSpPr>
            <p:cNvPr id="270" name=""/>
            <p:cNvSpPr/>
            <p:nvPr/>
          </p:nvSpPr>
          <p:spPr>
            <a:xfrm>
              <a:off x="6465960" y="4495680"/>
              <a:ext cx="2170080" cy="532080"/>
            </a:xfrm>
            <a:prstGeom prst="roundRect">
              <a:avLst>
                <a:gd name="adj" fmla="val 296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5960" y="4495680"/>
              <a:ext cx="217008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4 ativação dos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 GeneAl Wor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15120" y="2832120"/>
            <a:ext cx="2168640" cy="754200"/>
            <a:chOff x="6315120" y="2832120"/>
            <a:chExt cx="2168640" cy="754200"/>
          </a:xfrm>
        </p:grpSpPr>
        <p:sp>
          <p:nvSpPr>
            <p:cNvPr id="273" name=""/>
            <p:cNvSpPr/>
            <p:nvPr/>
          </p:nvSpPr>
          <p:spPr>
            <a:xfrm>
              <a:off x="6315120" y="2832120"/>
              <a:ext cx="2168640" cy="754200"/>
            </a:xfrm>
            <a:prstGeom prst="roundRect">
              <a:avLst>
                <a:gd name="adj" fmla="val 208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15120" y="2832120"/>
              <a:ext cx="21686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3 instanciação remota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dos entes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GeneAl 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02680" y="723960"/>
            <a:ext cx="2100240" cy="1773000"/>
            <a:chOff x="7402680" y="723960"/>
            <a:chExt cx="2100240" cy="1773000"/>
          </a:xfrm>
        </p:grpSpPr>
        <p:sp>
          <p:nvSpPr>
            <p:cNvPr id="276" name=""/>
            <p:cNvSpPr/>
            <p:nvPr/>
          </p:nvSpPr>
          <p:spPr>
            <a:xfrm>
              <a:off x="7402680" y="723960"/>
              <a:ext cx="2100240" cy="1773000"/>
            </a:xfrm>
            <a:custGeom>
              <a:avLst/>
              <a:gdLst/>
              <a:ahLst/>
              <a:rect l="l" t="t" r="r" b="b"/>
              <a:pathLst>
                <a:path w="5839" h="4931">
                  <a:moveTo>
                    <a:pt x="0" y="2465"/>
                  </a:moveTo>
                  <a:lnTo>
                    <a:pt x="719" y="2835"/>
                  </a:lnTo>
                  <a:lnTo>
                    <a:pt x="222" y="3408"/>
                  </a:lnTo>
                  <a:lnTo>
                    <a:pt x="1054" y="3517"/>
                  </a:lnTo>
                  <a:lnTo>
                    <a:pt x="854" y="4208"/>
                  </a:lnTo>
                  <a:lnTo>
                    <a:pt x="1674" y="4041"/>
                  </a:lnTo>
                  <a:lnTo>
                    <a:pt x="1801" y="4741"/>
                  </a:lnTo>
                  <a:lnTo>
                    <a:pt x="2483" y="4323"/>
                  </a:lnTo>
                  <a:lnTo>
                    <a:pt x="2919" y="4930"/>
                  </a:lnTo>
                  <a:lnTo>
                    <a:pt x="3359" y="4322"/>
                  </a:lnTo>
                  <a:lnTo>
                    <a:pt x="4036" y="4741"/>
                  </a:lnTo>
                  <a:lnTo>
                    <a:pt x="4166" y="4039"/>
                  </a:lnTo>
                  <a:lnTo>
                    <a:pt x="4983" y="4208"/>
                  </a:lnTo>
                  <a:lnTo>
                    <a:pt x="4785" y="3515"/>
                  </a:lnTo>
                  <a:lnTo>
                    <a:pt x="5615" y="3408"/>
                  </a:lnTo>
                  <a:lnTo>
                    <a:pt x="5119" y="2832"/>
                  </a:lnTo>
                  <a:lnTo>
                    <a:pt x="5838" y="2465"/>
                  </a:lnTo>
                  <a:lnTo>
                    <a:pt x="5118" y="2094"/>
                  </a:lnTo>
                  <a:lnTo>
                    <a:pt x="5615" y="1521"/>
                  </a:lnTo>
                  <a:lnTo>
                    <a:pt x="4783" y="1412"/>
                  </a:lnTo>
                  <a:lnTo>
                    <a:pt x="4983" y="721"/>
                  </a:lnTo>
                  <a:lnTo>
                    <a:pt x="4162" y="888"/>
                  </a:lnTo>
                  <a:lnTo>
                    <a:pt x="4036" y="188"/>
                  </a:lnTo>
                  <a:lnTo>
                    <a:pt x="3354" y="606"/>
                  </a:lnTo>
                  <a:lnTo>
                    <a:pt x="2919" y="0"/>
                  </a:lnTo>
                  <a:lnTo>
                    <a:pt x="2478" y="607"/>
                  </a:lnTo>
                  <a:lnTo>
                    <a:pt x="1801" y="188"/>
                  </a:lnTo>
                  <a:lnTo>
                    <a:pt x="1671" y="890"/>
                  </a:lnTo>
                  <a:lnTo>
                    <a:pt x="854" y="721"/>
                  </a:lnTo>
                  <a:lnTo>
                    <a:pt x="1052" y="1414"/>
                  </a:lnTo>
                  <a:lnTo>
                    <a:pt x="222" y="1521"/>
                  </a:lnTo>
                  <a:lnTo>
                    <a:pt x="718" y="2097"/>
                  </a:lnTo>
                  <a:lnTo>
                    <a:pt x="0" y="2465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14880" y="1028520"/>
              <a:ext cx="13053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Descoberta de recursos: </a:t>
              </a:r>
              <a:r>
                <a:rPr b="0" lang="en-US" sz="1000" spc="-1" strike="noStrike">
                  <a:solidFill>
                    <a:srgbClr val="3333cc"/>
                  </a:solidFill>
                  <a:latin typeface="Tahoma"/>
                </a:rPr>
                <a:t>localização de banco de genes em ambiente multi-institu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934320" y="5067360"/>
            <a:ext cx="2966760" cy="1660680"/>
            <a:chOff x="6934320" y="5067360"/>
            <a:chExt cx="2966760" cy="1660680"/>
          </a:xfrm>
        </p:grpSpPr>
        <p:sp>
          <p:nvSpPr>
            <p:cNvPr id="279" name=""/>
            <p:cNvSpPr/>
            <p:nvPr/>
          </p:nvSpPr>
          <p:spPr>
            <a:xfrm>
              <a:off x="6934320" y="5067360"/>
              <a:ext cx="2966760" cy="1660680"/>
            </a:xfrm>
            <a:custGeom>
              <a:avLst/>
              <a:gdLst/>
              <a:ahLst/>
              <a:rect l="l" t="t" r="r" b="b"/>
              <a:pathLst>
                <a:path w="8247" h="4617">
                  <a:moveTo>
                    <a:pt x="0" y="2307"/>
                  </a:moveTo>
                  <a:lnTo>
                    <a:pt x="1016" y="2654"/>
                  </a:lnTo>
                  <a:lnTo>
                    <a:pt x="313" y="3190"/>
                  </a:lnTo>
                  <a:lnTo>
                    <a:pt x="1488" y="3295"/>
                  </a:lnTo>
                  <a:lnTo>
                    <a:pt x="1206" y="3939"/>
                  </a:lnTo>
                  <a:lnTo>
                    <a:pt x="2366" y="3782"/>
                  </a:lnTo>
                  <a:lnTo>
                    <a:pt x="2544" y="4439"/>
                  </a:lnTo>
                  <a:lnTo>
                    <a:pt x="3507" y="4047"/>
                  </a:lnTo>
                  <a:lnTo>
                    <a:pt x="4123" y="4616"/>
                  </a:lnTo>
                  <a:lnTo>
                    <a:pt x="4745" y="4046"/>
                  </a:lnTo>
                  <a:lnTo>
                    <a:pt x="5702" y="4439"/>
                  </a:lnTo>
                  <a:lnTo>
                    <a:pt x="5885" y="3781"/>
                  </a:lnTo>
                  <a:lnTo>
                    <a:pt x="7040" y="3939"/>
                  </a:lnTo>
                  <a:lnTo>
                    <a:pt x="6759" y="3292"/>
                  </a:lnTo>
                  <a:lnTo>
                    <a:pt x="7933" y="3190"/>
                  </a:lnTo>
                  <a:lnTo>
                    <a:pt x="7232" y="2652"/>
                  </a:lnTo>
                  <a:lnTo>
                    <a:pt x="8246" y="2307"/>
                  </a:lnTo>
                  <a:lnTo>
                    <a:pt x="7230" y="1959"/>
                  </a:lnTo>
                  <a:lnTo>
                    <a:pt x="7933" y="1424"/>
                  </a:lnTo>
                  <a:lnTo>
                    <a:pt x="6758" y="1320"/>
                  </a:lnTo>
                  <a:lnTo>
                    <a:pt x="7040" y="674"/>
                  </a:lnTo>
                  <a:lnTo>
                    <a:pt x="5880" y="831"/>
                  </a:lnTo>
                  <a:lnTo>
                    <a:pt x="5702" y="175"/>
                  </a:lnTo>
                  <a:lnTo>
                    <a:pt x="4739" y="565"/>
                  </a:lnTo>
                  <a:lnTo>
                    <a:pt x="4123" y="0"/>
                  </a:lnTo>
                  <a:lnTo>
                    <a:pt x="3501" y="566"/>
                  </a:lnTo>
                  <a:lnTo>
                    <a:pt x="2544" y="175"/>
                  </a:lnTo>
                  <a:lnTo>
                    <a:pt x="2361" y="832"/>
                  </a:lnTo>
                  <a:lnTo>
                    <a:pt x="1206" y="674"/>
                  </a:lnTo>
                  <a:lnTo>
                    <a:pt x="1487" y="1322"/>
                  </a:lnTo>
                  <a:lnTo>
                    <a:pt x="313" y="1424"/>
                  </a:lnTo>
                  <a:lnTo>
                    <a:pt x="1014" y="1961"/>
                  </a:lnTo>
                  <a:lnTo>
                    <a:pt x="0" y="2307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37240" y="5310000"/>
              <a:ext cx="20732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62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Mobilidade e instanciaç</a:t>
              </a:r>
              <a:r>
                <a:rPr b="1" lang="en-US" sz="1000" spc="-1" strike="noStrike">
                  <a:solidFill>
                    <a:srgbClr val="3333cc"/>
                  </a:solidFill>
                  <a:latin typeface="Tahoma"/>
                  <a:ea typeface="ＭＳ Ｐゴシック"/>
                </a:rPr>
                <a:t>ão remota de código</a:t>
              </a:r>
              <a:r>
                <a:rPr b="1" lang="en-US" sz="1000" spc="-1" strike="noStrike">
                  <a:solidFill>
                    <a:srgbClr val="3333cc"/>
                  </a:solidFill>
                  <a:latin typeface="Tahoma"/>
                </a:rPr>
                <a:t>: </a:t>
              </a:r>
              <a:r>
                <a:rPr b="0" lang="en-US" sz="1000" spc="-1" strike="noStrike">
                  <a:solidFill>
                    <a:srgbClr val="3333cc"/>
                  </a:solidFill>
                  <a:latin typeface="Tahoma"/>
                </a:rPr>
                <a:t>os componentes a aplicaç</a:t>
              </a:r>
              <a:r>
                <a:rPr b="0" lang="en-US" sz="1000" spc="-1" strike="noStrike">
                  <a:solidFill>
                    <a:srgbClr val="3333cc"/>
                  </a:solidFill>
                  <a:latin typeface="Tahoma"/>
                  <a:ea typeface="ＭＳ Ｐゴシック"/>
                </a:rPr>
                <a:t>ão são ativados em nodos distribuí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24120" y="2857680"/>
            <a:ext cx="1920960" cy="309240"/>
            <a:chOff x="2724120" y="2857680"/>
            <a:chExt cx="1920960" cy="309240"/>
          </a:xfrm>
        </p:grpSpPr>
        <p:sp>
          <p:nvSpPr>
            <p:cNvPr id="282" name=""/>
            <p:cNvSpPr/>
            <p:nvPr/>
          </p:nvSpPr>
          <p:spPr>
            <a:xfrm>
              <a:off x="2724120" y="2857680"/>
              <a:ext cx="1920960" cy="309240"/>
            </a:xfrm>
            <a:prstGeom prst="roundRect">
              <a:avLst>
                <a:gd name="adj" fmla="val 509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4120" y="2857680"/>
              <a:ext cx="1920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1 disparo aplic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48320" y="5486400"/>
            <a:ext cx="2280960" cy="909720"/>
            <a:chOff x="4648320" y="5486400"/>
            <a:chExt cx="2280960" cy="909720"/>
          </a:xfrm>
        </p:grpSpPr>
        <p:sp>
          <p:nvSpPr>
            <p:cNvPr id="285" name=""/>
            <p:cNvSpPr/>
            <p:nvPr/>
          </p:nvSpPr>
          <p:spPr>
            <a:xfrm>
              <a:off x="4648320" y="5486400"/>
              <a:ext cx="2280960" cy="909720"/>
            </a:xfrm>
            <a:custGeom>
              <a:avLst/>
              <a:gdLst/>
              <a:ahLst/>
              <a:rect l="l" t="t" r="r" b="b"/>
              <a:pathLst>
                <a:path w="6342" h="2532">
                  <a:moveTo>
                    <a:pt x="0" y="0"/>
                  </a:moveTo>
                  <a:lnTo>
                    <a:pt x="5569" y="0"/>
                  </a:lnTo>
                  <a:lnTo>
                    <a:pt x="6341" y="1265"/>
                  </a:lnTo>
                  <a:lnTo>
                    <a:pt x="5569" y="2531"/>
                  </a:lnTo>
                  <a:lnTo>
                    <a:pt x="0" y="2531"/>
                  </a:lnTo>
                  <a:lnTo>
                    <a:pt x="772" y="1265"/>
                  </a:lnTo>
                  <a:lnTo>
                    <a:pt x="0" y="0"/>
                  </a:lnTo>
                </a:path>
              </a:pathLst>
            </a:custGeom>
            <a:solidFill>
              <a:srgbClr val="8f8fda"/>
            </a:solidFill>
            <a:ln w="9360">
              <a:solidFill>
                <a:srgbClr val="fdff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648320" y="5486400"/>
              <a:ext cx="2277720" cy="906480"/>
              <a:chOff x="4648320" y="5486400"/>
              <a:chExt cx="2277720" cy="906480"/>
            </a:xfrm>
          </p:grpSpPr>
          <p:sp>
            <p:nvSpPr>
              <p:cNvPr id="287" name=""/>
              <p:cNvSpPr/>
              <p:nvPr/>
            </p:nvSpPr>
            <p:spPr>
              <a:xfrm>
                <a:off x="4648320" y="5486400"/>
                <a:ext cx="2277720" cy="906480"/>
              </a:xfrm>
              <a:prstGeom prst="roundRect">
                <a:avLst>
                  <a:gd name="adj" fmla="val 1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48320" y="5527440"/>
                <a:ext cx="2277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aptaç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ã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não-funcion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(escalonament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 Grade Pervasi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ários de utilização por exempl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idades do GRADE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plicações Típica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O GRADEp na RN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8160" y="1366560"/>
            <a:ext cx="454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438280" y="-28800"/>
            <a:ext cx="7462800" cy="814680"/>
            <a:chOff x="2438280" y="-28800"/>
            <a:chExt cx="7462800" cy="814680"/>
          </a:xfrm>
        </p:grpSpPr>
        <p:sp>
          <p:nvSpPr>
            <p:cNvPr id="294" name=""/>
            <p:cNvSpPr/>
            <p:nvPr/>
          </p:nvSpPr>
          <p:spPr>
            <a:xfrm>
              <a:off x="2438280" y="0"/>
              <a:ext cx="746280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8280" y="-28800"/>
              <a:ext cx="746280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ts val="2837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uncionalidades do GRADEp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Organizaç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  <a:ea typeface="ＭＳ Ｐゴシック"/>
                </a:rPr>
                <a:t>ão em 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úcleo Mínim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00160" y="5094360"/>
            <a:ext cx="583236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74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Tahoma"/>
              </a:rPr>
              <a:t>Supre os requisito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Tahoma"/>
              </a:rPr>
              <a:t>Adaptação ao contexto (tipo de recurs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Tahoma"/>
              </a:rPr>
              <a:t>Economia de recursos (instalação sob demand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3240" y="184140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Serviços Adaptativ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erfis 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profile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) definem qual instância do serviço será usada em um dispositivo específico através do processo de adaptação em tempo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O serviço pode adaptar-se também considerando o contexto dinâmico como estado da conectividade através do processo de adaptação em tempo de exec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0880" y="1492200"/>
            <a:ext cx="38102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809880" cy="3537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32200" y="1668600"/>
            <a:ext cx="5800680" cy="2199960"/>
          </a:xfrm>
          <a:custGeom>
            <a:avLst/>
            <a:gdLst/>
            <a:ahLst/>
            <a:rect l="l" t="t" r="r" b="b"/>
            <a:pathLst>
              <a:path w="16114" h="6111">
                <a:moveTo>
                  <a:pt x="0" y="730"/>
                </a:moveTo>
                <a:cubicBezTo>
                  <a:pt x="0" y="365"/>
                  <a:pt x="1155" y="0"/>
                  <a:pt x="2311" y="0"/>
                </a:cubicBezTo>
                <a:lnTo>
                  <a:pt x="13800" y="0"/>
                </a:lnTo>
                <a:cubicBezTo>
                  <a:pt x="14956" y="0"/>
                  <a:pt x="16113" y="365"/>
                  <a:pt x="16113" y="730"/>
                </a:cubicBezTo>
                <a:lnTo>
                  <a:pt x="16113" y="4359"/>
                </a:lnTo>
                <a:cubicBezTo>
                  <a:pt x="16113" y="4724"/>
                  <a:pt x="14956" y="5089"/>
                  <a:pt x="13800" y="5089"/>
                </a:cubicBezTo>
                <a:lnTo>
                  <a:pt x="6787" y="5089"/>
                </a:lnTo>
                <a:lnTo>
                  <a:pt x="968" y="6110"/>
                </a:lnTo>
                <a:lnTo>
                  <a:pt x="2610" y="5089"/>
                </a:lnTo>
                <a:cubicBezTo>
                  <a:pt x="1304" y="5089"/>
                  <a:pt x="0" y="4736"/>
                  <a:pt x="0" y="4383"/>
                </a:cubicBezTo>
                <a:lnTo>
                  <a:pt x="0" y="73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878280" y="1897200"/>
          <a:ext cx="5753160" cy="147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8280" y="1897200"/>
                    <a:ext cx="575316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4160880" y="4581360"/>
            <a:ext cx="51832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25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re os requisitos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Adaptação ao contexto (tipo de recurs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Economia de recursos (instalação sob demand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38280" y="-28800"/>
            <a:ext cx="7462800" cy="814680"/>
            <a:chOff x="2438280" y="-28800"/>
            <a:chExt cx="7462800" cy="814680"/>
          </a:xfrm>
        </p:grpSpPr>
        <p:sp>
          <p:nvSpPr>
            <p:cNvPr id="307" name=""/>
            <p:cNvSpPr/>
            <p:nvPr/>
          </p:nvSpPr>
          <p:spPr>
            <a:xfrm>
              <a:off x="2438280" y="0"/>
              <a:ext cx="746280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280" y="-28800"/>
              <a:ext cx="746280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ts val="2837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uncionalidades do GRADEp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Organizaç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  <a:ea typeface="ＭＳ Ｐゴシック"/>
                </a:rPr>
                <a:t>ão em 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úcleo Mínim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7075440" y="2511360"/>
            <a:ext cx="723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454720" y="3720960"/>
            <a:ext cx="1949400" cy="22939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548320" y="1409760"/>
            <a:ext cx="1609200" cy="1645920"/>
            <a:chOff x="5548320" y="1409760"/>
            <a:chExt cx="1609200" cy="1645920"/>
          </a:xfrm>
        </p:grpSpPr>
        <p:sp>
          <p:nvSpPr>
            <p:cNvPr id="312" name=""/>
            <p:cNvSpPr/>
            <p:nvPr/>
          </p:nvSpPr>
          <p:spPr>
            <a:xfrm>
              <a:off x="5564160" y="1430280"/>
              <a:ext cx="1587600" cy="1608120"/>
            </a:xfrm>
            <a:custGeom>
              <a:avLst/>
              <a:gdLst/>
              <a:ahLst/>
              <a:rect l="l" t="t" r="r" b="b"/>
              <a:pathLst>
                <a:path w="4411" h="4468">
                  <a:moveTo>
                    <a:pt x="823" y="2980"/>
                  </a:moveTo>
                  <a:lnTo>
                    <a:pt x="484" y="3268"/>
                  </a:lnTo>
                  <a:lnTo>
                    <a:pt x="58" y="3619"/>
                  </a:lnTo>
                  <a:lnTo>
                    <a:pt x="58" y="3916"/>
                  </a:lnTo>
                  <a:lnTo>
                    <a:pt x="128" y="4467"/>
                  </a:lnTo>
                  <a:lnTo>
                    <a:pt x="840" y="4443"/>
                  </a:lnTo>
                  <a:lnTo>
                    <a:pt x="1640" y="4354"/>
                  </a:lnTo>
                  <a:lnTo>
                    <a:pt x="2838" y="4338"/>
                  </a:lnTo>
                  <a:lnTo>
                    <a:pt x="3730" y="4354"/>
                  </a:lnTo>
                  <a:lnTo>
                    <a:pt x="4036" y="3820"/>
                  </a:lnTo>
                  <a:lnTo>
                    <a:pt x="4410" y="2764"/>
                  </a:lnTo>
                  <a:lnTo>
                    <a:pt x="4343" y="2436"/>
                  </a:lnTo>
                  <a:lnTo>
                    <a:pt x="4206" y="2309"/>
                  </a:lnTo>
                  <a:lnTo>
                    <a:pt x="3807" y="2333"/>
                  </a:lnTo>
                  <a:lnTo>
                    <a:pt x="3986" y="1534"/>
                  </a:lnTo>
                  <a:lnTo>
                    <a:pt x="4011" y="1277"/>
                  </a:lnTo>
                  <a:lnTo>
                    <a:pt x="3917" y="654"/>
                  </a:lnTo>
                  <a:lnTo>
                    <a:pt x="3825" y="199"/>
                  </a:lnTo>
                  <a:lnTo>
                    <a:pt x="3653" y="0"/>
                  </a:lnTo>
                  <a:lnTo>
                    <a:pt x="3536" y="0"/>
                  </a:lnTo>
                  <a:lnTo>
                    <a:pt x="3212" y="47"/>
                  </a:lnTo>
                  <a:lnTo>
                    <a:pt x="2686" y="71"/>
                  </a:lnTo>
                  <a:lnTo>
                    <a:pt x="2345" y="24"/>
                  </a:lnTo>
                  <a:lnTo>
                    <a:pt x="1979" y="7"/>
                  </a:lnTo>
                  <a:lnTo>
                    <a:pt x="1834" y="40"/>
                  </a:lnTo>
                  <a:lnTo>
                    <a:pt x="1530" y="176"/>
                  </a:lnTo>
                  <a:lnTo>
                    <a:pt x="1062" y="295"/>
                  </a:lnTo>
                  <a:lnTo>
                    <a:pt x="467" y="487"/>
                  </a:lnTo>
                  <a:lnTo>
                    <a:pt x="245" y="607"/>
                  </a:lnTo>
                  <a:lnTo>
                    <a:pt x="43" y="822"/>
                  </a:lnTo>
                  <a:lnTo>
                    <a:pt x="0" y="1127"/>
                  </a:lnTo>
                  <a:lnTo>
                    <a:pt x="0" y="1637"/>
                  </a:lnTo>
                  <a:lnTo>
                    <a:pt x="25" y="2237"/>
                  </a:lnTo>
                  <a:lnTo>
                    <a:pt x="68" y="2597"/>
                  </a:lnTo>
                  <a:lnTo>
                    <a:pt x="153" y="2797"/>
                  </a:lnTo>
                  <a:lnTo>
                    <a:pt x="297" y="2909"/>
                  </a:lnTo>
                  <a:lnTo>
                    <a:pt x="459" y="2949"/>
                  </a:lnTo>
                  <a:lnTo>
                    <a:pt x="823" y="298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6440" y="1720800"/>
              <a:ext cx="930600" cy="666720"/>
            </a:xfrm>
            <a:custGeom>
              <a:avLst/>
              <a:gdLst/>
              <a:ahLst/>
              <a:rect l="l" t="t" r="r" b="b"/>
              <a:pathLst>
                <a:path w="2585" h="1853">
                  <a:moveTo>
                    <a:pt x="8" y="501"/>
                  </a:moveTo>
                  <a:lnTo>
                    <a:pt x="33" y="158"/>
                  </a:lnTo>
                  <a:lnTo>
                    <a:pt x="93" y="62"/>
                  </a:lnTo>
                  <a:lnTo>
                    <a:pt x="245" y="22"/>
                  </a:lnTo>
                  <a:lnTo>
                    <a:pt x="892" y="6"/>
                  </a:lnTo>
                  <a:lnTo>
                    <a:pt x="1674" y="0"/>
                  </a:lnTo>
                  <a:lnTo>
                    <a:pt x="2133" y="6"/>
                  </a:lnTo>
                  <a:lnTo>
                    <a:pt x="2245" y="70"/>
                  </a:lnTo>
                  <a:lnTo>
                    <a:pt x="2329" y="198"/>
                  </a:lnTo>
                  <a:lnTo>
                    <a:pt x="2439" y="742"/>
                  </a:lnTo>
                  <a:lnTo>
                    <a:pt x="2559" y="1357"/>
                  </a:lnTo>
                  <a:lnTo>
                    <a:pt x="2584" y="1732"/>
                  </a:lnTo>
                  <a:lnTo>
                    <a:pt x="2541" y="1796"/>
                  </a:lnTo>
                  <a:lnTo>
                    <a:pt x="2404" y="1852"/>
                  </a:lnTo>
                  <a:lnTo>
                    <a:pt x="1724" y="1836"/>
                  </a:lnTo>
                  <a:lnTo>
                    <a:pt x="680" y="1788"/>
                  </a:lnTo>
                  <a:lnTo>
                    <a:pt x="170" y="1740"/>
                  </a:lnTo>
                  <a:lnTo>
                    <a:pt x="93" y="1644"/>
                  </a:lnTo>
                  <a:lnTo>
                    <a:pt x="43" y="1452"/>
                  </a:lnTo>
                  <a:lnTo>
                    <a:pt x="0" y="973"/>
                  </a:lnTo>
                  <a:lnTo>
                    <a:pt x="8" y="501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548320" y="1409760"/>
              <a:ext cx="1609200" cy="1645920"/>
              <a:chOff x="5548320" y="1409760"/>
              <a:chExt cx="1609200" cy="1645920"/>
            </a:xfrm>
          </p:grpSpPr>
          <p:sp>
            <p:nvSpPr>
              <p:cNvPr id="315" name=""/>
              <p:cNvSpPr/>
              <p:nvPr/>
            </p:nvSpPr>
            <p:spPr>
              <a:xfrm>
                <a:off x="5563800" y="2238840"/>
                <a:ext cx="1593720" cy="816840"/>
              </a:xfrm>
              <a:custGeom>
                <a:avLst/>
                <a:gdLst/>
                <a:ahLst/>
                <a:rect l="l" t="t" r="r" b="b"/>
                <a:pathLst>
                  <a:path w="4433" h="2270">
                    <a:moveTo>
                      <a:pt x="0" y="1365"/>
                    </a:moveTo>
                    <a:lnTo>
                      <a:pt x="544" y="918"/>
                    </a:lnTo>
                    <a:lnTo>
                      <a:pt x="561" y="1021"/>
                    </a:lnTo>
                    <a:lnTo>
                      <a:pt x="187" y="1342"/>
                    </a:lnTo>
                    <a:lnTo>
                      <a:pt x="839" y="1318"/>
                    </a:lnTo>
                    <a:lnTo>
                      <a:pt x="2242" y="1318"/>
                    </a:lnTo>
                    <a:lnTo>
                      <a:pt x="2981" y="1270"/>
                    </a:lnTo>
                    <a:lnTo>
                      <a:pt x="3439" y="1183"/>
                    </a:lnTo>
                    <a:lnTo>
                      <a:pt x="3558" y="1160"/>
                    </a:lnTo>
                    <a:lnTo>
                      <a:pt x="4102" y="127"/>
                    </a:lnTo>
                    <a:lnTo>
                      <a:pt x="3846" y="54"/>
                    </a:lnTo>
                    <a:lnTo>
                      <a:pt x="4228" y="0"/>
                    </a:lnTo>
                    <a:lnTo>
                      <a:pt x="4365" y="110"/>
                    </a:lnTo>
                    <a:lnTo>
                      <a:pt x="4432" y="494"/>
                    </a:lnTo>
                    <a:lnTo>
                      <a:pt x="4322" y="807"/>
                    </a:lnTo>
                    <a:lnTo>
                      <a:pt x="3965" y="1814"/>
                    </a:lnTo>
                    <a:lnTo>
                      <a:pt x="3804" y="2126"/>
                    </a:lnTo>
                    <a:lnTo>
                      <a:pt x="3650" y="2166"/>
                    </a:lnTo>
                    <a:lnTo>
                      <a:pt x="2530" y="2140"/>
                    </a:lnTo>
                    <a:lnTo>
                      <a:pt x="1350" y="2173"/>
                    </a:lnTo>
                    <a:lnTo>
                      <a:pt x="230" y="2253"/>
                    </a:lnTo>
                    <a:lnTo>
                      <a:pt x="68" y="2269"/>
                    </a:lnTo>
                    <a:lnTo>
                      <a:pt x="50" y="1965"/>
                    </a:lnTo>
                    <a:lnTo>
                      <a:pt x="25" y="1677"/>
                    </a:lnTo>
                    <a:lnTo>
                      <a:pt x="25" y="1518"/>
                    </a:lnTo>
                    <a:lnTo>
                      <a:pt x="110" y="1614"/>
                    </a:lnTo>
                    <a:lnTo>
                      <a:pt x="135" y="1855"/>
                    </a:lnTo>
                    <a:lnTo>
                      <a:pt x="170" y="2110"/>
                    </a:lnTo>
                    <a:lnTo>
                      <a:pt x="491" y="2149"/>
                    </a:lnTo>
                    <a:lnTo>
                      <a:pt x="1223" y="2086"/>
                    </a:lnTo>
                    <a:lnTo>
                      <a:pt x="1843" y="2037"/>
                    </a:lnTo>
                    <a:lnTo>
                      <a:pt x="2361" y="2037"/>
                    </a:lnTo>
                    <a:lnTo>
                      <a:pt x="3142" y="2037"/>
                    </a:lnTo>
                    <a:lnTo>
                      <a:pt x="3633" y="2037"/>
                    </a:lnTo>
                    <a:lnTo>
                      <a:pt x="3650" y="1895"/>
                    </a:lnTo>
                    <a:lnTo>
                      <a:pt x="3600" y="1606"/>
                    </a:lnTo>
                    <a:lnTo>
                      <a:pt x="3566" y="1295"/>
                    </a:lnTo>
                    <a:lnTo>
                      <a:pt x="3633" y="1365"/>
                    </a:lnTo>
                    <a:lnTo>
                      <a:pt x="3702" y="1720"/>
                    </a:lnTo>
                    <a:lnTo>
                      <a:pt x="3769" y="1895"/>
                    </a:lnTo>
                    <a:lnTo>
                      <a:pt x="3846" y="1807"/>
                    </a:lnTo>
                    <a:lnTo>
                      <a:pt x="3982" y="1461"/>
                    </a:lnTo>
                    <a:lnTo>
                      <a:pt x="4178" y="958"/>
                    </a:lnTo>
                    <a:lnTo>
                      <a:pt x="4322" y="560"/>
                    </a:lnTo>
                    <a:lnTo>
                      <a:pt x="4347" y="438"/>
                    </a:lnTo>
                    <a:lnTo>
                      <a:pt x="4280" y="150"/>
                    </a:lnTo>
                    <a:lnTo>
                      <a:pt x="4203" y="136"/>
                    </a:lnTo>
                    <a:lnTo>
                      <a:pt x="4052" y="471"/>
                    </a:lnTo>
                    <a:lnTo>
                      <a:pt x="3794" y="911"/>
                    </a:lnTo>
                    <a:lnTo>
                      <a:pt x="3600" y="1247"/>
                    </a:lnTo>
                    <a:lnTo>
                      <a:pt x="3414" y="1302"/>
                    </a:lnTo>
                    <a:lnTo>
                      <a:pt x="2734" y="1382"/>
                    </a:lnTo>
                    <a:lnTo>
                      <a:pt x="1934" y="1431"/>
                    </a:lnTo>
                    <a:lnTo>
                      <a:pt x="1146" y="1431"/>
                    </a:lnTo>
                    <a:lnTo>
                      <a:pt x="254" y="1438"/>
                    </a:lnTo>
                    <a:lnTo>
                      <a:pt x="0" y="13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57560" y="2518200"/>
                <a:ext cx="825840" cy="177480"/>
              </a:xfrm>
              <a:custGeom>
                <a:avLst/>
                <a:gdLst/>
                <a:ahLst/>
                <a:rect l="l" t="t" r="r" b="b"/>
                <a:pathLst>
                  <a:path w="2296" h="494">
                    <a:moveTo>
                      <a:pt x="50" y="80"/>
                    </a:moveTo>
                    <a:lnTo>
                      <a:pt x="212" y="0"/>
                    </a:lnTo>
                    <a:lnTo>
                      <a:pt x="289" y="23"/>
                    </a:lnTo>
                    <a:lnTo>
                      <a:pt x="237" y="126"/>
                    </a:lnTo>
                    <a:lnTo>
                      <a:pt x="118" y="198"/>
                    </a:lnTo>
                    <a:lnTo>
                      <a:pt x="349" y="310"/>
                    </a:lnTo>
                    <a:lnTo>
                      <a:pt x="697" y="318"/>
                    </a:lnTo>
                    <a:lnTo>
                      <a:pt x="994" y="294"/>
                    </a:lnTo>
                    <a:lnTo>
                      <a:pt x="1215" y="271"/>
                    </a:lnTo>
                    <a:lnTo>
                      <a:pt x="1616" y="238"/>
                    </a:lnTo>
                    <a:lnTo>
                      <a:pt x="1878" y="214"/>
                    </a:lnTo>
                    <a:lnTo>
                      <a:pt x="2049" y="166"/>
                    </a:lnTo>
                    <a:lnTo>
                      <a:pt x="2211" y="71"/>
                    </a:lnTo>
                    <a:lnTo>
                      <a:pt x="2201" y="0"/>
                    </a:lnTo>
                    <a:lnTo>
                      <a:pt x="2295" y="23"/>
                    </a:lnTo>
                    <a:lnTo>
                      <a:pt x="2269" y="262"/>
                    </a:lnTo>
                    <a:lnTo>
                      <a:pt x="2024" y="374"/>
                    </a:lnTo>
                    <a:lnTo>
                      <a:pt x="1479" y="397"/>
                    </a:lnTo>
                    <a:lnTo>
                      <a:pt x="935" y="454"/>
                    </a:lnTo>
                    <a:lnTo>
                      <a:pt x="612" y="493"/>
                    </a:lnTo>
                    <a:lnTo>
                      <a:pt x="237" y="397"/>
                    </a:lnTo>
                    <a:lnTo>
                      <a:pt x="50" y="350"/>
                    </a:lnTo>
                    <a:lnTo>
                      <a:pt x="0" y="214"/>
                    </a:lnTo>
                    <a:lnTo>
                      <a:pt x="5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29040" y="2816280"/>
                <a:ext cx="90000" cy="72720"/>
              </a:xfrm>
              <a:custGeom>
                <a:avLst/>
                <a:gdLst/>
                <a:ahLst/>
                <a:rect l="l" t="t" r="r" b="b"/>
                <a:pathLst>
                  <a:path w="250" h="204">
                    <a:moveTo>
                      <a:pt x="8" y="8"/>
                    </a:moveTo>
                    <a:lnTo>
                      <a:pt x="232" y="0"/>
                    </a:lnTo>
                    <a:lnTo>
                      <a:pt x="249" y="203"/>
                    </a:lnTo>
                    <a:lnTo>
                      <a:pt x="0" y="203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88880" y="2808360"/>
                <a:ext cx="85320" cy="72720"/>
              </a:xfrm>
              <a:custGeom>
                <a:avLst/>
                <a:gdLst/>
                <a:ahLst/>
                <a:rect l="l" t="t" r="r" b="b"/>
                <a:pathLst>
                  <a:path w="239" h="203">
                    <a:moveTo>
                      <a:pt x="6" y="6"/>
                    </a:moveTo>
                    <a:lnTo>
                      <a:pt x="220" y="0"/>
                    </a:lnTo>
                    <a:lnTo>
                      <a:pt x="238" y="202"/>
                    </a:lnTo>
                    <a:lnTo>
                      <a:pt x="0" y="202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10880" y="2784600"/>
                <a:ext cx="351720" cy="87120"/>
              </a:xfrm>
              <a:custGeom>
                <a:avLst/>
                <a:gdLst/>
                <a:ahLst/>
                <a:rect l="l" t="t" r="r" b="b"/>
                <a:pathLst>
                  <a:path w="979" h="243">
                    <a:moveTo>
                      <a:pt x="0" y="70"/>
                    </a:moveTo>
                    <a:lnTo>
                      <a:pt x="953" y="0"/>
                    </a:lnTo>
                    <a:lnTo>
                      <a:pt x="978" y="152"/>
                    </a:lnTo>
                    <a:lnTo>
                      <a:pt x="0" y="242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48320" y="1409760"/>
                <a:ext cx="1474560" cy="1095840"/>
              </a:xfrm>
              <a:custGeom>
                <a:avLst/>
                <a:gdLst/>
                <a:ahLst/>
                <a:rect l="l" t="t" r="r" b="b"/>
                <a:pathLst>
                  <a:path w="4101" h="3049">
                    <a:moveTo>
                      <a:pt x="337" y="2897"/>
                    </a:moveTo>
                    <a:lnTo>
                      <a:pt x="228" y="2792"/>
                    </a:lnTo>
                    <a:lnTo>
                      <a:pt x="151" y="2593"/>
                    </a:lnTo>
                    <a:lnTo>
                      <a:pt x="126" y="2171"/>
                    </a:lnTo>
                    <a:lnTo>
                      <a:pt x="126" y="1451"/>
                    </a:lnTo>
                    <a:lnTo>
                      <a:pt x="151" y="917"/>
                    </a:lnTo>
                    <a:lnTo>
                      <a:pt x="228" y="789"/>
                    </a:lnTo>
                    <a:lnTo>
                      <a:pt x="354" y="638"/>
                    </a:lnTo>
                    <a:lnTo>
                      <a:pt x="652" y="524"/>
                    </a:lnTo>
                    <a:lnTo>
                      <a:pt x="1194" y="364"/>
                    </a:lnTo>
                    <a:lnTo>
                      <a:pt x="1636" y="262"/>
                    </a:lnTo>
                    <a:lnTo>
                      <a:pt x="1842" y="149"/>
                    </a:lnTo>
                    <a:lnTo>
                      <a:pt x="2190" y="119"/>
                    </a:lnTo>
                    <a:lnTo>
                      <a:pt x="2826" y="175"/>
                    </a:lnTo>
                    <a:lnTo>
                      <a:pt x="3343" y="142"/>
                    </a:lnTo>
                    <a:lnTo>
                      <a:pt x="3565" y="93"/>
                    </a:lnTo>
                    <a:lnTo>
                      <a:pt x="3743" y="142"/>
                    </a:lnTo>
                    <a:lnTo>
                      <a:pt x="3862" y="436"/>
                    </a:lnTo>
                    <a:lnTo>
                      <a:pt x="3931" y="980"/>
                    </a:lnTo>
                    <a:lnTo>
                      <a:pt x="4008" y="1411"/>
                    </a:lnTo>
                    <a:lnTo>
                      <a:pt x="3973" y="1611"/>
                    </a:lnTo>
                    <a:lnTo>
                      <a:pt x="3835" y="2099"/>
                    </a:lnTo>
                    <a:lnTo>
                      <a:pt x="3649" y="2584"/>
                    </a:lnTo>
                    <a:lnTo>
                      <a:pt x="3540" y="2776"/>
                    </a:lnTo>
                    <a:lnTo>
                      <a:pt x="3455" y="2866"/>
                    </a:lnTo>
                    <a:lnTo>
                      <a:pt x="3574" y="2930"/>
                    </a:lnTo>
                    <a:lnTo>
                      <a:pt x="3701" y="2720"/>
                    </a:lnTo>
                    <a:lnTo>
                      <a:pt x="3895" y="2282"/>
                    </a:lnTo>
                    <a:lnTo>
                      <a:pt x="4033" y="1820"/>
                    </a:lnTo>
                    <a:lnTo>
                      <a:pt x="4083" y="1587"/>
                    </a:lnTo>
                    <a:lnTo>
                      <a:pt x="4100" y="1363"/>
                    </a:lnTo>
                    <a:lnTo>
                      <a:pt x="4050" y="1003"/>
                    </a:lnTo>
                    <a:lnTo>
                      <a:pt x="3973" y="459"/>
                    </a:lnTo>
                    <a:lnTo>
                      <a:pt x="3870" y="166"/>
                    </a:lnTo>
                    <a:lnTo>
                      <a:pt x="3768" y="30"/>
                    </a:lnTo>
                    <a:lnTo>
                      <a:pt x="3599" y="0"/>
                    </a:lnTo>
                    <a:lnTo>
                      <a:pt x="3388" y="53"/>
                    </a:lnTo>
                    <a:lnTo>
                      <a:pt x="3065" y="70"/>
                    </a:lnTo>
                    <a:lnTo>
                      <a:pt x="2655" y="70"/>
                    </a:lnTo>
                    <a:lnTo>
                      <a:pt x="2233" y="23"/>
                    </a:lnTo>
                    <a:lnTo>
                      <a:pt x="1944" y="30"/>
                    </a:lnTo>
                    <a:lnTo>
                      <a:pt x="1807" y="79"/>
                    </a:lnTo>
                    <a:lnTo>
                      <a:pt x="1482" y="229"/>
                    </a:lnTo>
                    <a:lnTo>
                      <a:pt x="873" y="389"/>
                    </a:lnTo>
                    <a:lnTo>
                      <a:pt x="278" y="573"/>
                    </a:lnTo>
                    <a:lnTo>
                      <a:pt x="117" y="765"/>
                    </a:lnTo>
                    <a:lnTo>
                      <a:pt x="7" y="1028"/>
                    </a:lnTo>
                    <a:lnTo>
                      <a:pt x="0" y="1547"/>
                    </a:lnTo>
                    <a:lnTo>
                      <a:pt x="24" y="2035"/>
                    </a:lnTo>
                    <a:lnTo>
                      <a:pt x="41" y="2537"/>
                    </a:lnTo>
                    <a:lnTo>
                      <a:pt x="134" y="2839"/>
                    </a:lnTo>
                    <a:lnTo>
                      <a:pt x="228" y="2992"/>
                    </a:lnTo>
                    <a:lnTo>
                      <a:pt x="387" y="3048"/>
                    </a:lnTo>
                    <a:lnTo>
                      <a:pt x="489" y="3016"/>
                    </a:lnTo>
                    <a:lnTo>
                      <a:pt x="337" y="28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46240" y="1429920"/>
                <a:ext cx="1270440" cy="1094400"/>
              </a:xfrm>
              <a:custGeom>
                <a:avLst/>
                <a:gdLst/>
                <a:ahLst/>
                <a:rect l="l" t="t" r="r" b="b"/>
                <a:pathLst>
                  <a:path w="3534" h="3044">
                    <a:moveTo>
                      <a:pt x="49" y="2885"/>
                    </a:moveTo>
                    <a:lnTo>
                      <a:pt x="634" y="2924"/>
                    </a:lnTo>
                    <a:lnTo>
                      <a:pt x="1460" y="2940"/>
                    </a:lnTo>
                    <a:lnTo>
                      <a:pt x="2123" y="2940"/>
                    </a:lnTo>
                    <a:lnTo>
                      <a:pt x="2710" y="2876"/>
                    </a:lnTo>
                    <a:lnTo>
                      <a:pt x="3108" y="2812"/>
                    </a:lnTo>
                    <a:lnTo>
                      <a:pt x="3210" y="2763"/>
                    </a:lnTo>
                    <a:lnTo>
                      <a:pt x="3210" y="2492"/>
                    </a:lnTo>
                    <a:lnTo>
                      <a:pt x="3065" y="1782"/>
                    </a:lnTo>
                    <a:lnTo>
                      <a:pt x="2906" y="911"/>
                    </a:lnTo>
                    <a:lnTo>
                      <a:pt x="2819" y="599"/>
                    </a:lnTo>
                    <a:lnTo>
                      <a:pt x="2735" y="476"/>
                    </a:lnTo>
                    <a:lnTo>
                      <a:pt x="1723" y="583"/>
                    </a:lnTo>
                    <a:lnTo>
                      <a:pt x="729" y="607"/>
                    </a:lnTo>
                    <a:lnTo>
                      <a:pt x="186" y="614"/>
                    </a:lnTo>
                    <a:lnTo>
                      <a:pt x="0" y="639"/>
                    </a:lnTo>
                    <a:lnTo>
                      <a:pt x="99" y="509"/>
                    </a:lnTo>
                    <a:lnTo>
                      <a:pt x="339" y="534"/>
                    </a:lnTo>
                    <a:lnTo>
                      <a:pt x="1018" y="509"/>
                    </a:lnTo>
                    <a:lnTo>
                      <a:pt x="1656" y="476"/>
                    </a:lnTo>
                    <a:lnTo>
                      <a:pt x="2226" y="429"/>
                    </a:lnTo>
                    <a:lnTo>
                      <a:pt x="2778" y="381"/>
                    </a:lnTo>
                    <a:lnTo>
                      <a:pt x="3195" y="199"/>
                    </a:lnTo>
                    <a:lnTo>
                      <a:pt x="3431" y="0"/>
                    </a:lnTo>
                    <a:lnTo>
                      <a:pt x="3533" y="94"/>
                    </a:lnTo>
                    <a:lnTo>
                      <a:pt x="3312" y="223"/>
                    </a:lnTo>
                    <a:lnTo>
                      <a:pt x="2981" y="420"/>
                    </a:lnTo>
                    <a:lnTo>
                      <a:pt x="2879" y="485"/>
                    </a:lnTo>
                    <a:lnTo>
                      <a:pt x="2998" y="950"/>
                    </a:lnTo>
                    <a:lnTo>
                      <a:pt x="3092" y="1396"/>
                    </a:lnTo>
                    <a:lnTo>
                      <a:pt x="3168" y="1813"/>
                    </a:lnTo>
                    <a:lnTo>
                      <a:pt x="3245" y="2206"/>
                    </a:lnTo>
                    <a:lnTo>
                      <a:pt x="3312" y="2492"/>
                    </a:lnTo>
                    <a:lnTo>
                      <a:pt x="3339" y="2747"/>
                    </a:lnTo>
                    <a:lnTo>
                      <a:pt x="3297" y="2885"/>
                    </a:lnTo>
                    <a:lnTo>
                      <a:pt x="2846" y="2987"/>
                    </a:lnTo>
                    <a:lnTo>
                      <a:pt x="2054" y="3043"/>
                    </a:lnTo>
                    <a:lnTo>
                      <a:pt x="1222" y="3011"/>
                    </a:lnTo>
                    <a:lnTo>
                      <a:pt x="619" y="3011"/>
                    </a:lnTo>
                    <a:lnTo>
                      <a:pt x="116" y="2996"/>
                    </a:lnTo>
                    <a:lnTo>
                      <a:pt x="49" y="28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9160" y="1706040"/>
                <a:ext cx="876960" cy="701280"/>
              </a:xfrm>
              <a:custGeom>
                <a:avLst/>
                <a:gdLst/>
                <a:ahLst/>
                <a:rect l="l" t="t" r="r" b="b"/>
                <a:pathLst>
                  <a:path w="2437" h="1949">
                    <a:moveTo>
                      <a:pt x="0" y="47"/>
                    </a:moveTo>
                    <a:lnTo>
                      <a:pt x="806" y="23"/>
                    </a:lnTo>
                    <a:lnTo>
                      <a:pt x="1358" y="0"/>
                    </a:lnTo>
                    <a:lnTo>
                      <a:pt x="1978" y="7"/>
                    </a:lnTo>
                    <a:lnTo>
                      <a:pt x="2070" y="71"/>
                    </a:lnTo>
                    <a:lnTo>
                      <a:pt x="2148" y="175"/>
                    </a:lnTo>
                    <a:lnTo>
                      <a:pt x="2285" y="725"/>
                    </a:lnTo>
                    <a:lnTo>
                      <a:pt x="2387" y="1350"/>
                    </a:lnTo>
                    <a:lnTo>
                      <a:pt x="2436" y="1772"/>
                    </a:lnTo>
                    <a:lnTo>
                      <a:pt x="2387" y="1915"/>
                    </a:lnTo>
                    <a:lnTo>
                      <a:pt x="2258" y="1948"/>
                    </a:lnTo>
                    <a:lnTo>
                      <a:pt x="1545" y="1868"/>
                    </a:lnTo>
                    <a:lnTo>
                      <a:pt x="2285" y="1805"/>
                    </a:lnTo>
                    <a:lnTo>
                      <a:pt x="2327" y="1788"/>
                    </a:lnTo>
                    <a:lnTo>
                      <a:pt x="2310" y="1493"/>
                    </a:lnTo>
                    <a:lnTo>
                      <a:pt x="2258" y="1077"/>
                    </a:lnTo>
                    <a:lnTo>
                      <a:pt x="2141" y="510"/>
                    </a:lnTo>
                    <a:lnTo>
                      <a:pt x="2038" y="159"/>
                    </a:lnTo>
                    <a:lnTo>
                      <a:pt x="1953" y="110"/>
                    </a:lnTo>
                    <a:lnTo>
                      <a:pt x="1503" y="87"/>
                    </a:lnTo>
                    <a:lnTo>
                      <a:pt x="898" y="110"/>
                    </a:lnTo>
                    <a:lnTo>
                      <a:pt x="398" y="94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97000" y="1717200"/>
                <a:ext cx="875520" cy="682200"/>
              </a:xfrm>
              <a:custGeom>
                <a:avLst/>
                <a:gdLst/>
                <a:ahLst/>
                <a:rect l="l" t="t" r="r" b="b"/>
                <a:pathLst>
                  <a:path w="2432" h="1895">
                    <a:moveTo>
                      <a:pt x="1120" y="0"/>
                    </a:moveTo>
                    <a:lnTo>
                      <a:pt x="332" y="0"/>
                    </a:lnTo>
                    <a:lnTo>
                      <a:pt x="110" y="23"/>
                    </a:lnTo>
                    <a:lnTo>
                      <a:pt x="68" y="103"/>
                    </a:lnTo>
                    <a:lnTo>
                      <a:pt x="25" y="261"/>
                    </a:lnTo>
                    <a:lnTo>
                      <a:pt x="0" y="711"/>
                    </a:lnTo>
                    <a:lnTo>
                      <a:pt x="25" y="1143"/>
                    </a:lnTo>
                    <a:lnTo>
                      <a:pt x="85" y="1573"/>
                    </a:lnTo>
                    <a:lnTo>
                      <a:pt x="188" y="1751"/>
                    </a:lnTo>
                    <a:lnTo>
                      <a:pt x="230" y="1791"/>
                    </a:lnTo>
                    <a:lnTo>
                      <a:pt x="723" y="1838"/>
                    </a:lnTo>
                    <a:lnTo>
                      <a:pt x="1378" y="1861"/>
                    </a:lnTo>
                    <a:lnTo>
                      <a:pt x="1853" y="1871"/>
                    </a:lnTo>
                    <a:lnTo>
                      <a:pt x="2431" y="1894"/>
                    </a:lnTo>
                    <a:lnTo>
                      <a:pt x="2397" y="1822"/>
                    </a:lnTo>
                    <a:lnTo>
                      <a:pt x="1955" y="1791"/>
                    </a:lnTo>
                    <a:lnTo>
                      <a:pt x="1378" y="1751"/>
                    </a:lnTo>
                    <a:lnTo>
                      <a:pt x="568" y="1751"/>
                    </a:lnTo>
                    <a:lnTo>
                      <a:pt x="280" y="1662"/>
                    </a:lnTo>
                    <a:lnTo>
                      <a:pt x="188" y="1599"/>
                    </a:lnTo>
                    <a:lnTo>
                      <a:pt x="161" y="1470"/>
                    </a:lnTo>
                    <a:lnTo>
                      <a:pt x="118" y="1111"/>
                    </a:lnTo>
                    <a:lnTo>
                      <a:pt x="110" y="669"/>
                    </a:lnTo>
                    <a:lnTo>
                      <a:pt x="146" y="214"/>
                    </a:lnTo>
                    <a:lnTo>
                      <a:pt x="188" y="110"/>
                    </a:lnTo>
                    <a:lnTo>
                      <a:pt x="713" y="47"/>
                    </a:lnTo>
                    <a:lnTo>
                      <a:pt x="112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5224320" y="1284120"/>
            <a:ext cx="1959120" cy="4919760"/>
          </a:xfrm>
          <a:custGeom>
            <a:avLst/>
            <a:gdLst>
              <a:gd name="textAreaLeft" fmla="*/ 360 w 1959120"/>
              <a:gd name="textAreaRight" fmla="*/ 1958760 w 1959120"/>
              <a:gd name="textAreaTop" fmla="*/ 360 h 4919760"/>
              <a:gd name="textAreaBottom" fmla="*/ 4919400 h 4919760"/>
            </a:gdLst>
            <a:ahLst/>
            <a:rect l="textAreaLeft" t="textAreaTop" r="textAreaRight" b="textAreaBottom"/>
            <a:pathLst>
              <a:path w="21600" h="54236">
                <a:moveTo>
                  <a:pt x="17" y="0"/>
                </a:moveTo>
                <a:arcTo wR="17" hR="17" stAng="16200000" swAng="-5400000"/>
                <a:lnTo>
                  <a:pt x="0" y="54219"/>
                </a:lnTo>
                <a:arcTo wR="17" hR="17" stAng="10800000" swAng="-5400000"/>
                <a:lnTo>
                  <a:pt x="21583" y="54236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idades do GRADE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ços em duas ins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ância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0880" y="3649680"/>
            <a:ext cx="1103400" cy="1019160"/>
            <a:chOff x="650880" y="3649680"/>
            <a:chExt cx="1103400" cy="1019160"/>
          </a:xfrm>
        </p:grpSpPr>
        <p:sp>
          <p:nvSpPr>
            <p:cNvPr id="327" name=""/>
            <p:cNvSpPr/>
            <p:nvPr/>
          </p:nvSpPr>
          <p:spPr>
            <a:xfrm>
              <a:off x="650880" y="3649680"/>
              <a:ext cx="1103400" cy="10191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prstDash val="dash"/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813960" y="3800160"/>
              <a:ext cx="775440" cy="714960"/>
              <a:chOff x="813960" y="3800160"/>
              <a:chExt cx="775440" cy="714960"/>
            </a:xfrm>
          </p:grpSpPr>
          <p:sp>
            <p:nvSpPr>
              <p:cNvPr id="329" name=""/>
              <p:cNvSpPr/>
              <p:nvPr/>
            </p:nvSpPr>
            <p:spPr>
              <a:xfrm>
                <a:off x="813960" y="3800160"/>
                <a:ext cx="775440" cy="714960"/>
              </a:xfrm>
              <a:prstGeom prst="roundRect">
                <a:avLst>
                  <a:gd name="adj" fmla="val 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13960" y="3871800"/>
                <a:ext cx="77400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874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Tahoma"/>
                  </a:rPr>
                  <a:t>Serviç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39640" y="5240160"/>
            <a:ext cx="1236600" cy="339840"/>
            <a:chOff x="539640" y="5240160"/>
            <a:chExt cx="1236600" cy="339840"/>
          </a:xfrm>
        </p:grpSpPr>
        <p:sp>
          <p:nvSpPr>
            <p:cNvPr id="332" name=""/>
            <p:cNvSpPr/>
            <p:nvPr/>
          </p:nvSpPr>
          <p:spPr>
            <a:xfrm>
              <a:off x="539640" y="5240160"/>
              <a:ext cx="1236600" cy="339840"/>
            </a:xfrm>
            <a:prstGeom prst="roundRect">
              <a:avLst>
                <a:gd name="adj" fmla="val 463"/>
              </a:avLst>
            </a:prstGeom>
            <a:noFill/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39640" y="5240160"/>
              <a:ext cx="1233360" cy="338040"/>
              <a:chOff x="539640" y="5240160"/>
              <a:chExt cx="1233360" cy="338040"/>
            </a:xfrm>
          </p:grpSpPr>
          <p:sp>
            <p:nvSpPr>
              <p:cNvPr id="334" name=""/>
              <p:cNvSpPr/>
              <p:nvPr/>
            </p:nvSpPr>
            <p:spPr>
              <a:xfrm>
                <a:off x="539640" y="5240160"/>
                <a:ext cx="1233360" cy="338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9640" y="5258160"/>
                <a:ext cx="12333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636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Tahoma"/>
                  </a:rPr>
                  <a:t>Aplic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1058760" y="4764240"/>
            <a:ext cx="306360" cy="365040"/>
          </a:xfrm>
          <a:custGeom>
            <a:avLst/>
            <a:gdLst/>
            <a:ahLst/>
            <a:rect l="l" t="t" r="r" b="b"/>
            <a:pathLst>
              <a:path w="852" h="1015">
                <a:moveTo>
                  <a:pt x="0" y="201"/>
                </a:moveTo>
                <a:lnTo>
                  <a:pt x="425" y="0"/>
                </a:lnTo>
                <a:lnTo>
                  <a:pt x="851" y="201"/>
                </a:lnTo>
                <a:lnTo>
                  <a:pt x="638" y="201"/>
                </a:lnTo>
                <a:lnTo>
                  <a:pt x="638" y="811"/>
                </a:lnTo>
                <a:lnTo>
                  <a:pt x="851" y="811"/>
                </a:lnTo>
                <a:lnTo>
                  <a:pt x="425" y="1014"/>
                </a:lnTo>
                <a:lnTo>
                  <a:pt x="0" y="811"/>
                </a:lnTo>
                <a:lnTo>
                  <a:pt x="212" y="811"/>
                </a:lnTo>
                <a:lnTo>
                  <a:pt x="212" y="201"/>
                </a:lnTo>
                <a:lnTo>
                  <a:pt x="0" y="201"/>
                </a:lnTo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7280" y="5727600"/>
            <a:ext cx="179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Visão unif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86120" y="1762200"/>
            <a:ext cx="1109520" cy="2940120"/>
          </a:xfrm>
          <a:prstGeom prst="ellipse">
            <a:avLst/>
          </a:prstGeom>
          <a:noFill/>
          <a:ln w="3240">
            <a:solidFill>
              <a:srgbClr val="3333cc"/>
            </a:solidFill>
            <a:prstDash val="lgDash"/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776680" y="5268960"/>
            <a:ext cx="1236600" cy="339840"/>
            <a:chOff x="2776680" y="5268960"/>
            <a:chExt cx="1236600" cy="339840"/>
          </a:xfrm>
        </p:grpSpPr>
        <p:sp>
          <p:nvSpPr>
            <p:cNvPr id="340" name=""/>
            <p:cNvSpPr/>
            <p:nvPr/>
          </p:nvSpPr>
          <p:spPr>
            <a:xfrm>
              <a:off x="2776680" y="5268960"/>
              <a:ext cx="1236600" cy="339840"/>
            </a:xfrm>
            <a:prstGeom prst="roundRect">
              <a:avLst>
                <a:gd name="adj" fmla="val 463"/>
              </a:avLst>
            </a:prstGeom>
            <a:noFill/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776680" y="5268960"/>
              <a:ext cx="1233360" cy="336600"/>
              <a:chOff x="2776680" y="5268960"/>
              <a:chExt cx="1233360" cy="336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76680" y="5268960"/>
                <a:ext cx="1233360" cy="3366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76680" y="5286240"/>
                <a:ext cx="12333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636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Tahoma"/>
                  </a:rPr>
                  <a:t>Aplic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3295800" y="4792680"/>
            <a:ext cx="306360" cy="365040"/>
          </a:xfrm>
          <a:custGeom>
            <a:avLst/>
            <a:gdLst/>
            <a:ahLst/>
            <a:rect l="l" t="t" r="r" b="b"/>
            <a:pathLst>
              <a:path w="852" h="1015">
                <a:moveTo>
                  <a:pt x="0" y="201"/>
                </a:moveTo>
                <a:lnTo>
                  <a:pt x="425" y="0"/>
                </a:lnTo>
                <a:lnTo>
                  <a:pt x="851" y="201"/>
                </a:lnTo>
                <a:lnTo>
                  <a:pt x="638" y="201"/>
                </a:lnTo>
                <a:lnTo>
                  <a:pt x="638" y="811"/>
                </a:lnTo>
                <a:lnTo>
                  <a:pt x="851" y="811"/>
                </a:lnTo>
                <a:lnTo>
                  <a:pt x="425" y="1014"/>
                </a:lnTo>
                <a:lnTo>
                  <a:pt x="0" y="811"/>
                </a:lnTo>
                <a:lnTo>
                  <a:pt x="212" y="811"/>
                </a:lnTo>
                <a:lnTo>
                  <a:pt x="212" y="201"/>
                </a:lnTo>
                <a:lnTo>
                  <a:pt x="0" y="201"/>
                </a:lnTo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22520" y="5756400"/>
            <a:ext cx="179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Visão unif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44880" y="3570120"/>
            <a:ext cx="766800" cy="708120"/>
            <a:chOff x="3044880" y="3570120"/>
            <a:chExt cx="766800" cy="708120"/>
          </a:xfrm>
        </p:grpSpPr>
        <p:sp>
          <p:nvSpPr>
            <p:cNvPr id="347" name=""/>
            <p:cNvSpPr/>
            <p:nvPr/>
          </p:nvSpPr>
          <p:spPr>
            <a:xfrm>
              <a:off x="3044880" y="3570120"/>
              <a:ext cx="766800" cy="7081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158640" y="3675240"/>
              <a:ext cx="537120" cy="498240"/>
              <a:chOff x="3158640" y="3675240"/>
              <a:chExt cx="537120" cy="498240"/>
            </a:xfrm>
          </p:grpSpPr>
          <p:sp>
            <p:nvSpPr>
              <p:cNvPr id="349" name=""/>
              <p:cNvSpPr/>
              <p:nvPr/>
            </p:nvSpPr>
            <p:spPr>
              <a:xfrm>
                <a:off x="3158640" y="3675240"/>
                <a:ext cx="537120" cy="4982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158640" y="3699000"/>
                <a:ext cx="53712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nod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3057480" y="2217600"/>
            <a:ext cx="766800" cy="708120"/>
            <a:chOff x="3057480" y="2217600"/>
            <a:chExt cx="766800" cy="708120"/>
          </a:xfrm>
        </p:grpSpPr>
        <p:sp>
          <p:nvSpPr>
            <p:cNvPr id="352" name=""/>
            <p:cNvSpPr/>
            <p:nvPr/>
          </p:nvSpPr>
          <p:spPr>
            <a:xfrm>
              <a:off x="3057480" y="2217600"/>
              <a:ext cx="766800" cy="7081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171600" y="2322360"/>
              <a:ext cx="537120" cy="498600"/>
              <a:chOff x="3171600" y="2322360"/>
              <a:chExt cx="537120" cy="498600"/>
            </a:xfrm>
          </p:grpSpPr>
          <p:sp>
            <p:nvSpPr>
              <p:cNvPr id="354" name=""/>
              <p:cNvSpPr/>
              <p:nvPr/>
            </p:nvSpPr>
            <p:spPr>
              <a:xfrm>
                <a:off x="3171600" y="2322360"/>
                <a:ext cx="537120" cy="49860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171600" y="2345760"/>
                <a:ext cx="53568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ce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3436920" y="2976480"/>
            <a:ext cx="1440" cy="527040"/>
          </a:xfrm>
          <a:prstGeom prst="line">
            <a:avLst/>
          </a:prstGeom>
          <a:ln w="3816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51160" y="2730600"/>
            <a:ext cx="1446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62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Desconexão planej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51360" y="1778040"/>
            <a:ext cx="1108080" cy="2940120"/>
          </a:xfrm>
          <a:prstGeom prst="ellipse">
            <a:avLst/>
          </a:prstGeom>
          <a:noFill/>
          <a:ln w="3240">
            <a:solidFill>
              <a:srgbClr val="3333cc"/>
            </a:solidFill>
            <a:prstDash val="lgDash"/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640480" y="5284800"/>
            <a:ext cx="1238040" cy="339840"/>
            <a:chOff x="5640480" y="5284800"/>
            <a:chExt cx="1238040" cy="339840"/>
          </a:xfrm>
        </p:grpSpPr>
        <p:sp>
          <p:nvSpPr>
            <p:cNvPr id="360" name=""/>
            <p:cNvSpPr/>
            <p:nvPr/>
          </p:nvSpPr>
          <p:spPr>
            <a:xfrm>
              <a:off x="5640480" y="5284800"/>
              <a:ext cx="1238040" cy="339840"/>
            </a:xfrm>
            <a:prstGeom prst="roundRect">
              <a:avLst>
                <a:gd name="adj" fmla="val 463"/>
              </a:avLst>
            </a:prstGeom>
            <a:noFill/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640480" y="5284800"/>
              <a:ext cx="1234800" cy="336600"/>
              <a:chOff x="5640480" y="5284800"/>
              <a:chExt cx="1234800" cy="336600"/>
            </a:xfrm>
          </p:grpSpPr>
          <p:sp>
            <p:nvSpPr>
              <p:cNvPr id="362" name=""/>
              <p:cNvSpPr/>
              <p:nvPr/>
            </p:nvSpPr>
            <p:spPr>
              <a:xfrm>
                <a:off x="5640480" y="5284800"/>
                <a:ext cx="1234800" cy="3366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0480" y="5302080"/>
                <a:ext cx="123480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636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Tahoma"/>
                  </a:rPr>
                  <a:t>Aplic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6161040" y="4808520"/>
            <a:ext cx="304920" cy="365040"/>
          </a:xfrm>
          <a:custGeom>
            <a:avLst/>
            <a:gdLst/>
            <a:ahLst/>
            <a:rect l="l" t="t" r="r" b="b"/>
            <a:pathLst>
              <a:path w="848" h="1015">
                <a:moveTo>
                  <a:pt x="0" y="201"/>
                </a:moveTo>
                <a:lnTo>
                  <a:pt x="423" y="0"/>
                </a:lnTo>
                <a:lnTo>
                  <a:pt x="847" y="201"/>
                </a:lnTo>
                <a:lnTo>
                  <a:pt x="635" y="201"/>
                </a:lnTo>
                <a:lnTo>
                  <a:pt x="635" y="811"/>
                </a:lnTo>
                <a:lnTo>
                  <a:pt x="847" y="811"/>
                </a:lnTo>
                <a:lnTo>
                  <a:pt x="423" y="1014"/>
                </a:lnTo>
                <a:lnTo>
                  <a:pt x="0" y="811"/>
                </a:lnTo>
                <a:lnTo>
                  <a:pt x="211" y="811"/>
                </a:lnTo>
                <a:lnTo>
                  <a:pt x="211" y="201"/>
                </a:lnTo>
                <a:lnTo>
                  <a:pt x="0" y="201"/>
                </a:lnTo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88120" y="5772240"/>
            <a:ext cx="179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Visão unif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08680" y="3586320"/>
            <a:ext cx="766800" cy="706320"/>
            <a:chOff x="5908680" y="3586320"/>
            <a:chExt cx="766800" cy="706320"/>
          </a:xfrm>
        </p:grpSpPr>
        <p:sp>
          <p:nvSpPr>
            <p:cNvPr id="367" name=""/>
            <p:cNvSpPr/>
            <p:nvPr/>
          </p:nvSpPr>
          <p:spPr>
            <a:xfrm>
              <a:off x="5908680" y="3586320"/>
              <a:ext cx="766800" cy="7063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6022440" y="3690720"/>
              <a:ext cx="537120" cy="493920"/>
              <a:chOff x="6022440" y="3690720"/>
              <a:chExt cx="537120" cy="493920"/>
            </a:xfrm>
          </p:grpSpPr>
          <p:sp>
            <p:nvSpPr>
              <p:cNvPr id="369" name=""/>
              <p:cNvSpPr/>
              <p:nvPr/>
            </p:nvSpPr>
            <p:spPr>
              <a:xfrm>
                <a:off x="6022440" y="3690720"/>
                <a:ext cx="537120" cy="493920"/>
              </a:xfrm>
              <a:prstGeom prst="roundRect">
                <a:avLst>
                  <a:gd name="adj" fmla="val 3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22440" y="3713040"/>
                <a:ext cx="53532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nod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5923080" y="2233440"/>
            <a:ext cx="765000" cy="708120"/>
            <a:chOff x="5923080" y="2233440"/>
            <a:chExt cx="765000" cy="708120"/>
          </a:xfrm>
        </p:grpSpPr>
        <p:sp>
          <p:nvSpPr>
            <p:cNvPr id="372" name=""/>
            <p:cNvSpPr/>
            <p:nvPr/>
          </p:nvSpPr>
          <p:spPr>
            <a:xfrm>
              <a:off x="5923080" y="2233440"/>
              <a:ext cx="765000" cy="7081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036840" y="2338560"/>
              <a:ext cx="538200" cy="498240"/>
              <a:chOff x="6036840" y="2338560"/>
              <a:chExt cx="538200" cy="498240"/>
            </a:xfrm>
          </p:grpSpPr>
          <p:sp>
            <p:nvSpPr>
              <p:cNvPr id="374" name=""/>
              <p:cNvSpPr/>
              <p:nvPr/>
            </p:nvSpPr>
            <p:spPr>
              <a:xfrm>
                <a:off x="6036840" y="2338560"/>
                <a:ext cx="538200" cy="4982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36840" y="2362320"/>
                <a:ext cx="53640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ce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6300720" y="3344760"/>
            <a:ext cx="1800" cy="18900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2998800"/>
            <a:ext cx="1800" cy="193680"/>
          </a:xfrm>
          <a:prstGeom prst="line">
            <a:avLst/>
          </a:prstGeom>
          <a:ln w="38160">
            <a:solidFill>
              <a:srgbClr val="33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13520" y="3252960"/>
            <a:ext cx="380880" cy="63360"/>
          </a:xfrm>
          <a:custGeom>
            <a:avLst/>
            <a:gdLst/>
            <a:ahLst/>
            <a:rect l="l" t="t" r="r" b="b"/>
            <a:pathLst>
              <a:path w="1059" h="177">
                <a:moveTo>
                  <a:pt x="0" y="105"/>
                </a:moveTo>
                <a:cubicBezTo>
                  <a:pt x="59" y="40"/>
                  <a:pt x="69" y="15"/>
                  <a:pt x="147" y="37"/>
                </a:cubicBezTo>
                <a:cubicBezTo>
                  <a:pt x="276" y="143"/>
                  <a:pt x="124" y="0"/>
                  <a:pt x="282" y="65"/>
                </a:cubicBezTo>
                <a:cubicBezTo>
                  <a:pt x="307" y="90"/>
                  <a:pt x="322" y="139"/>
                  <a:pt x="359" y="139"/>
                </a:cubicBezTo>
                <a:cubicBezTo>
                  <a:pt x="388" y="137"/>
                  <a:pt x="409" y="64"/>
                  <a:pt x="409" y="64"/>
                </a:cubicBezTo>
                <a:cubicBezTo>
                  <a:pt x="532" y="141"/>
                  <a:pt x="463" y="169"/>
                  <a:pt x="638" y="50"/>
                </a:cubicBezTo>
                <a:cubicBezTo>
                  <a:pt x="698" y="171"/>
                  <a:pt x="700" y="135"/>
                  <a:pt x="836" y="44"/>
                </a:cubicBezTo>
                <a:cubicBezTo>
                  <a:pt x="872" y="105"/>
                  <a:pt x="868" y="176"/>
                  <a:pt x="938" y="148"/>
                </a:cubicBezTo>
                <a:cubicBezTo>
                  <a:pt x="997" y="61"/>
                  <a:pt x="1035" y="25"/>
                  <a:pt x="1058" y="136"/>
                </a:cubicBezTo>
              </a:path>
            </a:pathLst>
          </a:custGeom>
          <a:noFill/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00560" y="3295800"/>
            <a:ext cx="1117440" cy="1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763040" y="1727280"/>
            <a:ext cx="982080" cy="1123560"/>
            <a:chOff x="7763040" y="1727280"/>
            <a:chExt cx="982080" cy="1123560"/>
          </a:xfrm>
        </p:grpSpPr>
        <p:sp>
          <p:nvSpPr>
            <p:cNvPr id="381" name=""/>
            <p:cNvSpPr/>
            <p:nvPr/>
          </p:nvSpPr>
          <p:spPr>
            <a:xfrm>
              <a:off x="7772400" y="1741320"/>
              <a:ext cx="971640" cy="1100160"/>
            </a:xfrm>
            <a:custGeom>
              <a:avLst/>
              <a:gdLst/>
              <a:ahLst/>
              <a:rect l="l" t="t" r="r" b="b"/>
              <a:pathLst>
                <a:path w="2699" h="3056">
                  <a:moveTo>
                    <a:pt x="503" y="2038"/>
                  </a:moveTo>
                  <a:lnTo>
                    <a:pt x="296" y="2235"/>
                  </a:lnTo>
                  <a:lnTo>
                    <a:pt x="35" y="2475"/>
                  </a:lnTo>
                  <a:lnTo>
                    <a:pt x="35" y="2678"/>
                  </a:lnTo>
                  <a:lnTo>
                    <a:pt x="78" y="3055"/>
                  </a:lnTo>
                  <a:lnTo>
                    <a:pt x="513" y="3039"/>
                  </a:lnTo>
                  <a:lnTo>
                    <a:pt x="1003" y="2978"/>
                  </a:lnTo>
                  <a:lnTo>
                    <a:pt x="1736" y="2967"/>
                  </a:lnTo>
                  <a:lnTo>
                    <a:pt x="2282" y="2978"/>
                  </a:lnTo>
                  <a:lnTo>
                    <a:pt x="2469" y="2613"/>
                  </a:lnTo>
                  <a:lnTo>
                    <a:pt x="2698" y="1891"/>
                  </a:lnTo>
                  <a:lnTo>
                    <a:pt x="2657" y="1667"/>
                  </a:lnTo>
                  <a:lnTo>
                    <a:pt x="2573" y="1580"/>
                  </a:lnTo>
                  <a:lnTo>
                    <a:pt x="2329" y="1596"/>
                  </a:lnTo>
                  <a:lnTo>
                    <a:pt x="2439" y="1049"/>
                  </a:lnTo>
                  <a:lnTo>
                    <a:pt x="2454" y="873"/>
                  </a:lnTo>
                  <a:lnTo>
                    <a:pt x="2396" y="447"/>
                  </a:lnTo>
                  <a:lnTo>
                    <a:pt x="2340" y="137"/>
                  </a:lnTo>
                  <a:lnTo>
                    <a:pt x="2235" y="0"/>
                  </a:lnTo>
                  <a:lnTo>
                    <a:pt x="2163" y="0"/>
                  </a:lnTo>
                  <a:lnTo>
                    <a:pt x="1965" y="33"/>
                  </a:lnTo>
                  <a:lnTo>
                    <a:pt x="1643" y="49"/>
                  </a:lnTo>
                  <a:lnTo>
                    <a:pt x="1434" y="16"/>
                  </a:lnTo>
                  <a:lnTo>
                    <a:pt x="1211" y="5"/>
                  </a:lnTo>
                  <a:lnTo>
                    <a:pt x="1122" y="28"/>
                  </a:lnTo>
                  <a:lnTo>
                    <a:pt x="936" y="120"/>
                  </a:lnTo>
                  <a:lnTo>
                    <a:pt x="649" y="202"/>
                  </a:lnTo>
                  <a:lnTo>
                    <a:pt x="285" y="333"/>
                  </a:lnTo>
                  <a:lnTo>
                    <a:pt x="149" y="415"/>
                  </a:lnTo>
                  <a:lnTo>
                    <a:pt x="26" y="563"/>
                  </a:lnTo>
                  <a:lnTo>
                    <a:pt x="0" y="771"/>
                  </a:lnTo>
                  <a:lnTo>
                    <a:pt x="0" y="1120"/>
                  </a:lnTo>
                  <a:lnTo>
                    <a:pt x="15" y="1531"/>
                  </a:lnTo>
                  <a:lnTo>
                    <a:pt x="41" y="1777"/>
                  </a:lnTo>
                  <a:lnTo>
                    <a:pt x="93" y="1913"/>
                  </a:lnTo>
                  <a:lnTo>
                    <a:pt x="181" y="1990"/>
                  </a:lnTo>
                  <a:lnTo>
                    <a:pt x="280" y="2017"/>
                  </a:lnTo>
                  <a:lnTo>
                    <a:pt x="503" y="203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66000" y="1940040"/>
              <a:ext cx="569880" cy="455400"/>
            </a:xfrm>
            <a:custGeom>
              <a:avLst/>
              <a:gdLst/>
              <a:ahLst/>
              <a:rect l="l" t="t" r="r" b="b"/>
              <a:pathLst>
                <a:path w="1583" h="1266">
                  <a:moveTo>
                    <a:pt x="5" y="342"/>
                  </a:moveTo>
                  <a:lnTo>
                    <a:pt x="20" y="108"/>
                  </a:lnTo>
                  <a:lnTo>
                    <a:pt x="57" y="42"/>
                  </a:lnTo>
                  <a:lnTo>
                    <a:pt x="150" y="15"/>
                  </a:lnTo>
                  <a:lnTo>
                    <a:pt x="547" y="4"/>
                  </a:lnTo>
                  <a:lnTo>
                    <a:pt x="1025" y="0"/>
                  </a:lnTo>
                  <a:lnTo>
                    <a:pt x="1306" y="4"/>
                  </a:lnTo>
                  <a:lnTo>
                    <a:pt x="1374" y="47"/>
                  </a:lnTo>
                  <a:lnTo>
                    <a:pt x="1426" y="135"/>
                  </a:lnTo>
                  <a:lnTo>
                    <a:pt x="1493" y="506"/>
                  </a:lnTo>
                  <a:lnTo>
                    <a:pt x="1566" y="927"/>
                  </a:lnTo>
                  <a:lnTo>
                    <a:pt x="1582" y="1184"/>
                  </a:lnTo>
                  <a:lnTo>
                    <a:pt x="1556" y="1227"/>
                  </a:lnTo>
                  <a:lnTo>
                    <a:pt x="1472" y="1265"/>
                  </a:lnTo>
                  <a:lnTo>
                    <a:pt x="1056" y="1254"/>
                  </a:lnTo>
                  <a:lnTo>
                    <a:pt x="416" y="1222"/>
                  </a:lnTo>
                  <a:lnTo>
                    <a:pt x="104" y="1188"/>
                  </a:lnTo>
                  <a:lnTo>
                    <a:pt x="57" y="1123"/>
                  </a:lnTo>
                  <a:lnTo>
                    <a:pt x="26" y="992"/>
                  </a:lnTo>
                  <a:lnTo>
                    <a:pt x="0" y="665"/>
                  </a:lnTo>
                  <a:lnTo>
                    <a:pt x="5" y="34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763040" y="1727280"/>
              <a:ext cx="982080" cy="1123560"/>
              <a:chOff x="7763040" y="1727280"/>
              <a:chExt cx="982080" cy="1123560"/>
            </a:xfrm>
          </p:grpSpPr>
          <p:sp>
            <p:nvSpPr>
              <p:cNvPr id="384" name=""/>
              <p:cNvSpPr/>
              <p:nvPr/>
            </p:nvSpPr>
            <p:spPr>
              <a:xfrm>
                <a:off x="7772040" y="2292840"/>
                <a:ext cx="973080" cy="558000"/>
              </a:xfrm>
              <a:custGeom>
                <a:avLst/>
                <a:gdLst/>
                <a:ahLst/>
                <a:rect l="l" t="t" r="r" b="b"/>
                <a:pathLst>
                  <a:path w="2709" h="1551">
                    <a:moveTo>
                      <a:pt x="0" y="933"/>
                    </a:moveTo>
                    <a:lnTo>
                      <a:pt x="331" y="627"/>
                    </a:lnTo>
                    <a:lnTo>
                      <a:pt x="342" y="698"/>
                    </a:lnTo>
                    <a:lnTo>
                      <a:pt x="114" y="917"/>
                    </a:lnTo>
                    <a:lnTo>
                      <a:pt x="513" y="901"/>
                    </a:lnTo>
                    <a:lnTo>
                      <a:pt x="1369" y="901"/>
                    </a:lnTo>
                    <a:lnTo>
                      <a:pt x="1821" y="867"/>
                    </a:lnTo>
                    <a:lnTo>
                      <a:pt x="2101" y="808"/>
                    </a:lnTo>
                    <a:lnTo>
                      <a:pt x="2174" y="792"/>
                    </a:lnTo>
                    <a:lnTo>
                      <a:pt x="2505" y="87"/>
                    </a:lnTo>
                    <a:lnTo>
                      <a:pt x="2351" y="37"/>
                    </a:lnTo>
                    <a:lnTo>
                      <a:pt x="2583" y="0"/>
                    </a:lnTo>
                    <a:lnTo>
                      <a:pt x="2667" y="76"/>
                    </a:lnTo>
                    <a:lnTo>
                      <a:pt x="2708" y="337"/>
                    </a:lnTo>
                    <a:lnTo>
                      <a:pt x="2641" y="551"/>
                    </a:lnTo>
                    <a:lnTo>
                      <a:pt x="2422" y="1239"/>
                    </a:lnTo>
                    <a:lnTo>
                      <a:pt x="2325" y="1452"/>
                    </a:lnTo>
                    <a:lnTo>
                      <a:pt x="2231" y="1479"/>
                    </a:lnTo>
                    <a:lnTo>
                      <a:pt x="1546" y="1462"/>
                    </a:lnTo>
                    <a:lnTo>
                      <a:pt x="825" y="1484"/>
                    </a:lnTo>
                    <a:lnTo>
                      <a:pt x="140" y="1539"/>
                    </a:lnTo>
                    <a:lnTo>
                      <a:pt x="41" y="1550"/>
                    </a:lnTo>
                    <a:lnTo>
                      <a:pt x="31" y="1343"/>
                    </a:lnTo>
                    <a:lnTo>
                      <a:pt x="15" y="1146"/>
                    </a:lnTo>
                    <a:lnTo>
                      <a:pt x="15" y="1037"/>
                    </a:lnTo>
                    <a:lnTo>
                      <a:pt x="67" y="1103"/>
                    </a:lnTo>
                    <a:lnTo>
                      <a:pt x="82" y="1267"/>
                    </a:lnTo>
                    <a:lnTo>
                      <a:pt x="104" y="1441"/>
                    </a:lnTo>
                    <a:lnTo>
                      <a:pt x="300" y="1468"/>
                    </a:lnTo>
                    <a:lnTo>
                      <a:pt x="747" y="1425"/>
                    </a:lnTo>
                    <a:lnTo>
                      <a:pt x="1125" y="1392"/>
                    </a:lnTo>
                    <a:lnTo>
                      <a:pt x="1442" y="1392"/>
                    </a:lnTo>
                    <a:lnTo>
                      <a:pt x="1920" y="1392"/>
                    </a:lnTo>
                    <a:lnTo>
                      <a:pt x="2220" y="1392"/>
                    </a:lnTo>
                    <a:lnTo>
                      <a:pt x="2231" y="1295"/>
                    </a:lnTo>
                    <a:lnTo>
                      <a:pt x="2200" y="1098"/>
                    </a:lnTo>
                    <a:lnTo>
                      <a:pt x="2179" y="885"/>
                    </a:lnTo>
                    <a:lnTo>
                      <a:pt x="2220" y="933"/>
                    </a:lnTo>
                    <a:lnTo>
                      <a:pt x="2262" y="1175"/>
                    </a:lnTo>
                    <a:lnTo>
                      <a:pt x="2304" y="1295"/>
                    </a:lnTo>
                    <a:lnTo>
                      <a:pt x="2351" y="1234"/>
                    </a:lnTo>
                    <a:lnTo>
                      <a:pt x="2432" y="998"/>
                    </a:lnTo>
                    <a:lnTo>
                      <a:pt x="2553" y="654"/>
                    </a:lnTo>
                    <a:lnTo>
                      <a:pt x="2641" y="381"/>
                    </a:lnTo>
                    <a:lnTo>
                      <a:pt x="2656" y="299"/>
                    </a:lnTo>
                    <a:lnTo>
                      <a:pt x="2615" y="103"/>
                    </a:lnTo>
                    <a:lnTo>
                      <a:pt x="2568" y="93"/>
                    </a:lnTo>
                    <a:lnTo>
                      <a:pt x="2475" y="321"/>
                    </a:lnTo>
                    <a:lnTo>
                      <a:pt x="2319" y="622"/>
                    </a:lnTo>
                    <a:lnTo>
                      <a:pt x="2200" y="851"/>
                    </a:lnTo>
                    <a:lnTo>
                      <a:pt x="2086" y="890"/>
                    </a:lnTo>
                    <a:lnTo>
                      <a:pt x="1671" y="944"/>
                    </a:lnTo>
                    <a:lnTo>
                      <a:pt x="1182" y="976"/>
                    </a:lnTo>
                    <a:lnTo>
                      <a:pt x="700" y="976"/>
                    </a:lnTo>
                    <a:lnTo>
                      <a:pt x="155" y="981"/>
                    </a:lnTo>
                    <a:lnTo>
                      <a:pt x="0" y="9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51320" y="2483280"/>
                <a:ext cx="505440" cy="122040"/>
              </a:xfrm>
              <a:custGeom>
                <a:avLst/>
                <a:gdLst/>
                <a:ahLst/>
                <a:rect l="l" t="t" r="r" b="b"/>
                <a:pathLst>
                  <a:path w="1405" h="339">
                    <a:moveTo>
                      <a:pt x="31" y="54"/>
                    </a:moveTo>
                    <a:lnTo>
                      <a:pt x="130" y="0"/>
                    </a:lnTo>
                    <a:lnTo>
                      <a:pt x="177" y="16"/>
                    </a:lnTo>
                    <a:lnTo>
                      <a:pt x="145" y="86"/>
                    </a:lnTo>
                    <a:lnTo>
                      <a:pt x="72" y="135"/>
                    </a:lnTo>
                    <a:lnTo>
                      <a:pt x="214" y="213"/>
                    </a:lnTo>
                    <a:lnTo>
                      <a:pt x="427" y="218"/>
                    </a:lnTo>
                    <a:lnTo>
                      <a:pt x="607" y="202"/>
                    </a:lnTo>
                    <a:lnTo>
                      <a:pt x="744" y="186"/>
                    </a:lnTo>
                    <a:lnTo>
                      <a:pt x="989" y="163"/>
                    </a:lnTo>
                    <a:lnTo>
                      <a:pt x="1150" y="147"/>
                    </a:lnTo>
                    <a:lnTo>
                      <a:pt x="1253" y="113"/>
                    </a:lnTo>
                    <a:lnTo>
                      <a:pt x="1352" y="48"/>
                    </a:lnTo>
                    <a:lnTo>
                      <a:pt x="1346" y="0"/>
                    </a:lnTo>
                    <a:lnTo>
                      <a:pt x="1404" y="16"/>
                    </a:lnTo>
                    <a:lnTo>
                      <a:pt x="1388" y="180"/>
                    </a:lnTo>
                    <a:lnTo>
                      <a:pt x="1238" y="257"/>
                    </a:lnTo>
                    <a:lnTo>
                      <a:pt x="905" y="273"/>
                    </a:lnTo>
                    <a:lnTo>
                      <a:pt x="571" y="311"/>
                    </a:lnTo>
                    <a:lnTo>
                      <a:pt x="375" y="338"/>
                    </a:lnTo>
                    <a:lnTo>
                      <a:pt x="145" y="273"/>
                    </a:lnTo>
                    <a:lnTo>
                      <a:pt x="31" y="240"/>
                    </a:lnTo>
                    <a:lnTo>
                      <a:pt x="0" y="147"/>
                    </a:lnTo>
                    <a:lnTo>
                      <a:pt x="31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872120" y="2686320"/>
                <a:ext cx="55080" cy="50400"/>
              </a:xfrm>
              <a:custGeom>
                <a:avLst/>
                <a:gdLst/>
                <a:ahLst/>
                <a:rect l="l" t="t" r="r" b="b"/>
                <a:pathLst>
                  <a:path w="153" h="140">
                    <a:moveTo>
                      <a:pt x="5" y="5"/>
                    </a:moveTo>
                    <a:lnTo>
                      <a:pt x="142" y="0"/>
                    </a:lnTo>
                    <a:lnTo>
                      <a:pt x="152" y="139"/>
                    </a:lnTo>
                    <a:lnTo>
                      <a:pt x="0" y="139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971840" y="2679840"/>
                <a:ext cx="51840" cy="5040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4" y="5"/>
                    </a:moveTo>
                    <a:lnTo>
                      <a:pt x="134" y="0"/>
                    </a:lnTo>
                    <a:lnTo>
                      <a:pt x="145" y="140"/>
                    </a:lnTo>
                    <a:lnTo>
                      <a:pt x="0" y="140"/>
                    </a:lnTo>
                    <a:lnTo>
                      <a:pt x="4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290440" y="2664000"/>
                <a:ext cx="215280" cy="59760"/>
              </a:xfrm>
              <a:custGeom>
                <a:avLst/>
                <a:gdLst/>
                <a:ahLst/>
                <a:rect l="l" t="t" r="r" b="b"/>
                <a:pathLst>
                  <a:path w="599" h="167">
                    <a:moveTo>
                      <a:pt x="0" y="48"/>
                    </a:moveTo>
                    <a:lnTo>
                      <a:pt x="583" y="0"/>
                    </a:lnTo>
                    <a:lnTo>
                      <a:pt x="598" y="104"/>
                    </a:lnTo>
                    <a:lnTo>
                      <a:pt x="0" y="16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63040" y="1727280"/>
                <a:ext cx="899640" cy="748080"/>
              </a:xfrm>
              <a:custGeom>
                <a:avLst/>
                <a:gdLst/>
                <a:ahLst/>
                <a:rect l="l" t="t" r="r" b="b"/>
                <a:pathLst>
                  <a:path w="2506" h="2083">
                    <a:moveTo>
                      <a:pt x="206" y="1978"/>
                    </a:moveTo>
                    <a:lnTo>
                      <a:pt x="139" y="1907"/>
                    </a:lnTo>
                    <a:lnTo>
                      <a:pt x="92" y="1771"/>
                    </a:lnTo>
                    <a:lnTo>
                      <a:pt x="77" y="1482"/>
                    </a:lnTo>
                    <a:lnTo>
                      <a:pt x="77" y="991"/>
                    </a:lnTo>
                    <a:lnTo>
                      <a:pt x="92" y="626"/>
                    </a:lnTo>
                    <a:lnTo>
                      <a:pt x="139" y="539"/>
                    </a:lnTo>
                    <a:lnTo>
                      <a:pt x="217" y="436"/>
                    </a:lnTo>
                    <a:lnTo>
                      <a:pt x="397" y="359"/>
                    </a:lnTo>
                    <a:lnTo>
                      <a:pt x="730" y="249"/>
                    </a:lnTo>
                    <a:lnTo>
                      <a:pt x="1001" y="180"/>
                    </a:lnTo>
                    <a:lnTo>
                      <a:pt x="1125" y="103"/>
                    </a:lnTo>
                    <a:lnTo>
                      <a:pt x="1338" y="82"/>
                    </a:lnTo>
                    <a:lnTo>
                      <a:pt x="1726" y="120"/>
                    </a:lnTo>
                    <a:lnTo>
                      <a:pt x="2042" y="98"/>
                    </a:lnTo>
                    <a:lnTo>
                      <a:pt x="2178" y="64"/>
                    </a:lnTo>
                    <a:lnTo>
                      <a:pt x="2287" y="98"/>
                    </a:lnTo>
                    <a:lnTo>
                      <a:pt x="2360" y="299"/>
                    </a:lnTo>
                    <a:lnTo>
                      <a:pt x="2401" y="669"/>
                    </a:lnTo>
                    <a:lnTo>
                      <a:pt x="2448" y="965"/>
                    </a:lnTo>
                    <a:lnTo>
                      <a:pt x="2427" y="1100"/>
                    </a:lnTo>
                    <a:lnTo>
                      <a:pt x="2344" y="1433"/>
                    </a:lnTo>
                    <a:lnTo>
                      <a:pt x="2230" y="1765"/>
                    </a:lnTo>
                    <a:lnTo>
                      <a:pt x="2163" y="1896"/>
                    </a:lnTo>
                    <a:lnTo>
                      <a:pt x="2111" y="1957"/>
                    </a:lnTo>
                    <a:lnTo>
                      <a:pt x="2184" y="2000"/>
                    </a:lnTo>
                    <a:lnTo>
                      <a:pt x="2262" y="1858"/>
                    </a:lnTo>
                    <a:lnTo>
                      <a:pt x="2380" y="1558"/>
                    </a:lnTo>
                    <a:lnTo>
                      <a:pt x="2463" y="1243"/>
                    </a:lnTo>
                    <a:lnTo>
                      <a:pt x="2494" y="1084"/>
                    </a:lnTo>
                    <a:lnTo>
                      <a:pt x="2505" y="932"/>
                    </a:lnTo>
                    <a:lnTo>
                      <a:pt x="2474" y="685"/>
                    </a:lnTo>
                    <a:lnTo>
                      <a:pt x="2427" y="315"/>
                    </a:lnTo>
                    <a:lnTo>
                      <a:pt x="2365" y="114"/>
                    </a:lnTo>
                    <a:lnTo>
                      <a:pt x="2303" y="21"/>
                    </a:lnTo>
                    <a:lnTo>
                      <a:pt x="2199" y="0"/>
                    </a:lnTo>
                    <a:lnTo>
                      <a:pt x="2070" y="37"/>
                    </a:lnTo>
                    <a:lnTo>
                      <a:pt x="1872" y="48"/>
                    </a:lnTo>
                    <a:lnTo>
                      <a:pt x="1623" y="48"/>
                    </a:lnTo>
                    <a:lnTo>
                      <a:pt x="1364" y="16"/>
                    </a:lnTo>
                    <a:lnTo>
                      <a:pt x="1187" y="21"/>
                    </a:lnTo>
                    <a:lnTo>
                      <a:pt x="1103" y="54"/>
                    </a:lnTo>
                    <a:lnTo>
                      <a:pt x="906" y="157"/>
                    </a:lnTo>
                    <a:lnTo>
                      <a:pt x="533" y="266"/>
                    </a:lnTo>
                    <a:lnTo>
                      <a:pt x="170" y="392"/>
                    </a:lnTo>
                    <a:lnTo>
                      <a:pt x="71" y="523"/>
                    </a:lnTo>
                    <a:lnTo>
                      <a:pt x="4" y="703"/>
                    </a:lnTo>
                    <a:lnTo>
                      <a:pt x="0" y="1057"/>
                    </a:lnTo>
                    <a:lnTo>
                      <a:pt x="14" y="1389"/>
                    </a:lnTo>
                    <a:lnTo>
                      <a:pt x="25" y="1734"/>
                    </a:lnTo>
                    <a:lnTo>
                      <a:pt x="81" y="1939"/>
                    </a:lnTo>
                    <a:lnTo>
                      <a:pt x="139" y="2044"/>
                    </a:lnTo>
                    <a:lnTo>
                      <a:pt x="237" y="2082"/>
                    </a:lnTo>
                    <a:lnTo>
                      <a:pt x="299" y="2060"/>
                    </a:lnTo>
                    <a:lnTo>
                      <a:pt x="206" y="197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2800" y="1740960"/>
                <a:ext cx="776520" cy="746640"/>
              </a:xfrm>
              <a:custGeom>
                <a:avLst/>
                <a:gdLst/>
                <a:ahLst/>
                <a:rect l="l" t="t" r="r" b="b"/>
                <a:pathLst>
                  <a:path w="2162" h="2079">
                    <a:moveTo>
                      <a:pt x="31" y="1969"/>
                    </a:moveTo>
                    <a:lnTo>
                      <a:pt x="388" y="1997"/>
                    </a:lnTo>
                    <a:lnTo>
                      <a:pt x="892" y="2008"/>
                    </a:lnTo>
                    <a:lnTo>
                      <a:pt x="1299" y="2008"/>
                    </a:lnTo>
                    <a:lnTo>
                      <a:pt x="1657" y="1963"/>
                    </a:lnTo>
                    <a:lnTo>
                      <a:pt x="1901" y="1920"/>
                    </a:lnTo>
                    <a:lnTo>
                      <a:pt x="1963" y="1888"/>
                    </a:lnTo>
                    <a:lnTo>
                      <a:pt x="1963" y="1703"/>
                    </a:lnTo>
                    <a:lnTo>
                      <a:pt x="1875" y="1217"/>
                    </a:lnTo>
                    <a:lnTo>
                      <a:pt x="1777" y="621"/>
                    </a:lnTo>
                    <a:lnTo>
                      <a:pt x="1724" y="409"/>
                    </a:lnTo>
                    <a:lnTo>
                      <a:pt x="1672" y="326"/>
                    </a:lnTo>
                    <a:lnTo>
                      <a:pt x="1054" y="398"/>
                    </a:lnTo>
                    <a:lnTo>
                      <a:pt x="446" y="414"/>
                    </a:lnTo>
                    <a:lnTo>
                      <a:pt x="114" y="419"/>
                    </a:lnTo>
                    <a:lnTo>
                      <a:pt x="0" y="437"/>
                    </a:lnTo>
                    <a:lnTo>
                      <a:pt x="61" y="349"/>
                    </a:lnTo>
                    <a:lnTo>
                      <a:pt x="207" y="365"/>
                    </a:lnTo>
                    <a:lnTo>
                      <a:pt x="622" y="349"/>
                    </a:lnTo>
                    <a:lnTo>
                      <a:pt x="1012" y="326"/>
                    </a:lnTo>
                    <a:lnTo>
                      <a:pt x="1361" y="294"/>
                    </a:lnTo>
                    <a:lnTo>
                      <a:pt x="1698" y="261"/>
                    </a:lnTo>
                    <a:lnTo>
                      <a:pt x="1954" y="137"/>
                    </a:lnTo>
                    <a:lnTo>
                      <a:pt x="2099" y="0"/>
                    </a:lnTo>
                    <a:lnTo>
                      <a:pt x="2161" y="65"/>
                    </a:lnTo>
                    <a:lnTo>
                      <a:pt x="2025" y="153"/>
                    </a:lnTo>
                    <a:lnTo>
                      <a:pt x="1823" y="288"/>
                    </a:lnTo>
                    <a:lnTo>
                      <a:pt x="1760" y="332"/>
                    </a:lnTo>
                    <a:lnTo>
                      <a:pt x="1833" y="649"/>
                    </a:lnTo>
                    <a:lnTo>
                      <a:pt x="1891" y="953"/>
                    </a:lnTo>
                    <a:lnTo>
                      <a:pt x="1937" y="1238"/>
                    </a:lnTo>
                    <a:lnTo>
                      <a:pt x="1984" y="1506"/>
                    </a:lnTo>
                    <a:lnTo>
                      <a:pt x="2025" y="1703"/>
                    </a:lnTo>
                    <a:lnTo>
                      <a:pt x="2042" y="1876"/>
                    </a:lnTo>
                    <a:lnTo>
                      <a:pt x="2016" y="1969"/>
                    </a:lnTo>
                    <a:lnTo>
                      <a:pt x="1740" y="2040"/>
                    </a:lnTo>
                    <a:lnTo>
                      <a:pt x="1256" y="2078"/>
                    </a:lnTo>
                    <a:lnTo>
                      <a:pt x="748" y="2056"/>
                    </a:lnTo>
                    <a:lnTo>
                      <a:pt x="379" y="2056"/>
                    </a:lnTo>
                    <a:lnTo>
                      <a:pt x="72" y="2046"/>
                    </a:lnTo>
                    <a:lnTo>
                      <a:pt x="31" y="19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10280" y="1929960"/>
                <a:ext cx="537120" cy="478800"/>
              </a:xfrm>
              <a:custGeom>
                <a:avLst/>
                <a:gdLst/>
                <a:ahLst/>
                <a:rect l="l" t="t" r="r" b="b"/>
                <a:pathLst>
                  <a:path w="1493" h="1331">
                    <a:moveTo>
                      <a:pt x="0" y="31"/>
                    </a:moveTo>
                    <a:lnTo>
                      <a:pt x="494" y="16"/>
                    </a:lnTo>
                    <a:lnTo>
                      <a:pt x="832" y="0"/>
                    </a:lnTo>
                    <a:lnTo>
                      <a:pt x="1212" y="5"/>
                    </a:lnTo>
                    <a:lnTo>
                      <a:pt x="1269" y="47"/>
                    </a:lnTo>
                    <a:lnTo>
                      <a:pt x="1315" y="119"/>
                    </a:lnTo>
                    <a:lnTo>
                      <a:pt x="1399" y="495"/>
                    </a:lnTo>
                    <a:lnTo>
                      <a:pt x="1461" y="921"/>
                    </a:lnTo>
                    <a:lnTo>
                      <a:pt x="1492" y="1210"/>
                    </a:lnTo>
                    <a:lnTo>
                      <a:pt x="1461" y="1308"/>
                    </a:lnTo>
                    <a:lnTo>
                      <a:pt x="1382" y="1330"/>
                    </a:lnTo>
                    <a:lnTo>
                      <a:pt x="946" y="1276"/>
                    </a:lnTo>
                    <a:lnTo>
                      <a:pt x="1399" y="1232"/>
                    </a:lnTo>
                    <a:lnTo>
                      <a:pt x="1424" y="1221"/>
                    </a:lnTo>
                    <a:lnTo>
                      <a:pt x="1414" y="1020"/>
                    </a:lnTo>
                    <a:lnTo>
                      <a:pt x="1382" y="736"/>
                    </a:lnTo>
                    <a:lnTo>
                      <a:pt x="1310" y="348"/>
                    </a:lnTo>
                    <a:lnTo>
                      <a:pt x="1249" y="108"/>
                    </a:lnTo>
                    <a:lnTo>
                      <a:pt x="1197" y="74"/>
                    </a:lnTo>
                    <a:lnTo>
                      <a:pt x="920" y="58"/>
                    </a:lnTo>
                    <a:lnTo>
                      <a:pt x="551" y="74"/>
                    </a:lnTo>
                    <a:lnTo>
                      <a:pt x="244" y="6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854480" y="1937880"/>
                <a:ext cx="533880" cy="464400"/>
              </a:xfrm>
              <a:custGeom>
                <a:avLst/>
                <a:gdLst/>
                <a:ahLst/>
                <a:rect l="l" t="t" r="r" b="b"/>
                <a:pathLst>
                  <a:path w="1484" h="1292">
                    <a:moveTo>
                      <a:pt x="684" y="0"/>
                    </a:moveTo>
                    <a:lnTo>
                      <a:pt x="201" y="0"/>
                    </a:lnTo>
                    <a:lnTo>
                      <a:pt x="67" y="15"/>
                    </a:lnTo>
                    <a:lnTo>
                      <a:pt x="41" y="69"/>
                    </a:lnTo>
                    <a:lnTo>
                      <a:pt x="15" y="178"/>
                    </a:lnTo>
                    <a:lnTo>
                      <a:pt x="0" y="484"/>
                    </a:lnTo>
                    <a:lnTo>
                      <a:pt x="15" y="779"/>
                    </a:lnTo>
                    <a:lnTo>
                      <a:pt x="51" y="1073"/>
                    </a:lnTo>
                    <a:lnTo>
                      <a:pt x="113" y="1193"/>
                    </a:lnTo>
                    <a:lnTo>
                      <a:pt x="139" y="1220"/>
                    </a:lnTo>
                    <a:lnTo>
                      <a:pt x="440" y="1253"/>
                    </a:lnTo>
                    <a:lnTo>
                      <a:pt x="840" y="1269"/>
                    </a:lnTo>
                    <a:lnTo>
                      <a:pt x="1131" y="1275"/>
                    </a:lnTo>
                    <a:lnTo>
                      <a:pt x="1483" y="1291"/>
                    </a:lnTo>
                    <a:lnTo>
                      <a:pt x="1462" y="1241"/>
                    </a:lnTo>
                    <a:lnTo>
                      <a:pt x="1193" y="1220"/>
                    </a:lnTo>
                    <a:lnTo>
                      <a:pt x="840" y="1193"/>
                    </a:lnTo>
                    <a:lnTo>
                      <a:pt x="346" y="1193"/>
                    </a:lnTo>
                    <a:lnTo>
                      <a:pt x="169" y="1134"/>
                    </a:lnTo>
                    <a:lnTo>
                      <a:pt x="113" y="1090"/>
                    </a:lnTo>
                    <a:lnTo>
                      <a:pt x="96" y="1002"/>
                    </a:lnTo>
                    <a:lnTo>
                      <a:pt x="71" y="757"/>
                    </a:lnTo>
                    <a:lnTo>
                      <a:pt x="67" y="456"/>
                    </a:lnTo>
                    <a:lnTo>
                      <a:pt x="87" y="146"/>
                    </a:lnTo>
                    <a:lnTo>
                      <a:pt x="113" y="74"/>
                    </a:lnTo>
                    <a:lnTo>
                      <a:pt x="434" y="31"/>
                    </a:lnTo>
                    <a:lnTo>
                      <a:pt x="6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8826480" y="1231920"/>
            <a:ext cx="776160" cy="686880"/>
            <a:chOff x="8826480" y="1231920"/>
            <a:chExt cx="776160" cy="686880"/>
          </a:xfrm>
        </p:grpSpPr>
        <p:sp>
          <p:nvSpPr>
            <p:cNvPr id="394" name=""/>
            <p:cNvSpPr/>
            <p:nvPr/>
          </p:nvSpPr>
          <p:spPr>
            <a:xfrm>
              <a:off x="8834400" y="1239840"/>
              <a:ext cx="768240" cy="674640"/>
            </a:xfrm>
            <a:custGeom>
              <a:avLst/>
              <a:gdLst/>
              <a:ahLst/>
              <a:rect l="l" t="t" r="r" b="b"/>
              <a:pathLst>
                <a:path w="2134" h="1874">
                  <a:moveTo>
                    <a:pt x="398" y="1250"/>
                  </a:moveTo>
                  <a:lnTo>
                    <a:pt x="233" y="1371"/>
                  </a:lnTo>
                  <a:lnTo>
                    <a:pt x="27" y="1518"/>
                  </a:lnTo>
                  <a:lnTo>
                    <a:pt x="27" y="1643"/>
                  </a:lnTo>
                  <a:lnTo>
                    <a:pt x="61" y="1873"/>
                  </a:lnTo>
                  <a:lnTo>
                    <a:pt x="406" y="1864"/>
                  </a:lnTo>
                  <a:lnTo>
                    <a:pt x="793" y="1826"/>
                  </a:lnTo>
                  <a:lnTo>
                    <a:pt x="1373" y="1819"/>
                  </a:lnTo>
                  <a:lnTo>
                    <a:pt x="1804" y="1826"/>
                  </a:lnTo>
                  <a:lnTo>
                    <a:pt x="1952" y="1602"/>
                  </a:lnTo>
                  <a:lnTo>
                    <a:pt x="2133" y="1160"/>
                  </a:lnTo>
                  <a:lnTo>
                    <a:pt x="2101" y="1022"/>
                  </a:lnTo>
                  <a:lnTo>
                    <a:pt x="2034" y="969"/>
                  </a:lnTo>
                  <a:lnTo>
                    <a:pt x="1841" y="979"/>
                  </a:lnTo>
                  <a:lnTo>
                    <a:pt x="1928" y="643"/>
                  </a:lnTo>
                  <a:lnTo>
                    <a:pt x="1940" y="535"/>
                  </a:lnTo>
                  <a:lnTo>
                    <a:pt x="1895" y="274"/>
                  </a:lnTo>
                  <a:lnTo>
                    <a:pt x="1850" y="83"/>
                  </a:lnTo>
                  <a:lnTo>
                    <a:pt x="1767" y="0"/>
                  </a:lnTo>
                  <a:lnTo>
                    <a:pt x="1710" y="0"/>
                  </a:lnTo>
                  <a:lnTo>
                    <a:pt x="1553" y="19"/>
                  </a:lnTo>
                  <a:lnTo>
                    <a:pt x="1299" y="29"/>
                  </a:lnTo>
                  <a:lnTo>
                    <a:pt x="1134" y="9"/>
                  </a:lnTo>
                  <a:lnTo>
                    <a:pt x="957" y="3"/>
                  </a:lnTo>
                  <a:lnTo>
                    <a:pt x="887" y="16"/>
                  </a:lnTo>
                  <a:lnTo>
                    <a:pt x="740" y="73"/>
                  </a:lnTo>
                  <a:lnTo>
                    <a:pt x="513" y="123"/>
                  </a:lnTo>
                  <a:lnTo>
                    <a:pt x="225" y="204"/>
                  </a:lnTo>
                  <a:lnTo>
                    <a:pt x="118" y="254"/>
                  </a:lnTo>
                  <a:lnTo>
                    <a:pt x="20" y="344"/>
                  </a:lnTo>
                  <a:lnTo>
                    <a:pt x="0" y="472"/>
                  </a:lnTo>
                  <a:lnTo>
                    <a:pt x="0" y="686"/>
                  </a:lnTo>
                  <a:lnTo>
                    <a:pt x="12" y="939"/>
                  </a:lnTo>
                  <a:lnTo>
                    <a:pt x="32" y="1090"/>
                  </a:lnTo>
                  <a:lnTo>
                    <a:pt x="73" y="1173"/>
                  </a:lnTo>
                  <a:lnTo>
                    <a:pt x="143" y="1220"/>
                  </a:lnTo>
                  <a:lnTo>
                    <a:pt x="221" y="1237"/>
                  </a:lnTo>
                  <a:lnTo>
                    <a:pt x="398" y="125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907480" y="1362240"/>
              <a:ext cx="449280" cy="279360"/>
            </a:xfrm>
            <a:custGeom>
              <a:avLst/>
              <a:gdLst/>
              <a:ahLst/>
              <a:rect l="l" t="t" r="r" b="b"/>
              <a:pathLst>
                <a:path w="1249" h="777">
                  <a:moveTo>
                    <a:pt x="2" y="210"/>
                  </a:moveTo>
                  <a:lnTo>
                    <a:pt x="14" y="66"/>
                  </a:lnTo>
                  <a:lnTo>
                    <a:pt x="43" y="26"/>
                  </a:lnTo>
                  <a:lnTo>
                    <a:pt x="117" y="9"/>
                  </a:lnTo>
                  <a:lnTo>
                    <a:pt x="430" y="2"/>
                  </a:lnTo>
                  <a:lnTo>
                    <a:pt x="809" y="0"/>
                  </a:lnTo>
                  <a:lnTo>
                    <a:pt x="1030" y="2"/>
                  </a:lnTo>
                  <a:lnTo>
                    <a:pt x="1084" y="29"/>
                  </a:lnTo>
                  <a:lnTo>
                    <a:pt x="1125" y="83"/>
                  </a:lnTo>
                  <a:lnTo>
                    <a:pt x="1179" y="311"/>
                  </a:lnTo>
                  <a:lnTo>
                    <a:pt x="1236" y="569"/>
                  </a:lnTo>
                  <a:lnTo>
                    <a:pt x="1248" y="726"/>
                  </a:lnTo>
                  <a:lnTo>
                    <a:pt x="1228" y="753"/>
                  </a:lnTo>
                  <a:lnTo>
                    <a:pt x="1162" y="776"/>
                  </a:lnTo>
                  <a:lnTo>
                    <a:pt x="833" y="769"/>
                  </a:lnTo>
                  <a:lnTo>
                    <a:pt x="328" y="750"/>
                  </a:lnTo>
                  <a:lnTo>
                    <a:pt x="81" y="729"/>
                  </a:lnTo>
                  <a:lnTo>
                    <a:pt x="43" y="689"/>
                  </a:lnTo>
                  <a:lnTo>
                    <a:pt x="19" y="608"/>
                  </a:lnTo>
                  <a:lnTo>
                    <a:pt x="0" y="408"/>
                  </a:lnTo>
                  <a:lnTo>
                    <a:pt x="2" y="21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8826480" y="1231920"/>
              <a:ext cx="775800" cy="686880"/>
              <a:chOff x="8826480" y="1231920"/>
              <a:chExt cx="775800" cy="686880"/>
            </a:xfrm>
          </p:grpSpPr>
          <p:sp>
            <p:nvSpPr>
              <p:cNvPr id="397" name=""/>
              <p:cNvSpPr/>
              <p:nvPr/>
            </p:nvSpPr>
            <p:spPr>
              <a:xfrm>
                <a:off x="8834040" y="1577880"/>
                <a:ext cx="768240" cy="340920"/>
              </a:xfrm>
              <a:custGeom>
                <a:avLst/>
                <a:gdLst/>
                <a:ahLst/>
                <a:rect l="l" t="t" r="r" b="b"/>
                <a:pathLst>
                  <a:path w="2140" h="951">
                    <a:moveTo>
                      <a:pt x="0" y="572"/>
                    </a:moveTo>
                    <a:lnTo>
                      <a:pt x="261" y="385"/>
                    </a:lnTo>
                    <a:lnTo>
                      <a:pt x="270" y="428"/>
                    </a:lnTo>
                    <a:lnTo>
                      <a:pt x="90" y="562"/>
                    </a:lnTo>
                    <a:lnTo>
                      <a:pt x="404" y="553"/>
                    </a:lnTo>
                    <a:lnTo>
                      <a:pt x="1081" y="553"/>
                    </a:lnTo>
                    <a:lnTo>
                      <a:pt x="1439" y="532"/>
                    </a:lnTo>
                    <a:lnTo>
                      <a:pt x="1660" y="496"/>
                    </a:lnTo>
                    <a:lnTo>
                      <a:pt x="1718" y="486"/>
                    </a:lnTo>
                    <a:lnTo>
                      <a:pt x="1980" y="53"/>
                    </a:lnTo>
                    <a:lnTo>
                      <a:pt x="1857" y="23"/>
                    </a:lnTo>
                    <a:lnTo>
                      <a:pt x="2040" y="0"/>
                    </a:lnTo>
                    <a:lnTo>
                      <a:pt x="2106" y="46"/>
                    </a:lnTo>
                    <a:lnTo>
                      <a:pt x="2139" y="207"/>
                    </a:lnTo>
                    <a:lnTo>
                      <a:pt x="2086" y="339"/>
                    </a:lnTo>
                    <a:lnTo>
                      <a:pt x="1913" y="759"/>
                    </a:lnTo>
                    <a:lnTo>
                      <a:pt x="1836" y="890"/>
                    </a:lnTo>
                    <a:lnTo>
                      <a:pt x="1762" y="907"/>
                    </a:lnTo>
                    <a:lnTo>
                      <a:pt x="1220" y="896"/>
                    </a:lnTo>
                    <a:lnTo>
                      <a:pt x="651" y="910"/>
                    </a:lnTo>
                    <a:lnTo>
                      <a:pt x="110" y="943"/>
                    </a:lnTo>
                    <a:lnTo>
                      <a:pt x="32" y="950"/>
                    </a:lnTo>
                    <a:lnTo>
                      <a:pt x="24" y="822"/>
                    </a:lnTo>
                    <a:lnTo>
                      <a:pt x="12" y="702"/>
                    </a:lnTo>
                    <a:lnTo>
                      <a:pt x="12" y="635"/>
                    </a:lnTo>
                    <a:lnTo>
                      <a:pt x="53" y="675"/>
                    </a:lnTo>
                    <a:lnTo>
                      <a:pt x="65" y="776"/>
                    </a:lnTo>
                    <a:lnTo>
                      <a:pt x="82" y="883"/>
                    </a:lnTo>
                    <a:lnTo>
                      <a:pt x="236" y="900"/>
                    </a:lnTo>
                    <a:lnTo>
                      <a:pt x="589" y="873"/>
                    </a:lnTo>
                    <a:lnTo>
                      <a:pt x="889" y="853"/>
                    </a:lnTo>
                    <a:lnTo>
                      <a:pt x="1139" y="853"/>
                    </a:lnTo>
                    <a:lnTo>
                      <a:pt x="1517" y="853"/>
                    </a:lnTo>
                    <a:lnTo>
                      <a:pt x="1753" y="853"/>
                    </a:lnTo>
                    <a:lnTo>
                      <a:pt x="1762" y="793"/>
                    </a:lnTo>
                    <a:lnTo>
                      <a:pt x="1737" y="672"/>
                    </a:lnTo>
                    <a:lnTo>
                      <a:pt x="1722" y="543"/>
                    </a:lnTo>
                    <a:lnTo>
                      <a:pt x="1753" y="572"/>
                    </a:lnTo>
                    <a:lnTo>
                      <a:pt x="1787" y="720"/>
                    </a:lnTo>
                    <a:lnTo>
                      <a:pt x="1819" y="793"/>
                    </a:lnTo>
                    <a:lnTo>
                      <a:pt x="1857" y="757"/>
                    </a:lnTo>
                    <a:lnTo>
                      <a:pt x="1922" y="613"/>
                    </a:lnTo>
                    <a:lnTo>
                      <a:pt x="2016" y="401"/>
                    </a:lnTo>
                    <a:lnTo>
                      <a:pt x="2086" y="235"/>
                    </a:lnTo>
                    <a:lnTo>
                      <a:pt x="2098" y="184"/>
                    </a:lnTo>
                    <a:lnTo>
                      <a:pt x="2065" y="63"/>
                    </a:lnTo>
                    <a:lnTo>
                      <a:pt x="2028" y="57"/>
                    </a:lnTo>
                    <a:lnTo>
                      <a:pt x="1955" y="197"/>
                    </a:lnTo>
                    <a:lnTo>
                      <a:pt x="1832" y="382"/>
                    </a:lnTo>
                    <a:lnTo>
                      <a:pt x="1737" y="522"/>
                    </a:lnTo>
                    <a:lnTo>
                      <a:pt x="1648" y="546"/>
                    </a:lnTo>
                    <a:lnTo>
                      <a:pt x="1319" y="579"/>
                    </a:lnTo>
                    <a:lnTo>
                      <a:pt x="933" y="600"/>
                    </a:lnTo>
                    <a:lnTo>
                      <a:pt x="552" y="600"/>
                    </a:lnTo>
                    <a:lnTo>
                      <a:pt x="122" y="603"/>
                    </a:lnTo>
                    <a:lnTo>
                      <a:pt x="0" y="5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75520" y="1694520"/>
                <a:ext cx="397080" cy="74160"/>
              </a:xfrm>
              <a:custGeom>
                <a:avLst/>
                <a:gdLst/>
                <a:ahLst/>
                <a:rect l="l" t="t" r="r" b="b"/>
                <a:pathLst>
                  <a:path w="1109" h="207">
                    <a:moveTo>
                      <a:pt x="24" y="33"/>
                    </a:moveTo>
                    <a:lnTo>
                      <a:pt x="102" y="0"/>
                    </a:lnTo>
                    <a:lnTo>
                      <a:pt x="140" y="10"/>
                    </a:lnTo>
                    <a:lnTo>
                      <a:pt x="114" y="52"/>
                    </a:lnTo>
                    <a:lnTo>
                      <a:pt x="57" y="82"/>
                    </a:lnTo>
                    <a:lnTo>
                      <a:pt x="168" y="129"/>
                    </a:lnTo>
                    <a:lnTo>
                      <a:pt x="336" y="132"/>
                    </a:lnTo>
                    <a:lnTo>
                      <a:pt x="480" y="122"/>
                    </a:lnTo>
                    <a:lnTo>
                      <a:pt x="587" y="113"/>
                    </a:lnTo>
                    <a:lnTo>
                      <a:pt x="781" y="99"/>
                    </a:lnTo>
                    <a:lnTo>
                      <a:pt x="907" y="89"/>
                    </a:lnTo>
                    <a:lnTo>
                      <a:pt x="989" y="69"/>
                    </a:lnTo>
                    <a:lnTo>
                      <a:pt x="1068" y="29"/>
                    </a:lnTo>
                    <a:lnTo>
                      <a:pt x="1063" y="0"/>
                    </a:lnTo>
                    <a:lnTo>
                      <a:pt x="1108" y="10"/>
                    </a:lnTo>
                    <a:lnTo>
                      <a:pt x="1096" y="109"/>
                    </a:lnTo>
                    <a:lnTo>
                      <a:pt x="977" y="156"/>
                    </a:lnTo>
                    <a:lnTo>
                      <a:pt x="715" y="166"/>
                    </a:lnTo>
                    <a:lnTo>
                      <a:pt x="451" y="189"/>
                    </a:lnTo>
                    <a:lnTo>
                      <a:pt x="295" y="206"/>
                    </a:lnTo>
                    <a:lnTo>
                      <a:pt x="114" y="166"/>
                    </a:lnTo>
                    <a:lnTo>
                      <a:pt x="24" y="146"/>
                    </a:lnTo>
                    <a:lnTo>
                      <a:pt x="0" y="89"/>
                    </a:lnTo>
                    <a:lnTo>
                      <a:pt x="24" y="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13600" y="1818000"/>
                <a:ext cx="43920" cy="31320"/>
              </a:xfrm>
              <a:custGeom>
                <a:avLst/>
                <a:gdLst/>
                <a:ahLst/>
                <a:rect l="l" t="t" r="r" b="b"/>
                <a:pathLst>
                  <a:path w="122" h="89">
                    <a:moveTo>
                      <a:pt x="4" y="3"/>
                    </a:moveTo>
                    <a:lnTo>
                      <a:pt x="112" y="0"/>
                    </a:lnTo>
                    <a:lnTo>
                      <a:pt x="121" y="88"/>
                    </a:lnTo>
                    <a:lnTo>
                      <a:pt x="0" y="88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2440" y="1814760"/>
                <a:ext cx="42480" cy="31320"/>
              </a:xfrm>
              <a:custGeom>
                <a:avLst/>
                <a:gdLst/>
                <a:ahLst/>
                <a:rect l="l" t="t" r="r" b="b"/>
                <a:pathLst>
                  <a:path w="119" h="88">
                    <a:moveTo>
                      <a:pt x="4" y="3"/>
                    </a:moveTo>
                    <a:lnTo>
                      <a:pt x="110" y="0"/>
                    </a:lnTo>
                    <a:lnTo>
                      <a:pt x="118" y="87"/>
                    </a:lnTo>
                    <a:lnTo>
                      <a:pt x="0" y="87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243000" y="1803600"/>
                <a:ext cx="169200" cy="36360"/>
              </a:xfrm>
              <a:custGeom>
                <a:avLst/>
                <a:gdLst/>
                <a:ahLst/>
                <a:rect l="l" t="t" r="r" b="b"/>
                <a:pathLst>
                  <a:path w="472" h="102">
                    <a:moveTo>
                      <a:pt x="0" y="30"/>
                    </a:moveTo>
                    <a:lnTo>
                      <a:pt x="459" y="0"/>
                    </a:lnTo>
                    <a:lnTo>
                      <a:pt x="471" y="63"/>
                    </a:lnTo>
                    <a:lnTo>
                      <a:pt x="0" y="101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826480" y="1231920"/>
                <a:ext cx="711000" cy="458280"/>
              </a:xfrm>
              <a:custGeom>
                <a:avLst/>
                <a:gdLst/>
                <a:ahLst/>
                <a:rect l="l" t="t" r="r" b="b"/>
                <a:pathLst>
                  <a:path w="1980" h="1278">
                    <a:moveTo>
                      <a:pt x="163" y="1213"/>
                    </a:moveTo>
                    <a:lnTo>
                      <a:pt x="111" y="1169"/>
                    </a:lnTo>
                    <a:lnTo>
                      <a:pt x="74" y="1086"/>
                    </a:lnTo>
                    <a:lnTo>
                      <a:pt x="62" y="910"/>
                    </a:lnTo>
                    <a:lnTo>
                      <a:pt x="62" y="608"/>
                    </a:lnTo>
                    <a:lnTo>
                      <a:pt x="74" y="384"/>
                    </a:lnTo>
                    <a:lnTo>
                      <a:pt x="111" y="330"/>
                    </a:lnTo>
                    <a:lnTo>
                      <a:pt x="171" y="268"/>
                    </a:lnTo>
                    <a:lnTo>
                      <a:pt x="315" y="220"/>
                    </a:lnTo>
                    <a:lnTo>
                      <a:pt x="577" y="153"/>
                    </a:lnTo>
                    <a:lnTo>
                      <a:pt x="790" y="110"/>
                    </a:lnTo>
                    <a:lnTo>
                      <a:pt x="889" y="63"/>
                    </a:lnTo>
                    <a:lnTo>
                      <a:pt x="1058" y="50"/>
                    </a:lnTo>
                    <a:lnTo>
                      <a:pt x="1364" y="74"/>
                    </a:lnTo>
                    <a:lnTo>
                      <a:pt x="1614" y="60"/>
                    </a:lnTo>
                    <a:lnTo>
                      <a:pt x="1721" y="39"/>
                    </a:lnTo>
                    <a:lnTo>
                      <a:pt x="1807" y="60"/>
                    </a:lnTo>
                    <a:lnTo>
                      <a:pt x="1865" y="184"/>
                    </a:lnTo>
                    <a:lnTo>
                      <a:pt x="1897" y="410"/>
                    </a:lnTo>
                    <a:lnTo>
                      <a:pt x="1934" y="591"/>
                    </a:lnTo>
                    <a:lnTo>
                      <a:pt x="1918" y="674"/>
                    </a:lnTo>
                    <a:lnTo>
                      <a:pt x="1852" y="880"/>
                    </a:lnTo>
                    <a:lnTo>
                      <a:pt x="1761" y="1082"/>
                    </a:lnTo>
                    <a:lnTo>
                      <a:pt x="1709" y="1162"/>
                    </a:lnTo>
                    <a:lnTo>
                      <a:pt x="1668" y="1200"/>
                    </a:lnTo>
                    <a:lnTo>
                      <a:pt x="1726" y="1227"/>
                    </a:lnTo>
                    <a:lnTo>
                      <a:pt x="1786" y="1139"/>
                    </a:lnTo>
                    <a:lnTo>
                      <a:pt x="1880" y="956"/>
                    </a:lnTo>
                    <a:lnTo>
                      <a:pt x="1947" y="763"/>
                    </a:lnTo>
                    <a:lnTo>
                      <a:pt x="1971" y="665"/>
                    </a:lnTo>
                    <a:lnTo>
                      <a:pt x="1979" y="571"/>
                    </a:lnTo>
                    <a:lnTo>
                      <a:pt x="1955" y="420"/>
                    </a:lnTo>
                    <a:lnTo>
                      <a:pt x="1918" y="193"/>
                    </a:lnTo>
                    <a:lnTo>
                      <a:pt x="1868" y="70"/>
                    </a:lnTo>
                    <a:lnTo>
                      <a:pt x="1819" y="13"/>
                    </a:lnTo>
                    <a:lnTo>
                      <a:pt x="1738" y="0"/>
                    </a:lnTo>
                    <a:lnTo>
                      <a:pt x="1635" y="23"/>
                    </a:lnTo>
                    <a:lnTo>
                      <a:pt x="1480" y="30"/>
                    </a:lnTo>
                    <a:lnTo>
                      <a:pt x="1282" y="30"/>
                    </a:lnTo>
                    <a:lnTo>
                      <a:pt x="1078" y="10"/>
                    </a:lnTo>
                    <a:lnTo>
                      <a:pt x="938" y="13"/>
                    </a:lnTo>
                    <a:lnTo>
                      <a:pt x="872" y="33"/>
                    </a:lnTo>
                    <a:lnTo>
                      <a:pt x="716" y="96"/>
                    </a:lnTo>
                    <a:lnTo>
                      <a:pt x="421" y="164"/>
                    </a:lnTo>
                    <a:lnTo>
                      <a:pt x="135" y="241"/>
                    </a:lnTo>
                    <a:lnTo>
                      <a:pt x="57" y="320"/>
                    </a:lnTo>
                    <a:lnTo>
                      <a:pt x="4" y="431"/>
                    </a:lnTo>
                    <a:lnTo>
                      <a:pt x="0" y="648"/>
                    </a:lnTo>
                    <a:lnTo>
                      <a:pt x="12" y="853"/>
                    </a:lnTo>
                    <a:lnTo>
                      <a:pt x="21" y="1062"/>
                    </a:lnTo>
                    <a:lnTo>
                      <a:pt x="65" y="1189"/>
                    </a:lnTo>
                    <a:lnTo>
                      <a:pt x="111" y="1253"/>
                    </a:lnTo>
                    <a:lnTo>
                      <a:pt x="187" y="1277"/>
                    </a:lnTo>
                    <a:lnTo>
                      <a:pt x="237" y="1263"/>
                    </a:lnTo>
                    <a:lnTo>
                      <a:pt x="163" y="1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873640" y="1239480"/>
                <a:ext cx="613080" cy="458280"/>
              </a:xfrm>
              <a:custGeom>
                <a:avLst/>
                <a:gdLst/>
                <a:ahLst/>
                <a:rect l="l" t="t" r="r" b="b"/>
                <a:pathLst>
                  <a:path w="1708" h="1277">
                    <a:moveTo>
                      <a:pt x="24" y="1209"/>
                    </a:moveTo>
                    <a:lnTo>
                      <a:pt x="306" y="1225"/>
                    </a:lnTo>
                    <a:lnTo>
                      <a:pt x="705" y="1232"/>
                    </a:lnTo>
                    <a:lnTo>
                      <a:pt x="1026" y="1232"/>
                    </a:lnTo>
                    <a:lnTo>
                      <a:pt x="1310" y="1205"/>
                    </a:lnTo>
                    <a:lnTo>
                      <a:pt x="1502" y="1178"/>
                    </a:lnTo>
                    <a:lnTo>
                      <a:pt x="1551" y="1158"/>
                    </a:lnTo>
                    <a:lnTo>
                      <a:pt x="1551" y="1044"/>
                    </a:lnTo>
                    <a:lnTo>
                      <a:pt x="1481" y="746"/>
                    </a:lnTo>
                    <a:lnTo>
                      <a:pt x="1404" y="380"/>
                    </a:lnTo>
                    <a:lnTo>
                      <a:pt x="1362" y="251"/>
                    </a:lnTo>
                    <a:lnTo>
                      <a:pt x="1322" y="199"/>
                    </a:lnTo>
                    <a:lnTo>
                      <a:pt x="832" y="244"/>
                    </a:lnTo>
                    <a:lnTo>
                      <a:pt x="352" y="254"/>
                    </a:lnTo>
                    <a:lnTo>
                      <a:pt x="90" y="257"/>
                    </a:lnTo>
                    <a:lnTo>
                      <a:pt x="0" y="267"/>
                    </a:lnTo>
                    <a:lnTo>
                      <a:pt x="48" y="213"/>
                    </a:lnTo>
                    <a:lnTo>
                      <a:pt x="163" y="223"/>
                    </a:lnTo>
                    <a:lnTo>
                      <a:pt x="491" y="213"/>
                    </a:lnTo>
                    <a:lnTo>
                      <a:pt x="800" y="199"/>
                    </a:lnTo>
                    <a:lnTo>
                      <a:pt x="1076" y="179"/>
                    </a:lnTo>
                    <a:lnTo>
                      <a:pt x="1342" y="160"/>
                    </a:lnTo>
                    <a:lnTo>
                      <a:pt x="1544" y="83"/>
                    </a:lnTo>
                    <a:lnTo>
                      <a:pt x="1657" y="0"/>
                    </a:lnTo>
                    <a:lnTo>
                      <a:pt x="1707" y="39"/>
                    </a:lnTo>
                    <a:lnTo>
                      <a:pt x="1600" y="93"/>
                    </a:lnTo>
                    <a:lnTo>
                      <a:pt x="1440" y="176"/>
                    </a:lnTo>
                    <a:lnTo>
                      <a:pt x="1391" y="203"/>
                    </a:lnTo>
                    <a:lnTo>
                      <a:pt x="1449" y="397"/>
                    </a:lnTo>
                    <a:lnTo>
                      <a:pt x="1494" y="585"/>
                    </a:lnTo>
                    <a:lnTo>
                      <a:pt x="1531" y="759"/>
                    </a:lnTo>
                    <a:lnTo>
                      <a:pt x="1568" y="925"/>
                    </a:lnTo>
                    <a:lnTo>
                      <a:pt x="1600" y="1044"/>
                    </a:lnTo>
                    <a:lnTo>
                      <a:pt x="1614" y="1151"/>
                    </a:lnTo>
                    <a:lnTo>
                      <a:pt x="1593" y="1209"/>
                    </a:lnTo>
                    <a:lnTo>
                      <a:pt x="1375" y="1252"/>
                    </a:lnTo>
                    <a:lnTo>
                      <a:pt x="993" y="1276"/>
                    </a:lnTo>
                    <a:lnTo>
                      <a:pt x="590" y="1262"/>
                    </a:lnTo>
                    <a:lnTo>
                      <a:pt x="299" y="1262"/>
                    </a:lnTo>
                    <a:lnTo>
                      <a:pt x="56" y="1256"/>
                    </a:lnTo>
                    <a:lnTo>
                      <a:pt x="24" y="120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43480" y="1355040"/>
                <a:ext cx="423000" cy="292320"/>
              </a:xfrm>
              <a:custGeom>
                <a:avLst/>
                <a:gdLst/>
                <a:ahLst/>
                <a:rect l="l" t="t" r="r" b="b"/>
                <a:pathLst>
                  <a:path w="1176" h="816">
                    <a:moveTo>
                      <a:pt x="0" y="19"/>
                    </a:moveTo>
                    <a:lnTo>
                      <a:pt x="389" y="9"/>
                    </a:lnTo>
                    <a:lnTo>
                      <a:pt x="655" y="0"/>
                    </a:lnTo>
                    <a:lnTo>
                      <a:pt x="954" y="2"/>
                    </a:lnTo>
                    <a:lnTo>
                      <a:pt x="999" y="29"/>
                    </a:lnTo>
                    <a:lnTo>
                      <a:pt x="1036" y="73"/>
                    </a:lnTo>
                    <a:lnTo>
                      <a:pt x="1103" y="303"/>
                    </a:lnTo>
                    <a:lnTo>
                      <a:pt x="1152" y="566"/>
                    </a:lnTo>
                    <a:lnTo>
                      <a:pt x="1175" y="742"/>
                    </a:lnTo>
                    <a:lnTo>
                      <a:pt x="1152" y="802"/>
                    </a:lnTo>
                    <a:lnTo>
                      <a:pt x="1090" y="815"/>
                    </a:lnTo>
                    <a:lnTo>
                      <a:pt x="746" y="782"/>
                    </a:lnTo>
                    <a:lnTo>
                      <a:pt x="1103" y="755"/>
                    </a:lnTo>
                    <a:lnTo>
                      <a:pt x="1123" y="748"/>
                    </a:lnTo>
                    <a:lnTo>
                      <a:pt x="1115" y="625"/>
                    </a:lnTo>
                    <a:lnTo>
                      <a:pt x="1090" y="452"/>
                    </a:lnTo>
                    <a:lnTo>
                      <a:pt x="1033" y="213"/>
                    </a:lnTo>
                    <a:lnTo>
                      <a:pt x="983" y="66"/>
                    </a:lnTo>
                    <a:lnTo>
                      <a:pt x="942" y="46"/>
                    </a:lnTo>
                    <a:lnTo>
                      <a:pt x="725" y="36"/>
                    </a:lnTo>
                    <a:lnTo>
                      <a:pt x="434" y="46"/>
                    </a:lnTo>
                    <a:lnTo>
                      <a:pt x="192" y="3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899200" y="1359720"/>
                <a:ext cx="421200" cy="285840"/>
              </a:xfrm>
              <a:custGeom>
                <a:avLst/>
                <a:gdLst/>
                <a:ahLst/>
                <a:rect l="l" t="t" r="r" b="b"/>
                <a:pathLst>
                  <a:path w="1175" h="797">
                    <a:moveTo>
                      <a:pt x="542" y="0"/>
                    </a:moveTo>
                    <a:lnTo>
                      <a:pt x="161" y="0"/>
                    </a:lnTo>
                    <a:lnTo>
                      <a:pt x="53" y="10"/>
                    </a:lnTo>
                    <a:lnTo>
                      <a:pt x="33" y="44"/>
                    </a:lnTo>
                    <a:lnTo>
                      <a:pt x="12" y="110"/>
                    </a:lnTo>
                    <a:lnTo>
                      <a:pt x="0" y="300"/>
                    </a:lnTo>
                    <a:lnTo>
                      <a:pt x="12" y="481"/>
                    </a:lnTo>
                    <a:lnTo>
                      <a:pt x="41" y="662"/>
                    </a:lnTo>
                    <a:lnTo>
                      <a:pt x="91" y="736"/>
                    </a:lnTo>
                    <a:lnTo>
                      <a:pt x="111" y="753"/>
                    </a:lnTo>
                    <a:lnTo>
                      <a:pt x="349" y="773"/>
                    </a:lnTo>
                    <a:lnTo>
                      <a:pt x="666" y="783"/>
                    </a:lnTo>
                    <a:lnTo>
                      <a:pt x="896" y="787"/>
                    </a:lnTo>
                    <a:lnTo>
                      <a:pt x="1174" y="796"/>
                    </a:lnTo>
                    <a:lnTo>
                      <a:pt x="1158" y="766"/>
                    </a:lnTo>
                    <a:lnTo>
                      <a:pt x="945" y="753"/>
                    </a:lnTo>
                    <a:lnTo>
                      <a:pt x="666" y="736"/>
                    </a:lnTo>
                    <a:lnTo>
                      <a:pt x="274" y="736"/>
                    </a:lnTo>
                    <a:lnTo>
                      <a:pt x="135" y="699"/>
                    </a:lnTo>
                    <a:lnTo>
                      <a:pt x="91" y="673"/>
                    </a:lnTo>
                    <a:lnTo>
                      <a:pt x="78" y="619"/>
                    </a:lnTo>
                    <a:lnTo>
                      <a:pt x="57" y="468"/>
                    </a:lnTo>
                    <a:lnTo>
                      <a:pt x="53" y="282"/>
                    </a:lnTo>
                    <a:lnTo>
                      <a:pt x="70" y="91"/>
                    </a:lnTo>
                    <a:lnTo>
                      <a:pt x="91" y="47"/>
                    </a:lnTo>
                    <a:lnTo>
                      <a:pt x="344" y="20"/>
                    </a:lnTo>
                    <a:lnTo>
                      <a:pt x="54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 flipV="1">
            <a:off x="8694720" y="1852560"/>
            <a:ext cx="31608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65800" y="1219320"/>
            <a:ext cx="2740320" cy="1973160"/>
          </a:xfrm>
          <a:prstGeom prst="roundRect">
            <a:avLst>
              <a:gd name="adj" fmla="val 7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28520" y="1197000"/>
            <a:ext cx="4373640" cy="369000"/>
            <a:chOff x="128520" y="1197000"/>
            <a:chExt cx="4373640" cy="369000"/>
          </a:xfrm>
        </p:grpSpPr>
        <p:sp>
          <p:nvSpPr>
            <p:cNvPr id="409" name=""/>
            <p:cNvSpPr/>
            <p:nvPr/>
          </p:nvSpPr>
          <p:spPr>
            <a:xfrm>
              <a:off x="128520" y="1197000"/>
              <a:ext cx="4373640" cy="3636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28520" y="1197000"/>
              <a:ext cx="4372200" cy="369000"/>
              <a:chOff x="128520" y="1197000"/>
              <a:chExt cx="4372200" cy="369000"/>
            </a:xfrm>
          </p:grpSpPr>
          <p:sp>
            <p:nvSpPr>
              <p:cNvPr id="411" name=""/>
              <p:cNvSpPr/>
              <p:nvPr/>
            </p:nvSpPr>
            <p:spPr>
              <a:xfrm>
                <a:off x="128520" y="1197000"/>
                <a:ext cx="4372200" cy="36216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2120" y="1197000"/>
                <a:ext cx="4365000" cy="36900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Estruturados em instância nodal e celul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075440" y="2511360"/>
            <a:ext cx="723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454720" y="3720960"/>
            <a:ext cx="194940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5548320" y="1409760"/>
            <a:ext cx="1609200" cy="1645920"/>
            <a:chOff x="5548320" y="1409760"/>
            <a:chExt cx="1609200" cy="1645920"/>
          </a:xfrm>
        </p:grpSpPr>
        <p:sp>
          <p:nvSpPr>
            <p:cNvPr id="416" name=""/>
            <p:cNvSpPr/>
            <p:nvPr/>
          </p:nvSpPr>
          <p:spPr>
            <a:xfrm>
              <a:off x="5564160" y="1430280"/>
              <a:ext cx="1587600" cy="1608120"/>
            </a:xfrm>
            <a:custGeom>
              <a:avLst/>
              <a:gdLst/>
              <a:ahLst/>
              <a:rect l="l" t="t" r="r" b="b"/>
              <a:pathLst>
                <a:path w="4411" h="4468">
                  <a:moveTo>
                    <a:pt x="823" y="2980"/>
                  </a:moveTo>
                  <a:lnTo>
                    <a:pt x="484" y="3268"/>
                  </a:lnTo>
                  <a:lnTo>
                    <a:pt x="58" y="3619"/>
                  </a:lnTo>
                  <a:lnTo>
                    <a:pt x="58" y="3916"/>
                  </a:lnTo>
                  <a:lnTo>
                    <a:pt x="128" y="4467"/>
                  </a:lnTo>
                  <a:lnTo>
                    <a:pt x="840" y="4443"/>
                  </a:lnTo>
                  <a:lnTo>
                    <a:pt x="1640" y="4354"/>
                  </a:lnTo>
                  <a:lnTo>
                    <a:pt x="2838" y="4338"/>
                  </a:lnTo>
                  <a:lnTo>
                    <a:pt x="3730" y="4354"/>
                  </a:lnTo>
                  <a:lnTo>
                    <a:pt x="4036" y="3820"/>
                  </a:lnTo>
                  <a:lnTo>
                    <a:pt x="4410" y="2764"/>
                  </a:lnTo>
                  <a:lnTo>
                    <a:pt x="4343" y="2436"/>
                  </a:lnTo>
                  <a:lnTo>
                    <a:pt x="4206" y="2309"/>
                  </a:lnTo>
                  <a:lnTo>
                    <a:pt x="3807" y="2333"/>
                  </a:lnTo>
                  <a:lnTo>
                    <a:pt x="3986" y="1534"/>
                  </a:lnTo>
                  <a:lnTo>
                    <a:pt x="4011" y="1277"/>
                  </a:lnTo>
                  <a:lnTo>
                    <a:pt x="3917" y="654"/>
                  </a:lnTo>
                  <a:lnTo>
                    <a:pt x="3825" y="199"/>
                  </a:lnTo>
                  <a:lnTo>
                    <a:pt x="3653" y="0"/>
                  </a:lnTo>
                  <a:lnTo>
                    <a:pt x="3536" y="0"/>
                  </a:lnTo>
                  <a:lnTo>
                    <a:pt x="3212" y="47"/>
                  </a:lnTo>
                  <a:lnTo>
                    <a:pt x="2686" y="71"/>
                  </a:lnTo>
                  <a:lnTo>
                    <a:pt x="2345" y="24"/>
                  </a:lnTo>
                  <a:lnTo>
                    <a:pt x="1979" y="7"/>
                  </a:lnTo>
                  <a:lnTo>
                    <a:pt x="1834" y="40"/>
                  </a:lnTo>
                  <a:lnTo>
                    <a:pt x="1530" y="176"/>
                  </a:lnTo>
                  <a:lnTo>
                    <a:pt x="1062" y="295"/>
                  </a:lnTo>
                  <a:lnTo>
                    <a:pt x="467" y="487"/>
                  </a:lnTo>
                  <a:lnTo>
                    <a:pt x="245" y="607"/>
                  </a:lnTo>
                  <a:lnTo>
                    <a:pt x="43" y="822"/>
                  </a:lnTo>
                  <a:lnTo>
                    <a:pt x="0" y="1127"/>
                  </a:lnTo>
                  <a:lnTo>
                    <a:pt x="0" y="1637"/>
                  </a:lnTo>
                  <a:lnTo>
                    <a:pt x="25" y="2237"/>
                  </a:lnTo>
                  <a:lnTo>
                    <a:pt x="68" y="2597"/>
                  </a:lnTo>
                  <a:lnTo>
                    <a:pt x="153" y="2797"/>
                  </a:lnTo>
                  <a:lnTo>
                    <a:pt x="297" y="2909"/>
                  </a:lnTo>
                  <a:lnTo>
                    <a:pt x="459" y="2949"/>
                  </a:lnTo>
                  <a:lnTo>
                    <a:pt x="823" y="298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6440" y="1720800"/>
              <a:ext cx="930600" cy="666720"/>
            </a:xfrm>
            <a:custGeom>
              <a:avLst/>
              <a:gdLst/>
              <a:ahLst/>
              <a:rect l="l" t="t" r="r" b="b"/>
              <a:pathLst>
                <a:path w="2585" h="1853">
                  <a:moveTo>
                    <a:pt x="8" y="501"/>
                  </a:moveTo>
                  <a:lnTo>
                    <a:pt x="33" y="158"/>
                  </a:lnTo>
                  <a:lnTo>
                    <a:pt x="93" y="62"/>
                  </a:lnTo>
                  <a:lnTo>
                    <a:pt x="245" y="22"/>
                  </a:lnTo>
                  <a:lnTo>
                    <a:pt x="892" y="6"/>
                  </a:lnTo>
                  <a:lnTo>
                    <a:pt x="1674" y="0"/>
                  </a:lnTo>
                  <a:lnTo>
                    <a:pt x="2133" y="6"/>
                  </a:lnTo>
                  <a:lnTo>
                    <a:pt x="2245" y="70"/>
                  </a:lnTo>
                  <a:lnTo>
                    <a:pt x="2329" y="198"/>
                  </a:lnTo>
                  <a:lnTo>
                    <a:pt x="2439" y="742"/>
                  </a:lnTo>
                  <a:lnTo>
                    <a:pt x="2559" y="1357"/>
                  </a:lnTo>
                  <a:lnTo>
                    <a:pt x="2584" y="1732"/>
                  </a:lnTo>
                  <a:lnTo>
                    <a:pt x="2541" y="1796"/>
                  </a:lnTo>
                  <a:lnTo>
                    <a:pt x="2404" y="1852"/>
                  </a:lnTo>
                  <a:lnTo>
                    <a:pt x="1724" y="1836"/>
                  </a:lnTo>
                  <a:lnTo>
                    <a:pt x="680" y="1788"/>
                  </a:lnTo>
                  <a:lnTo>
                    <a:pt x="170" y="1740"/>
                  </a:lnTo>
                  <a:lnTo>
                    <a:pt x="93" y="1644"/>
                  </a:lnTo>
                  <a:lnTo>
                    <a:pt x="43" y="1452"/>
                  </a:lnTo>
                  <a:lnTo>
                    <a:pt x="0" y="973"/>
                  </a:lnTo>
                  <a:lnTo>
                    <a:pt x="8" y="501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548320" y="1409760"/>
              <a:ext cx="1609200" cy="1645920"/>
              <a:chOff x="5548320" y="1409760"/>
              <a:chExt cx="1609200" cy="1645920"/>
            </a:xfrm>
          </p:grpSpPr>
          <p:sp>
            <p:nvSpPr>
              <p:cNvPr id="419" name=""/>
              <p:cNvSpPr/>
              <p:nvPr/>
            </p:nvSpPr>
            <p:spPr>
              <a:xfrm>
                <a:off x="5563800" y="2238840"/>
                <a:ext cx="1593720" cy="816840"/>
              </a:xfrm>
              <a:custGeom>
                <a:avLst/>
                <a:gdLst/>
                <a:ahLst/>
                <a:rect l="l" t="t" r="r" b="b"/>
                <a:pathLst>
                  <a:path w="4433" h="2270">
                    <a:moveTo>
                      <a:pt x="0" y="1365"/>
                    </a:moveTo>
                    <a:lnTo>
                      <a:pt x="544" y="918"/>
                    </a:lnTo>
                    <a:lnTo>
                      <a:pt x="561" y="1021"/>
                    </a:lnTo>
                    <a:lnTo>
                      <a:pt x="187" y="1342"/>
                    </a:lnTo>
                    <a:lnTo>
                      <a:pt x="839" y="1318"/>
                    </a:lnTo>
                    <a:lnTo>
                      <a:pt x="2242" y="1318"/>
                    </a:lnTo>
                    <a:lnTo>
                      <a:pt x="2981" y="1270"/>
                    </a:lnTo>
                    <a:lnTo>
                      <a:pt x="3439" y="1183"/>
                    </a:lnTo>
                    <a:lnTo>
                      <a:pt x="3558" y="1160"/>
                    </a:lnTo>
                    <a:lnTo>
                      <a:pt x="4102" y="127"/>
                    </a:lnTo>
                    <a:lnTo>
                      <a:pt x="3846" y="54"/>
                    </a:lnTo>
                    <a:lnTo>
                      <a:pt x="4228" y="0"/>
                    </a:lnTo>
                    <a:lnTo>
                      <a:pt x="4365" y="110"/>
                    </a:lnTo>
                    <a:lnTo>
                      <a:pt x="4432" y="494"/>
                    </a:lnTo>
                    <a:lnTo>
                      <a:pt x="4322" y="807"/>
                    </a:lnTo>
                    <a:lnTo>
                      <a:pt x="3965" y="1814"/>
                    </a:lnTo>
                    <a:lnTo>
                      <a:pt x="3804" y="2126"/>
                    </a:lnTo>
                    <a:lnTo>
                      <a:pt x="3650" y="2166"/>
                    </a:lnTo>
                    <a:lnTo>
                      <a:pt x="2530" y="2140"/>
                    </a:lnTo>
                    <a:lnTo>
                      <a:pt x="1350" y="2173"/>
                    </a:lnTo>
                    <a:lnTo>
                      <a:pt x="230" y="2253"/>
                    </a:lnTo>
                    <a:lnTo>
                      <a:pt x="68" y="2269"/>
                    </a:lnTo>
                    <a:lnTo>
                      <a:pt x="50" y="1965"/>
                    </a:lnTo>
                    <a:lnTo>
                      <a:pt x="25" y="1677"/>
                    </a:lnTo>
                    <a:lnTo>
                      <a:pt x="25" y="1518"/>
                    </a:lnTo>
                    <a:lnTo>
                      <a:pt x="110" y="1614"/>
                    </a:lnTo>
                    <a:lnTo>
                      <a:pt x="135" y="1855"/>
                    </a:lnTo>
                    <a:lnTo>
                      <a:pt x="170" y="2110"/>
                    </a:lnTo>
                    <a:lnTo>
                      <a:pt x="491" y="2149"/>
                    </a:lnTo>
                    <a:lnTo>
                      <a:pt x="1223" y="2086"/>
                    </a:lnTo>
                    <a:lnTo>
                      <a:pt x="1843" y="2037"/>
                    </a:lnTo>
                    <a:lnTo>
                      <a:pt x="2361" y="2037"/>
                    </a:lnTo>
                    <a:lnTo>
                      <a:pt x="3142" y="2037"/>
                    </a:lnTo>
                    <a:lnTo>
                      <a:pt x="3633" y="2037"/>
                    </a:lnTo>
                    <a:lnTo>
                      <a:pt x="3650" y="1895"/>
                    </a:lnTo>
                    <a:lnTo>
                      <a:pt x="3600" y="1606"/>
                    </a:lnTo>
                    <a:lnTo>
                      <a:pt x="3566" y="1295"/>
                    </a:lnTo>
                    <a:lnTo>
                      <a:pt x="3633" y="1365"/>
                    </a:lnTo>
                    <a:lnTo>
                      <a:pt x="3702" y="1720"/>
                    </a:lnTo>
                    <a:lnTo>
                      <a:pt x="3769" y="1895"/>
                    </a:lnTo>
                    <a:lnTo>
                      <a:pt x="3846" y="1807"/>
                    </a:lnTo>
                    <a:lnTo>
                      <a:pt x="3982" y="1461"/>
                    </a:lnTo>
                    <a:lnTo>
                      <a:pt x="4178" y="958"/>
                    </a:lnTo>
                    <a:lnTo>
                      <a:pt x="4322" y="560"/>
                    </a:lnTo>
                    <a:lnTo>
                      <a:pt x="4347" y="438"/>
                    </a:lnTo>
                    <a:lnTo>
                      <a:pt x="4280" y="150"/>
                    </a:lnTo>
                    <a:lnTo>
                      <a:pt x="4203" y="136"/>
                    </a:lnTo>
                    <a:lnTo>
                      <a:pt x="4052" y="471"/>
                    </a:lnTo>
                    <a:lnTo>
                      <a:pt x="3794" y="911"/>
                    </a:lnTo>
                    <a:lnTo>
                      <a:pt x="3600" y="1247"/>
                    </a:lnTo>
                    <a:lnTo>
                      <a:pt x="3414" y="1302"/>
                    </a:lnTo>
                    <a:lnTo>
                      <a:pt x="2734" y="1382"/>
                    </a:lnTo>
                    <a:lnTo>
                      <a:pt x="1934" y="1431"/>
                    </a:lnTo>
                    <a:lnTo>
                      <a:pt x="1146" y="1431"/>
                    </a:lnTo>
                    <a:lnTo>
                      <a:pt x="254" y="1438"/>
                    </a:lnTo>
                    <a:lnTo>
                      <a:pt x="0" y="13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57560" y="2518200"/>
                <a:ext cx="825840" cy="177480"/>
              </a:xfrm>
              <a:custGeom>
                <a:avLst/>
                <a:gdLst/>
                <a:ahLst/>
                <a:rect l="l" t="t" r="r" b="b"/>
                <a:pathLst>
                  <a:path w="2296" h="494">
                    <a:moveTo>
                      <a:pt x="50" y="80"/>
                    </a:moveTo>
                    <a:lnTo>
                      <a:pt x="212" y="0"/>
                    </a:lnTo>
                    <a:lnTo>
                      <a:pt x="289" y="23"/>
                    </a:lnTo>
                    <a:lnTo>
                      <a:pt x="237" y="126"/>
                    </a:lnTo>
                    <a:lnTo>
                      <a:pt x="118" y="198"/>
                    </a:lnTo>
                    <a:lnTo>
                      <a:pt x="349" y="310"/>
                    </a:lnTo>
                    <a:lnTo>
                      <a:pt x="697" y="318"/>
                    </a:lnTo>
                    <a:lnTo>
                      <a:pt x="994" y="294"/>
                    </a:lnTo>
                    <a:lnTo>
                      <a:pt x="1215" y="271"/>
                    </a:lnTo>
                    <a:lnTo>
                      <a:pt x="1616" y="238"/>
                    </a:lnTo>
                    <a:lnTo>
                      <a:pt x="1878" y="214"/>
                    </a:lnTo>
                    <a:lnTo>
                      <a:pt x="2049" y="166"/>
                    </a:lnTo>
                    <a:lnTo>
                      <a:pt x="2211" y="71"/>
                    </a:lnTo>
                    <a:lnTo>
                      <a:pt x="2201" y="0"/>
                    </a:lnTo>
                    <a:lnTo>
                      <a:pt x="2295" y="23"/>
                    </a:lnTo>
                    <a:lnTo>
                      <a:pt x="2269" y="262"/>
                    </a:lnTo>
                    <a:lnTo>
                      <a:pt x="2024" y="374"/>
                    </a:lnTo>
                    <a:lnTo>
                      <a:pt x="1479" y="397"/>
                    </a:lnTo>
                    <a:lnTo>
                      <a:pt x="935" y="454"/>
                    </a:lnTo>
                    <a:lnTo>
                      <a:pt x="612" y="493"/>
                    </a:lnTo>
                    <a:lnTo>
                      <a:pt x="237" y="397"/>
                    </a:lnTo>
                    <a:lnTo>
                      <a:pt x="50" y="350"/>
                    </a:lnTo>
                    <a:lnTo>
                      <a:pt x="0" y="214"/>
                    </a:lnTo>
                    <a:lnTo>
                      <a:pt x="5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29040" y="2816280"/>
                <a:ext cx="90000" cy="72720"/>
              </a:xfrm>
              <a:custGeom>
                <a:avLst/>
                <a:gdLst/>
                <a:ahLst/>
                <a:rect l="l" t="t" r="r" b="b"/>
                <a:pathLst>
                  <a:path w="250" h="204">
                    <a:moveTo>
                      <a:pt x="8" y="8"/>
                    </a:moveTo>
                    <a:lnTo>
                      <a:pt x="232" y="0"/>
                    </a:lnTo>
                    <a:lnTo>
                      <a:pt x="249" y="203"/>
                    </a:lnTo>
                    <a:lnTo>
                      <a:pt x="0" y="203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88880" y="2808360"/>
                <a:ext cx="85320" cy="72720"/>
              </a:xfrm>
              <a:custGeom>
                <a:avLst/>
                <a:gdLst/>
                <a:ahLst/>
                <a:rect l="l" t="t" r="r" b="b"/>
                <a:pathLst>
                  <a:path w="239" h="203">
                    <a:moveTo>
                      <a:pt x="6" y="6"/>
                    </a:moveTo>
                    <a:lnTo>
                      <a:pt x="220" y="0"/>
                    </a:lnTo>
                    <a:lnTo>
                      <a:pt x="238" y="202"/>
                    </a:lnTo>
                    <a:lnTo>
                      <a:pt x="0" y="202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10880" y="2784600"/>
                <a:ext cx="351720" cy="87120"/>
              </a:xfrm>
              <a:custGeom>
                <a:avLst/>
                <a:gdLst/>
                <a:ahLst/>
                <a:rect l="l" t="t" r="r" b="b"/>
                <a:pathLst>
                  <a:path w="979" h="243">
                    <a:moveTo>
                      <a:pt x="0" y="70"/>
                    </a:moveTo>
                    <a:lnTo>
                      <a:pt x="953" y="0"/>
                    </a:lnTo>
                    <a:lnTo>
                      <a:pt x="978" y="152"/>
                    </a:lnTo>
                    <a:lnTo>
                      <a:pt x="0" y="242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48320" y="1409760"/>
                <a:ext cx="1474560" cy="1095840"/>
              </a:xfrm>
              <a:custGeom>
                <a:avLst/>
                <a:gdLst/>
                <a:ahLst/>
                <a:rect l="l" t="t" r="r" b="b"/>
                <a:pathLst>
                  <a:path w="4101" h="3049">
                    <a:moveTo>
                      <a:pt x="337" y="2897"/>
                    </a:moveTo>
                    <a:lnTo>
                      <a:pt x="228" y="2792"/>
                    </a:lnTo>
                    <a:lnTo>
                      <a:pt x="151" y="2593"/>
                    </a:lnTo>
                    <a:lnTo>
                      <a:pt x="126" y="2171"/>
                    </a:lnTo>
                    <a:lnTo>
                      <a:pt x="126" y="1451"/>
                    </a:lnTo>
                    <a:lnTo>
                      <a:pt x="151" y="917"/>
                    </a:lnTo>
                    <a:lnTo>
                      <a:pt x="228" y="789"/>
                    </a:lnTo>
                    <a:lnTo>
                      <a:pt x="354" y="638"/>
                    </a:lnTo>
                    <a:lnTo>
                      <a:pt x="652" y="524"/>
                    </a:lnTo>
                    <a:lnTo>
                      <a:pt x="1194" y="364"/>
                    </a:lnTo>
                    <a:lnTo>
                      <a:pt x="1636" y="262"/>
                    </a:lnTo>
                    <a:lnTo>
                      <a:pt x="1842" y="149"/>
                    </a:lnTo>
                    <a:lnTo>
                      <a:pt x="2190" y="119"/>
                    </a:lnTo>
                    <a:lnTo>
                      <a:pt x="2826" y="175"/>
                    </a:lnTo>
                    <a:lnTo>
                      <a:pt x="3343" y="142"/>
                    </a:lnTo>
                    <a:lnTo>
                      <a:pt x="3565" y="93"/>
                    </a:lnTo>
                    <a:lnTo>
                      <a:pt x="3743" y="142"/>
                    </a:lnTo>
                    <a:lnTo>
                      <a:pt x="3862" y="436"/>
                    </a:lnTo>
                    <a:lnTo>
                      <a:pt x="3931" y="980"/>
                    </a:lnTo>
                    <a:lnTo>
                      <a:pt x="4008" y="1411"/>
                    </a:lnTo>
                    <a:lnTo>
                      <a:pt x="3973" y="1611"/>
                    </a:lnTo>
                    <a:lnTo>
                      <a:pt x="3835" y="2099"/>
                    </a:lnTo>
                    <a:lnTo>
                      <a:pt x="3649" y="2584"/>
                    </a:lnTo>
                    <a:lnTo>
                      <a:pt x="3540" y="2776"/>
                    </a:lnTo>
                    <a:lnTo>
                      <a:pt x="3455" y="2866"/>
                    </a:lnTo>
                    <a:lnTo>
                      <a:pt x="3574" y="2930"/>
                    </a:lnTo>
                    <a:lnTo>
                      <a:pt x="3701" y="2720"/>
                    </a:lnTo>
                    <a:lnTo>
                      <a:pt x="3895" y="2282"/>
                    </a:lnTo>
                    <a:lnTo>
                      <a:pt x="4033" y="1820"/>
                    </a:lnTo>
                    <a:lnTo>
                      <a:pt x="4083" y="1587"/>
                    </a:lnTo>
                    <a:lnTo>
                      <a:pt x="4100" y="1363"/>
                    </a:lnTo>
                    <a:lnTo>
                      <a:pt x="4050" y="1003"/>
                    </a:lnTo>
                    <a:lnTo>
                      <a:pt x="3973" y="459"/>
                    </a:lnTo>
                    <a:lnTo>
                      <a:pt x="3870" y="166"/>
                    </a:lnTo>
                    <a:lnTo>
                      <a:pt x="3768" y="30"/>
                    </a:lnTo>
                    <a:lnTo>
                      <a:pt x="3599" y="0"/>
                    </a:lnTo>
                    <a:lnTo>
                      <a:pt x="3388" y="53"/>
                    </a:lnTo>
                    <a:lnTo>
                      <a:pt x="3065" y="70"/>
                    </a:lnTo>
                    <a:lnTo>
                      <a:pt x="2655" y="70"/>
                    </a:lnTo>
                    <a:lnTo>
                      <a:pt x="2233" y="23"/>
                    </a:lnTo>
                    <a:lnTo>
                      <a:pt x="1944" y="30"/>
                    </a:lnTo>
                    <a:lnTo>
                      <a:pt x="1807" y="79"/>
                    </a:lnTo>
                    <a:lnTo>
                      <a:pt x="1482" y="229"/>
                    </a:lnTo>
                    <a:lnTo>
                      <a:pt x="873" y="389"/>
                    </a:lnTo>
                    <a:lnTo>
                      <a:pt x="278" y="573"/>
                    </a:lnTo>
                    <a:lnTo>
                      <a:pt x="117" y="765"/>
                    </a:lnTo>
                    <a:lnTo>
                      <a:pt x="7" y="1028"/>
                    </a:lnTo>
                    <a:lnTo>
                      <a:pt x="0" y="1547"/>
                    </a:lnTo>
                    <a:lnTo>
                      <a:pt x="24" y="2035"/>
                    </a:lnTo>
                    <a:lnTo>
                      <a:pt x="41" y="2537"/>
                    </a:lnTo>
                    <a:lnTo>
                      <a:pt x="134" y="2839"/>
                    </a:lnTo>
                    <a:lnTo>
                      <a:pt x="228" y="2992"/>
                    </a:lnTo>
                    <a:lnTo>
                      <a:pt x="387" y="3048"/>
                    </a:lnTo>
                    <a:lnTo>
                      <a:pt x="489" y="3016"/>
                    </a:lnTo>
                    <a:lnTo>
                      <a:pt x="337" y="28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46240" y="1429920"/>
                <a:ext cx="1270440" cy="1094400"/>
              </a:xfrm>
              <a:custGeom>
                <a:avLst/>
                <a:gdLst/>
                <a:ahLst/>
                <a:rect l="l" t="t" r="r" b="b"/>
                <a:pathLst>
                  <a:path w="3534" h="3044">
                    <a:moveTo>
                      <a:pt x="49" y="2885"/>
                    </a:moveTo>
                    <a:lnTo>
                      <a:pt x="634" y="2924"/>
                    </a:lnTo>
                    <a:lnTo>
                      <a:pt x="1460" y="2940"/>
                    </a:lnTo>
                    <a:lnTo>
                      <a:pt x="2123" y="2940"/>
                    </a:lnTo>
                    <a:lnTo>
                      <a:pt x="2710" y="2876"/>
                    </a:lnTo>
                    <a:lnTo>
                      <a:pt x="3108" y="2812"/>
                    </a:lnTo>
                    <a:lnTo>
                      <a:pt x="3210" y="2763"/>
                    </a:lnTo>
                    <a:lnTo>
                      <a:pt x="3210" y="2492"/>
                    </a:lnTo>
                    <a:lnTo>
                      <a:pt x="3065" y="1782"/>
                    </a:lnTo>
                    <a:lnTo>
                      <a:pt x="2906" y="911"/>
                    </a:lnTo>
                    <a:lnTo>
                      <a:pt x="2819" y="599"/>
                    </a:lnTo>
                    <a:lnTo>
                      <a:pt x="2735" y="476"/>
                    </a:lnTo>
                    <a:lnTo>
                      <a:pt x="1723" y="583"/>
                    </a:lnTo>
                    <a:lnTo>
                      <a:pt x="729" y="607"/>
                    </a:lnTo>
                    <a:lnTo>
                      <a:pt x="186" y="614"/>
                    </a:lnTo>
                    <a:lnTo>
                      <a:pt x="0" y="639"/>
                    </a:lnTo>
                    <a:lnTo>
                      <a:pt x="99" y="509"/>
                    </a:lnTo>
                    <a:lnTo>
                      <a:pt x="339" y="534"/>
                    </a:lnTo>
                    <a:lnTo>
                      <a:pt x="1018" y="509"/>
                    </a:lnTo>
                    <a:lnTo>
                      <a:pt x="1656" y="476"/>
                    </a:lnTo>
                    <a:lnTo>
                      <a:pt x="2226" y="429"/>
                    </a:lnTo>
                    <a:lnTo>
                      <a:pt x="2778" y="381"/>
                    </a:lnTo>
                    <a:lnTo>
                      <a:pt x="3195" y="199"/>
                    </a:lnTo>
                    <a:lnTo>
                      <a:pt x="3431" y="0"/>
                    </a:lnTo>
                    <a:lnTo>
                      <a:pt x="3533" y="94"/>
                    </a:lnTo>
                    <a:lnTo>
                      <a:pt x="3312" y="223"/>
                    </a:lnTo>
                    <a:lnTo>
                      <a:pt x="2981" y="420"/>
                    </a:lnTo>
                    <a:lnTo>
                      <a:pt x="2879" y="485"/>
                    </a:lnTo>
                    <a:lnTo>
                      <a:pt x="2998" y="950"/>
                    </a:lnTo>
                    <a:lnTo>
                      <a:pt x="3092" y="1396"/>
                    </a:lnTo>
                    <a:lnTo>
                      <a:pt x="3168" y="1813"/>
                    </a:lnTo>
                    <a:lnTo>
                      <a:pt x="3245" y="2206"/>
                    </a:lnTo>
                    <a:lnTo>
                      <a:pt x="3312" y="2492"/>
                    </a:lnTo>
                    <a:lnTo>
                      <a:pt x="3339" y="2747"/>
                    </a:lnTo>
                    <a:lnTo>
                      <a:pt x="3297" y="2885"/>
                    </a:lnTo>
                    <a:lnTo>
                      <a:pt x="2846" y="2987"/>
                    </a:lnTo>
                    <a:lnTo>
                      <a:pt x="2054" y="3043"/>
                    </a:lnTo>
                    <a:lnTo>
                      <a:pt x="1222" y="3011"/>
                    </a:lnTo>
                    <a:lnTo>
                      <a:pt x="619" y="3011"/>
                    </a:lnTo>
                    <a:lnTo>
                      <a:pt x="116" y="2996"/>
                    </a:lnTo>
                    <a:lnTo>
                      <a:pt x="49" y="28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89160" y="1706040"/>
                <a:ext cx="876960" cy="701280"/>
              </a:xfrm>
              <a:custGeom>
                <a:avLst/>
                <a:gdLst/>
                <a:ahLst/>
                <a:rect l="l" t="t" r="r" b="b"/>
                <a:pathLst>
                  <a:path w="2437" h="1949">
                    <a:moveTo>
                      <a:pt x="0" y="47"/>
                    </a:moveTo>
                    <a:lnTo>
                      <a:pt x="806" y="23"/>
                    </a:lnTo>
                    <a:lnTo>
                      <a:pt x="1358" y="0"/>
                    </a:lnTo>
                    <a:lnTo>
                      <a:pt x="1978" y="7"/>
                    </a:lnTo>
                    <a:lnTo>
                      <a:pt x="2070" y="71"/>
                    </a:lnTo>
                    <a:lnTo>
                      <a:pt x="2148" y="175"/>
                    </a:lnTo>
                    <a:lnTo>
                      <a:pt x="2285" y="725"/>
                    </a:lnTo>
                    <a:lnTo>
                      <a:pt x="2387" y="1350"/>
                    </a:lnTo>
                    <a:lnTo>
                      <a:pt x="2436" y="1772"/>
                    </a:lnTo>
                    <a:lnTo>
                      <a:pt x="2387" y="1915"/>
                    </a:lnTo>
                    <a:lnTo>
                      <a:pt x="2258" y="1948"/>
                    </a:lnTo>
                    <a:lnTo>
                      <a:pt x="1545" y="1868"/>
                    </a:lnTo>
                    <a:lnTo>
                      <a:pt x="2285" y="1805"/>
                    </a:lnTo>
                    <a:lnTo>
                      <a:pt x="2327" y="1788"/>
                    </a:lnTo>
                    <a:lnTo>
                      <a:pt x="2310" y="1493"/>
                    </a:lnTo>
                    <a:lnTo>
                      <a:pt x="2258" y="1077"/>
                    </a:lnTo>
                    <a:lnTo>
                      <a:pt x="2141" y="510"/>
                    </a:lnTo>
                    <a:lnTo>
                      <a:pt x="2038" y="159"/>
                    </a:lnTo>
                    <a:lnTo>
                      <a:pt x="1953" y="110"/>
                    </a:lnTo>
                    <a:lnTo>
                      <a:pt x="1503" y="87"/>
                    </a:lnTo>
                    <a:lnTo>
                      <a:pt x="898" y="110"/>
                    </a:lnTo>
                    <a:lnTo>
                      <a:pt x="398" y="94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7000" y="1717200"/>
                <a:ext cx="875520" cy="682200"/>
              </a:xfrm>
              <a:custGeom>
                <a:avLst/>
                <a:gdLst/>
                <a:ahLst/>
                <a:rect l="l" t="t" r="r" b="b"/>
                <a:pathLst>
                  <a:path w="2432" h="1895">
                    <a:moveTo>
                      <a:pt x="1120" y="0"/>
                    </a:moveTo>
                    <a:lnTo>
                      <a:pt x="332" y="0"/>
                    </a:lnTo>
                    <a:lnTo>
                      <a:pt x="110" y="23"/>
                    </a:lnTo>
                    <a:lnTo>
                      <a:pt x="68" y="103"/>
                    </a:lnTo>
                    <a:lnTo>
                      <a:pt x="25" y="261"/>
                    </a:lnTo>
                    <a:lnTo>
                      <a:pt x="0" y="711"/>
                    </a:lnTo>
                    <a:lnTo>
                      <a:pt x="25" y="1143"/>
                    </a:lnTo>
                    <a:lnTo>
                      <a:pt x="85" y="1573"/>
                    </a:lnTo>
                    <a:lnTo>
                      <a:pt x="188" y="1751"/>
                    </a:lnTo>
                    <a:lnTo>
                      <a:pt x="230" y="1791"/>
                    </a:lnTo>
                    <a:lnTo>
                      <a:pt x="723" y="1838"/>
                    </a:lnTo>
                    <a:lnTo>
                      <a:pt x="1378" y="1861"/>
                    </a:lnTo>
                    <a:lnTo>
                      <a:pt x="1853" y="1871"/>
                    </a:lnTo>
                    <a:lnTo>
                      <a:pt x="2431" y="1894"/>
                    </a:lnTo>
                    <a:lnTo>
                      <a:pt x="2397" y="1822"/>
                    </a:lnTo>
                    <a:lnTo>
                      <a:pt x="1955" y="1791"/>
                    </a:lnTo>
                    <a:lnTo>
                      <a:pt x="1378" y="1751"/>
                    </a:lnTo>
                    <a:lnTo>
                      <a:pt x="568" y="1751"/>
                    </a:lnTo>
                    <a:lnTo>
                      <a:pt x="280" y="1662"/>
                    </a:lnTo>
                    <a:lnTo>
                      <a:pt x="188" y="1599"/>
                    </a:lnTo>
                    <a:lnTo>
                      <a:pt x="161" y="1470"/>
                    </a:lnTo>
                    <a:lnTo>
                      <a:pt x="118" y="1111"/>
                    </a:lnTo>
                    <a:lnTo>
                      <a:pt x="110" y="669"/>
                    </a:lnTo>
                    <a:lnTo>
                      <a:pt x="146" y="214"/>
                    </a:lnTo>
                    <a:lnTo>
                      <a:pt x="188" y="110"/>
                    </a:lnTo>
                    <a:lnTo>
                      <a:pt x="713" y="47"/>
                    </a:lnTo>
                    <a:lnTo>
                      <a:pt x="112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5224320" y="1284120"/>
            <a:ext cx="1959120" cy="4919760"/>
          </a:xfrm>
          <a:custGeom>
            <a:avLst/>
            <a:gdLst>
              <a:gd name="textAreaLeft" fmla="*/ 360 w 1959120"/>
              <a:gd name="textAreaRight" fmla="*/ 1958760 w 1959120"/>
              <a:gd name="textAreaTop" fmla="*/ 360 h 4919760"/>
              <a:gd name="textAreaBottom" fmla="*/ 4919400 h 4919760"/>
            </a:gdLst>
            <a:ahLst/>
            <a:rect l="textAreaLeft" t="textAreaTop" r="textAreaRight" b="textAreaBottom"/>
            <a:pathLst>
              <a:path w="21600" h="54236">
                <a:moveTo>
                  <a:pt x="17" y="0"/>
                </a:moveTo>
                <a:arcTo wR="17" hR="17" stAng="16200000" swAng="-5400000"/>
                <a:lnTo>
                  <a:pt x="0" y="54219"/>
                </a:lnTo>
                <a:arcTo wR="17" hR="17" stAng="10800000" swAng="-5400000"/>
                <a:lnTo>
                  <a:pt x="21583" y="54236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50880" y="3649680"/>
            <a:ext cx="1103400" cy="1019160"/>
            <a:chOff x="650880" y="3649680"/>
            <a:chExt cx="1103400" cy="1019160"/>
          </a:xfrm>
        </p:grpSpPr>
        <p:sp>
          <p:nvSpPr>
            <p:cNvPr id="430" name=""/>
            <p:cNvSpPr/>
            <p:nvPr/>
          </p:nvSpPr>
          <p:spPr>
            <a:xfrm>
              <a:off x="650880" y="3649680"/>
              <a:ext cx="1103400" cy="10191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prstDash val="dash"/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13960" y="3800160"/>
              <a:ext cx="775440" cy="714960"/>
              <a:chOff x="813960" y="3800160"/>
              <a:chExt cx="775440" cy="714960"/>
            </a:xfrm>
          </p:grpSpPr>
          <p:sp>
            <p:nvSpPr>
              <p:cNvPr id="432" name=""/>
              <p:cNvSpPr/>
              <p:nvPr/>
            </p:nvSpPr>
            <p:spPr>
              <a:xfrm>
                <a:off x="813960" y="3800160"/>
                <a:ext cx="775440" cy="714960"/>
              </a:xfrm>
              <a:prstGeom prst="roundRect">
                <a:avLst>
                  <a:gd name="adj" fmla="val 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13960" y="3871800"/>
                <a:ext cx="77400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874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Tahoma"/>
                  </a:rPr>
                  <a:t>Serviç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539640" y="5240160"/>
            <a:ext cx="1236600" cy="339840"/>
            <a:chOff x="539640" y="5240160"/>
            <a:chExt cx="1236600" cy="339840"/>
          </a:xfrm>
        </p:grpSpPr>
        <p:sp>
          <p:nvSpPr>
            <p:cNvPr id="435" name=""/>
            <p:cNvSpPr/>
            <p:nvPr/>
          </p:nvSpPr>
          <p:spPr>
            <a:xfrm>
              <a:off x="539640" y="5240160"/>
              <a:ext cx="1236600" cy="339840"/>
            </a:xfrm>
            <a:prstGeom prst="roundRect">
              <a:avLst>
                <a:gd name="adj" fmla="val 463"/>
              </a:avLst>
            </a:prstGeom>
            <a:noFill/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39640" y="5240160"/>
              <a:ext cx="1233360" cy="338040"/>
              <a:chOff x="539640" y="5240160"/>
              <a:chExt cx="1233360" cy="338040"/>
            </a:xfrm>
          </p:grpSpPr>
          <p:sp>
            <p:nvSpPr>
              <p:cNvPr id="437" name=""/>
              <p:cNvSpPr/>
              <p:nvPr/>
            </p:nvSpPr>
            <p:spPr>
              <a:xfrm>
                <a:off x="539640" y="5240160"/>
                <a:ext cx="1233360" cy="338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39640" y="5258160"/>
                <a:ext cx="12333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636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Tahoma"/>
                  </a:rPr>
                  <a:t>Aplic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1058760" y="4764240"/>
            <a:ext cx="306360" cy="365040"/>
          </a:xfrm>
          <a:custGeom>
            <a:avLst/>
            <a:gdLst/>
            <a:ahLst/>
            <a:rect l="l" t="t" r="r" b="b"/>
            <a:pathLst>
              <a:path w="852" h="1015">
                <a:moveTo>
                  <a:pt x="0" y="201"/>
                </a:moveTo>
                <a:lnTo>
                  <a:pt x="425" y="0"/>
                </a:lnTo>
                <a:lnTo>
                  <a:pt x="851" y="201"/>
                </a:lnTo>
                <a:lnTo>
                  <a:pt x="638" y="201"/>
                </a:lnTo>
                <a:lnTo>
                  <a:pt x="638" y="811"/>
                </a:lnTo>
                <a:lnTo>
                  <a:pt x="851" y="811"/>
                </a:lnTo>
                <a:lnTo>
                  <a:pt x="425" y="1014"/>
                </a:lnTo>
                <a:lnTo>
                  <a:pt x="0" y="811"/>
                </a:lnTo>
                <a:lnTo>
                  <a:pt x="212" y="811"/>
                </a:lnTo>
                <a:lnTo>
                  <a:pt x="212" y="201"/>
                </a:lnTo>
                <a:lnTo>
                  <a:pt x="0" y="201"/>
                </a:lnTo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7280" y="5727600"/>
            <a:ext cx="179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Visão unif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86120" y="1762200"/>
            <a:ext cx="1109520" cy="2940120"/>
          </a:xfrm>
          <a:prstGeom prst="ellipse">
            <a:avLst/>
          </a:prstGeom>
          <a:noFill/>
          <a:ln w="3240">
            <a:solidFill>
              <a:srgbClr val="3333cc"/>
            </a:solidFill>
            <a:prstDash val="lgDash"/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776680" y="5268960"/>
            <a:ext cx="1236600" cy="339840"/>
            <a:chOff x="2776680" y="5268960"/>
            <a:chExt cx="1236600" cy="339840"/>
          </a:xfrm>
        </p:grpSpPr>
        <p:sp>
          <p:nvSpPr>
            <p:cNvPr id="443" name=""/>
            <p:cNvSpPr/>
            <p:nvPr/>
          </p:nvSpPr>
          <p:spPr>
            <a:xfrm>
              <a:off x="2776680" y="5268960"/>
              <a:ext cx="1236600" cy="339840"/>
            </a:xfrm>
            <a:prstGeom prst="roundRect">
              <a:avLst>
                <a:gd name="adj" fmla="val 463"/>
              </a:avLst>
            </a:prstGeom>
            <a:noFill/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2776680" y="5268960"/>
              <a:ext cx="1233360" cy="336600"/>
              <a:chOff x="2776680" y="5268960"/>
              <a:chExt cx="1233360" cy="336600"/>
            </a:xfrm>
          </p:grpSpPr>
          <p:sp>
            <p:nvSpPr>
              <p:cNvPr id="445" name=""/>
              <p:cNvSpPr/>
              <p:nvPr/>
            </p:nvSpPr>
            <p:spPr>
              <a:xfrm>
                <a:off x="2776680" y="5268960"/>
                <a:ext cx="1233360" cy="3366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76680" y="5286240"/>
                <a:ext cx="12333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636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Tahoma"/>
                  </a:rPr>
                  <a:t>Aplic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3295800" y="4792680"/>
            <a:ext cx="306360" cy="365040"/>
          </a:xfrm>
          <a:custGeom>
            <a:avLst/>
            <a:gdLst/>
            <a:ahLst/>
            <a:rect l="l" t="t" r="r" b="b"/>
            <a:pathLst>
              <a:path w="852" h="1015">
                <a:moveTo>
                  <a:pt x="0" y="201"/>
                </a:moveTo>
                <a:lnTo>
                  <a:pt x="425" y="0"/>
                </a:lnTo>
                <a:lnTo>
                  <a:pt x="851" y="201"/>
                </a:lnTo>
                <a:lnTo>
                  <a:pt x="638" y="201"/>
                </a:lnTo>
                <a:lnTo>
                  <a:pt x="638" y="811"/>
                </a:lnTo>
                <a:lnTo>
                  <a:pt x="851" y="811"/>
                </a:lnTo>
                <a:lnTo>
                  <a:pt x="425" y="1014"/>
                </a:lnTo>
                <a:lnTo>
                  <a:pt x="0" y="811"/>
                </a:lnTo>
                <a:lnTo>
                  <a:pt x="212" y="811"/>
                </a:lnTo>
                <a:lnTo>
                  <a:pt x="212" y="201"/>
                </a:lnTo>
                <a:lnTo>
                  <a:pt x="0" y="201"/>
                </a:lnTo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22520" y="5756400"/>
            <a:ext cx="179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Visão unif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4880" y="3570120"/>
            <a:ext cx="766800" cy="708120"/>
            <a:chOff x="3044880" y="3570120"/>
            <a:chExt cx="766800" cy="708120"/>
          </a:xfrm>
        </p:grpSpPr>
        <p:sp>
          <p:nvSpPr>
            <p:cNvPr id="450" name=""/>
            <p:cNvSpPr/>
            <p:nvPr/>
          </p:nvSpPr>
          <p:spPr>
            <a:xfrm>
              <a:off x="3044880" y="3570120"/>
              <a:ext cx="766800" cy="7081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158640" y="3675240"/>
              <a:ext cx="537120" cy="498240"/>
              <a:chOff x="3158640" y="3675240"/>
              <a:chExt cx="537120" cy="498240"/>
            </a:xfrm>
          </p:grpSpPr>
          <p:sp>
            <p:nvSpPr>
              <p:cNvPr id="452" name=""/>
              <p:cNvSpPr/>
              <p:nvPr/>
            </p:nvSpPr>
            <p:spPr>
              <a:xfrm>
                <a:off x="3158640" y="3675240"/>
                <a:ext cx="537120" cy="4982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58640" y="3699000"/>
                <a:ext cx="53712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nod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3057480" y="2217600"/>
            <a:ext cx="766800" cy="708120"/>
            <a:chOff x="3057480" y="2217600"/>
            <a:chExt cx="766800" cy="708120"/>
          </a:xfrm>
        </p:grpSpPr>
        <p:sp>
          <p:nvSpPr>
            <p:cNvPr id="455" name=""/>
            <p:cNvSpPr/>
            <p:nvPr/>
          </p:nvSpPr>
          <p:spPr>
            <a:xfrm>
              <a:off x="3057480" y="2217600"/>
              <a:ext cx="766800" cy="7081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3171600" y="2322360"/>
              <a:ext cx="537120" cy="498600"/>
              <a:chOff x="3171600" y="2322360"/>
              <a:chExt cx="537120" cy="498600"/>
            </a:xfrm>
          </p:grpSpPr>
          <p:sp>
            <p:nvSpPr>
              <p:cNvPr id="457" name=""/>
              <p:cNvSpPr/>
              <p:nvPr/>
            </p:nvSpPr>
            <p:spPr>
              <a:xfrm>
                <a:off x="3171600" y="2322360"/>
                <a:ext cx="537120" cy="49860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71600" y="2345760"/>
                <a:ext cx="53568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ce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3436920" y="2976480"/>
            <a:ext cx="1440" cy="527040"/>
          </a:xfrm>
          <a:prstGeom prst="line">
            <a:avLst/>
          </a:prstGeom>
          <a:ln w="3816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1160" y="2730600"/>
            <a:ext cx="1446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62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Desconexão planej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51360" y="1778040"/>
            <a:ext cx="1108080" cy="2940120"/>
          </a:xfrm>
          <a:prstGeom prst="ellipse">
            <a:avLst/>
          </a:prstGeom>
          <a:noFill/>
          <a:ln w="3240">
            <a:solidFill>
              <a:srgbClr val="3333cc"/>
            </a:solidFill>
            <a:prstDash val="lgDash"/>
            <a:miter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640480" y="5284800"/>
            <a:ext cx="1238040" cy="339840"/>
            <a:chOff x="5640480" y="5284800"/>
            <a:chExt cx="1238040" cy="339840"/>
          </a:xfrm>
        </p:grpSpPr>
        <p:sp>
          <p:nvSpPr>
            <p:cNvPr id="463" name=""/>
            <p:cNvSpPr/>
            <p:nvPr/>
          </p:nvSpPr>
          <p:spPr>
            <a:xfrm>
              <a:off x="5640480" y="5284800"/>
              <a:ext cx="1238040" cy="339840"/>
            </a:xfrm>
            <a:prstGeom prst="roundRect">
              <a:avLst>
                <a:gd name="adj" fmla="val 463"/>
              </a:avLst>
            </a:prstGeom>
            <a:noFill/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640480" y="5284800"/>
              <a:ext cx="1234800" cy="336600"/>
              <a:chOff x="5640480" y="5284800"/>
              <a:chExt cx="1234800" cy="336600"/>
            </a:xfrm>
          </p:grpSpPr>
          <p:sp>
            <p:nvSpPr>
              <p:cNvPr id="465" name=""/>
              <p:cNvSpPr/>
              <p:nvPr/>
            </p:nvSpPr>
            <p:spPr>
              <a:xfrm>
                <a:off x="5640480" y="5284800"/>
                <a:ext cx="1234800" cy="3366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40480" y="5302080"/>
                <a:ext cx="123480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636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Tahoma"/>
                  </a:rPr>
                  <a:t>Aplic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6161040" y="4808520"/>
            <a:ext cx="304920" cy="365040"/>
          </a:xfrm>
          <a:custGeom>
            <a:avLst/>
            <a:gdLst/>
            <a:ahLst/>
            <a:rect l="l" t="t" r="r" b="b"/>
            <a:pathLst>
              <a:path w="848" h="1015">
                <a:moveTo>
                  <a:pt x="0" y="201"/>
                </a:moveTo>
                <a:lnTo>
                  <a:pt x="423" y="0"/>
                </a:lnTo>
                <a:lnTo>
                  <a:pt x="847" y="201"/>
                </a:lnTo>
                <a:lnTo>
                  <a:pt x="635" y="201"/>
                </a:lnTo>
                <a:lnTo>
                  <a:pt x="635" y="811"/>
                </a:lnTo>
                <a:lnTo>
                  <a:pt x="847" y="811"/>
                </a:lnTo>
                <a:lnTo>
                  <a:pt x="423" y="1014"/>
                </a:lnTo>
                <a:lnTo>
                  <a:pt x="0" y="811"/>
                </a:lnTo>
                <a:lnTo>
                  <a:pt x="211" y="811"/>
                </a:lnTo>
                <a:lnTo>
                  <a:pt x="211" y="201"/>
                </a:lnTo>
                <a:lnTo>
                  <a:pt x="0" y="201"/>
                </a:lnTo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88120" y="5772240"/>
            <a:ext cx="179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Visão unif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08680" y="3586320"/>
            <a:ext cx="766800" cy="706320"/>
            <a:chOff x="5908680" y="3586320"/>
            <a:chExt cx="766800" cy="706320"/>
          </a:xfrm>
        </p:grpSpPr>
        <p:sp>
          <p:nvSpPr>
            <p:cNvPr id="470" name=""/>
            <p:cNvSpPr/>
            <p:nvPr/>
          </p:nvSpPr>
          <p:spPr>
            <a:xfrm>
              <a:off x="5908680" y="3586320"/>
              <a:ext cx="766800" cy="7063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022440" y="3690720"/>
              <a:ext cx="537120" cy="493920"/>
              <a:chOff x="6022440" y="3690720"/>
              <a:chExt cx="537120" cy="493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022440" y="3690720"/>
                <a:ext cx="537120" cy="493920"/>
              </a:xfrm>
              <a:prstGeom prst="roundRect">
                <a:avLst>
                  <a:gd name="adj" fmla="val 3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22440" y="3713040"/>
                <a:ext cx="53532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nod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23080" y="2233440"/>
            <a:ext cx="765000" cy="708120"/>
            <a:chOff x="5923080" y="2233440"/>
            <a:chExt cx="765000" cy="708120"/>
          </a:xfrm>
        </p:grpSpPr>
        <p:sp>
          <p:nvSpPr>
            <p:cNvPr id="475" name=""/>
            <p:cNvSpPr/>
            <p:nvPr/>
          </p:nvSpPr>
          <p:spPr>
            <a:xfrm>
              <a:off x="5923080" y="2233440"/>
              <a:ext cx="765000" cy="708120"/>
            </a:xfrm>
            <a:prstGeom prst="ellipse">
              <a:avLst/>
            </a:prstGeom>
            <a:noFill/>
            <a:ln w="9360">
              <a:solidFill>
                <a:srgbClr val="33ccff"/>
              </a:solidFill>
              <a:miter/>
            </a:ln>
            <a:effectLst>
              <a:outerShdw dist="17819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6036840" y="2338560"/>
              <a:ext cx="538200" cy="498240"/>
              <a:chOff x="6036840" y="2338560"/>
              <a:chExt cx="538200" cy="498240"/>
            </a:xfrm>
          </p:grpSpPr>
          <p:sp>
            <p:nvSpPr>
              <p:cNvPr id="477" name=""/>
              <p:cNvSpPr/>
              <p:nvPr/>
            </p:nvSpPr>
            <p:spPr>
              <a:xfrm>
                <a:off x="6036840" y="2338560"/>
                <a:ext cx="538200" cy="4982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36840" y="2362320"/>
                <a:ext cx="53640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397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ahoma"/>
                  </a:rPr>
                  <a:t>ce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>
            <a:off x="6300720" y="3344760"/>
            <a:ext cx="1800" cy="18900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8640" y="2998800"/>
            <a:ext cx="1800" cy="193680"/>
          </a:xfrm>
          <a:prstGeom prst="line">
            <a:avLst/>
          </a:prstGeom>
          <a:ln w="38160">
            <a:solidFill>
              <a:srgbClr val="33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13520" y="3252960"/>
            <a:ext cx="380880" cy="63360"/>
          </a:xfrm>
          <a:custGeom>
            <a:avLst/>
            <a:gdLst/>
            <a:ahLst/>
            <a:rect l="l" t="t" r="r" b="b"/>
            <a:pathLst>
              <a:path w="1059" h="177">
                <a:moveTo>
                  <a:pt x="0" y="105"/>
                </a:moveTo>
                <a:cubicBezTo>
                  <a:pt x="59" y="40"/>
                  <a:pt x="69" y="15"/>
                  <a:pt x="147" y="37"/>
                </a:cubicBezTo>
                <a:cubicBezTo>
                  <a:pt x="276" y="143"/>
                  <a:pt x="124" y="0"/>
                  <a:pt x="282" y="65"/>
                </a:cubicBezTo>
                <a:cubicBezTo>
                  <a:pt x="307" y="90"/>
                  <a:pt x="322" y="139"/>
                  <a:pt x="359" y="139"/>
                </a:cubicBezTo>
                <a:cubicBezTo>
                  <a:pt x="388" y="137"/>
                  <a:pt x="409" y="64"/>
                  <a:pt x="409" y="64"/>
                </a:cubicBezTo>
                <a:cubicBezTo>
                  <a:pt x="532" y="141"/>
                  <a:pt x="463" y="169"/>
                  <a:pt x="638" y="50"/>
                </a:cubicBezTo>
                <a:cubicBezTo>
                  <a:pt x="698" y="171"/>
                  <a:pt x="700" y="135"/>
                  <a:pt x="836" y="44"/>
                </a:cubicBezTo>
                <a:cubicBezTo>
                  <a:pt x="872" y="105"/>
                  <a:pt x="868" y="176"/>
                  <a:pt x="938" y="148"/>
                </a:cubicBezTo>
                <a:cubicBezTo>
                  <a:pt x="997" y="61"/>
                  <a:pt x="1035" y="25"/>
                  <a:pt x="1058" y="136"/>
                </a:cubicBezTo>
              </a:path>
            </a:pathLst>
          </a:custGeom>
          <a:noFill/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00560" y="3295800"/>
            <a:ext cx="1117440" cy="1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763040" y="1727280"/>
            <a:ext cx="982080" cy="1123560"/>
            <a:chOff x="7763040" y="1727280"/>
            <a:chExt cx="982080" cy="1123560"/>
          </a:xfrm>
        </p:grpSpPr>
        <p:sp>
          <p:nvSpPr>
            <p:cNvPr id="484" name=""/>
            <p:cNvSpPr/>
            <p:nvPr/>
          </p:nvSpPr>
          <p:spPr>
            <a:xfrm>
              <a:off x="7772400" y="1741320"/>
              <a:ext cx="971640" cy="1100160"/>
            </a:xfrm>
            <a:custGeom>
              <a:avLst/>
              <a:gdLst/>
              <a:ahLst/>
              <a:rect l="l" t="t" r="r" b="b"/>
              <a:pathLst>
                <a:path w="2699" h="3056">
                  <a:moveTo>
                    <a:pt x="503" y="2038"/>
                  </a:moveTo>
                  <a:lnTo>
                    <a:pt x="296" y="2235"/>
                  </a:lnTo>
                  <a:lnTo>
                    <a:pt x="35" y="2475"/>
                  </a:lnTo>
                  <a:lnTo>
                    <a:pt x="35" y="2678"/>
                  </a:lnTo>
                  <a:lnTo>
                    <a:pt x="78" y="3055"/>
                  </a:lnTo>
                  <a:lnTo>
                    <a:pt x="513" y="3039"/>
                  </a:lnTo>
                  <a:lnTo>
                    <a:pt x="1003" y="2978"/>
                  </a:lnTo>
                  <a:lnTo>
                    <a:pt x="1736" y="2967"/>
                  </a:lnTo>
                  <a:lnTo>
                    <a:pt x="2282" y="2978"/>
                  </a:lnTo>
                  <a:lnTo>
                    <a:pt x="2469" y="2613"/>
                  </a:lnTo>
                  <a:lnTo>
                    <a:pt x="2698" y="1891"/>
                  </a:lnTo>
                  <a:lnTo>
                    <a:pt x="2657" y="1667"/>
                  </a:lnTo>
                  <a:lnTo>
                    <a:pt x="2573" y="1580"/>
                  </a:lnTo>
                  <a:lnTo>
                    <a:pt x="2329" y="1596"/>
                  </a:lnTo>
                  <a:lnTo>
                    <a:pt x="2439" y="1049"/>
                  </a:lnTo>
                  <a:lnTo>
                    <a:pt x="2454" y="873"/>
                  </a:lnTo>
                  <a:lnTo>
                    <a:pt x="2396" y="447"/>
                  </a:lnTo>
                  <a:lnTo>
                    <a:pt x="2340" y="137"/>
                  </a:lnTo>
                  <a:lnTo>
                    <a:pt x="2235" y="0"/>
                  </a:lnTo>
                  <a:lnTo>
                    <a:pt x="2163" y="0"/>
                  </a:lnTo>
                  <a:lnTo>
                    <a:pt x="1965" y="33"/>
                  </a:lnTo>
                  <a:lnTo>
                    <a:pt x="1643" y="49"/>
                  </a:lnTo>
                  <a:lnTo>
                    <a:pt x="1434" y="16"/>
                  </a:lnTo>
                  <a:lnTo>
                    <a:pt x="1211" y="5"/>
                  </a:lnTo>
                  <a:lnTo>
                    <a:pt x="1122" y="28"/>
                  </a:lnTo>
                  <a:lnTo>
                    <a:pt x="936" y="120"/>
                  </a:lnTo>
                  <a:lnTo>
                    <a:pt x="649" y="202"/>
                  </a:lnTo>
                  <a:lnTo>
                    <a:pt x="285" y="333"/>
                  </a:lnTo>
                  <a:lnTo>
                    <a:pt x="149" y="415"/>
                  </a:lnTo>
                  <a:lnTo>
                    <a:pt x="26" y="563"/>
                  </a:lnTo>
                  <a:lnTo>
                    <a:pt x="0" y="771"/>
                  </a:lnTo>
                  <a:lnTo>
                    <a:pt x="0" y="1120"/>
                  </a:lnTo>
                  <a:lnTo>
                    <a:pt x="15" y="1531"/>
                  </a:lnTo>
                  <a:lnTo>
                    <a:pt x="41" y="1777"/>
                  </a:lnTo>
                  <a:lnTo>
                    <a:pt x="93" y="1913"/>
                  </a:lnTo>
                  <a:lnTo>
                    <a:pt x="181" y="1990"/>
                  </a:lnTo>
                  <a:lnTo>
                    <a:pt x="280" y="2017"/>
                  </a:lnTo>
                  <a:lnTo>
                    <a:pt x="503" y="203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66000" y="1940040"/>
              <a:ext cx="569880" cy="455400"/>
            </a:xfrm>
            <a:custGeom>
              <a:avLst/>
              <a:gdLst/>
              <a:ahLst/>
              <a:rect l="l" t="t" r="r" b="b"/>
              <a:pathLst>
                <a:path w="1583" h="1266">
                  <a:moveTo>
                    <a:pt x="5" y="342"/>
                  </a:moveTo>
                  <a:lnTo>
                    <a:pt x="20" y="108"/>
                  </a:lnTo>
                  <a:lnTo>
                    <a:pt x="57" y="42"/>
                  </a:lnTo>
                  <a:lnTo>
                    <a:pt x="150" y="15"/>
                  </a:lnTo>
                  <a:lnTo>
                    <a:pt x="547" y="4"/>
                  </a:lnTo>
                  <a:lnTo>
                    <a:pt x="1025" y="0"/>
                  </a:lnTo>
                  <a:lnTo>
                    <a:pt x="1306" y="4"/>
                  </a:lnTo>
                  <a:lnTo>
                    <a:pt x="1374" y="47"/>
                  </a:lnTo>
                  <a:lnTo>
                    <a:pt x="1426" y="135"/>
                  </a:lnTo>
                  <a:lnTo>
                    <a:pt x="1493" y="506"/>
                  </a:lnTo>
                  <a:lnTo>
                    <a:pt x="1566" y="927"/>
                  </a:lnTo>
                  <a:lnTo>
                    <a:pt x="1582" y="1184"/>
                  </a:lnTo>
                  <a:lnTo>
                    <a:pt x="1556" y="1227"/>
                  </a:lnTo>
                  <a:lnTo>
                    <a:pt x="1472" y="1265"/>
                  </a:lnTo>
                  <a:lnTo>
                    <a:pt x="1056" y="1254"/>
                  </a:lnTo>
                  <a:lnTo>
                    <a:pt x="416" y="1222"/>
                  </a:lnTo>
                  <a:lnTo>
                    <a:pt x="104" y="1188"/>
                  </a:lnTo>
                  <a:lnTo>
                    <a:pt x="57" y="1123"/>
                  </a:lnTo>
                  <a:lnTo>
                    <a:pt x="26" y="992"/>
                  </a:lnTo>
                  <a:lnTo>
                    <a:pt x="0" y="665"/>
                  </a:lnTo>
                  <a:lnTo>
                    <a:pt x="5" y="34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7763040" y="1727280"/>
              <a:ext cx="982080" cy="1123560"/>
              <a:chOff x="7763040" y="1727280"/>
              <a:chExt cx="982080" cy="1123560"/>
            </a:xfrm>
          </p:grpSpPr>
          <p:sp>
            <p:nvSpPr>
              <p:cNvPr id="487" name=""/>
              <p:cNvSpPr/>
              <p:nvPr/>
            </p:nvSpPr>
            <p:spPr>
              <a:xfrm>
                <a:off x="7772040" y="2292840"/>
                <a:ext cx="973080" cy="558000"/>
              </a:xfrm>
              <a:custGeom>
                <a:avLst/>
                <a:gdLst/>
                <a:ahLst/>
                <a:rect l="l" t="t" r="r" b="b"/>
                <a:pathLst>
                  <a:path w="2709" h="1551">
                    <a:moveTo>
                      <a:pt x="0" y="933"/>
                    </a:moveTo>
                    <a:lnTo>
                      <a:pt x="331" y="627"/>
                    </a:lnTo>
                    <a:lnTo>
                      <a:pt x="342" y="698"/>
                    </a:lnTo>
                    <a:lnTo>
                      <a:pt x="114" y="917"/>
                    </a:lnTo>
                    <a:lnTo>
                      <a:pt x="513" y="901"/>
                    </a:lnTo>
                    <a:lnTo>
                      <a:pt x="1369" y="901"/>
                    </a:lnTo>
                    <a:lnTo>
                      <a:pt x="1821" y="867"/>
                    </a:lnTo>
                    <a:lnTo>
                      <a:pt x="2101" y="808"/>
                    </a:lnTo>
                    <a:lnTo>
                      <a:pt x="2174" y="792"/>
                    </a:lnTo>
                    <a:lnTo>
                      <a:pt x="2505" y="87"/>
                    </a:lnTo>
                    <a:lnTo>
                      <a:pt x="2351" y="37"/>
                    </a:lnTo>
                    <a:lnTo>
                      <a:pt x="2583" y="0"/>
                    </a:lnTo>
                    <a:lnTo>
                      <a:pt x="2667" y="76"/>
                    </a:lnTo>
                    <a:lnTo>
                      <a:pt x="2708" y="337"/>
                    </a:lnTo>
                    <a:lnTo>
                      <a:pt x="2641" y="551"/>
                    </a:lnTo>
                    <a:lnTo>
                      <a:pt x="2422" y="1239"/>
                    </a:lnTo>
                    <a:lnTo>
                      <a:pt x="2325" y="1452"/>
                    </a:lnTo>
                    <a:lnTo>
                      <a:pt x="2231" y="1479"/>
                    </a:lnTo>
                    <a:lnTo>
                      <a:pt x="1546" y="1462"/>
                    </a:lnTo>
                    <a:lnTo>
                      <a:pt x="825" y="1484"/>
                    </a:lnTo>
                    <a:lnTo>
                      <a:pt x="140" y="1539"/>
                    </a:lnTo>
                    <a:lnTo>
                      <a:pt x="41" y="1550"/>
                    </a:lnTo>
                    <a:lnTo>
                      <a:pt x="31" y="1343"/>
                    </a:lnTo>
                    <a:lnTo>
                      <a:pt x="15" y="1146"/>
                    </a:lnTo>
                    <a:lnTo>
                      <a:pt x="15" y="1037"/>
                    </a:lnTo>
                    <a:lnTo>
                      <a:pt x="67" y="1103"/>
                    </a:lnTo>
                    <a:lnTo>
                      <a:pt x="82" y="1267"/>
                    </a:lnTo>
                    <a:lnTo>
                      <a:pt x="104" y="1441"/>
                    </a:lnTo>
                    <a:lnTo>
                      <a:pt x="300" y="1468"/>
                    </a:lnTo>
                    <a:lnTo>
                      <a:pt x="747" y="1425"/>
                    </a:lnTo>
                    <a:lnTo>
                      <a:pt x="1125" y="1392"/>
                    </a:lnTo>
                    <a:lnTo>
                      <a:pt x="1442" y="1392"/>
                    </a:lnTo>
                    <a:lnTo>
                      <a:pt x="1920" y="1392"/>
                    </a:lnTo>
                    <a:lnTo>
                      <a:pt x="2220" y="1392"/>
                    </a:lnTo>
                    <a:lnTo>
                      <a:pt x="2231" y="1295"/>
                    </a:lnTo>
                    <a:lnTo>
                      <a:pt x="2200" y="1098"/>
                    </a:lnTo>
                    <a:lnTo>
                      <a:pt x="2179" y="885"/>
                    </a:lnTo>
                    <a:lnTo>
                      <a:pt x="2220" y="933"/>
                    </a:lnTo>
                    <a:lnTo>
                      <a:pt x="2262" y="1175"/>
                    </a:lnTo>
                    <a:lnTo>
                      <a:pt x="2304" y="1295"/>
                    </a:lnTo>
                    <a:lnTo>
                      <a:pt x="2351" y="1234"/>
                    </a:lnTo>
                    <a:lnTo>
                      <a:pt x="2432" y="998"/>
                    </a:lnTo>
                    <a:lnTo>
                      <a:pt x="2553" y="654"/>
                    </a:lnTo>
                    <a:lnTo>
                      <a:pt x="2641" y="381"/>
                    </a:lnTo>
                    <a:lnTo>
                      <a:pt x="2656" y="299"/>
                    </a:lnTo>
                    <a:lnTo>
                      <a:pt x="2615" y="103"/>
                    </a:lnTo>
                    <a:lnTo>
                      <a:pt x="2568" y="93"/>
                    </a:lnTo>
                    <a:lnTo>
                      <a:pt x="2475" y="321"/>
                    </a:lnTo>
                    <a:lnTo>
                      <a:pt x="2319" y="622"/>
                    </a:lnTo>
                    <a:lnTo>
                      <a:pt x="2200" y="851"/>
                    </a:lnTo>
                    <a:lnTo>
                      <a:pt x="2086" y="890"/>
                    </a:lnTo>
                    <a:lnTo>
                      <a:pt x="1671" y="944"/>
                    </a:lnTo>
                    <a:lnTo>
                      <a:pt x="1182" y="976"/>
                    </a:lnTo>
                    <a:lnTo>
                      <a:pt x="700" y="976"/>
                    </a:lnTo>
                    <a:lnTo>
                      <a:pt x="155" y="981"/>
                    </a:lnTo>
                    <a:lnTo>
                      <a:pt x="0" y="9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51320" y="2483280"/>
                <a:ext cx="505440" cy="122040"/>
              </a:xfrm>
              <a:custGeom>
                <a:avLst/>
                <a:gdLst/>
                <a:ahLst/>
                <a:rect l="l" t="t" r="r" b="b"/>
                <a:pathLst>
                  <a:path w="1405" h="339">
                    <a:moveTo>
                      <a:pt x="31" y="54"/>
                    </a:moveTo>
                    <a:lnTo>
                      <a:pt x="130" y="0"/>
                    </a:lnTo>
                    <a:lnTo>
                      <a:pt x="177" y="16"/>
                    </a:lnTo>
                    <a:lnTo>
                      <a:pt x="145" y="86"/>
                    </a:lnTo>
                    <a:lnTo>
                      <a:pt x="72" y="135"/>
                    </a:lnTo>
                    <a:lnTo>
                      <a:pt x="214" y="213"/>
                    </a:lnTo>
                    <a:lnTo>
                      <a:pt x="427" y="218"/>
                    </a:lnTo>
                    <a:lnTo>
                      <a:pt x="607" y="202"/>
                    </a:lnTo>
                    <a:lnTo>
                      <a:pt x="744" y="186"/>
                    </a:lnTo>
                    <a:lnTo>
                      <a:pt x="989" y="163"/>
                    </a:lnTo>
                    <a:lnTo>
                      <a:pt x="1150" y="147"/>
                    </a:lnTo>
                    <a:lnTo>
                      <a:pt x="1253" y="113"/>
                    </a:lnTo>
                    <a:lnTo>
                      <a:pt x="1352" y="48"/>
                    </a:lnTo>
                    <a:lnTo>
                      <a:pt x="1346" y="0"/>
                    </a:lnTo>
                    <a:lnTo>
                      <a:pt x="1404" y="16"/>
                    </a:lnTo>
                    <a:lnTo>
                      <a:pt x="1388" y="180"/>
                    </a:lnTo>
                    <a:lnTo>
                      <a:pt x="1238" y="257"/>
                    </a:lnTo>
                    <a:lnTo>
                      <a:pt x="905" y="273"/>
                    </a:lnTo>
                    <a:lnTo>
                      <a:pt x="571" y="311"/>
                    </a:lnTo>
                    <a:lnTo>
                      <a:pt x="375" y="338"/>
                    </a:lnTo>
                    <a:lnTo>
                      <a:pt x="145" y="273"/>
                    </a:lnTo>
                    <a:lnTo>
                      <a:pt x="31" y="240"/>
                    </a:lnTo>
                    <a:lnTo>
                      <a:pt x="0" y="147"/>
                    </a:lnTo>
                    <a:lnTo>
                      <a:pt x="31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72120" y="2686320"/>
                <a:ext cx="55080" cy="50400"/>
              </a:xfrm>
              <a:custGeom>
                <a:avLst/>
                <a:gdLst/>
                <a:ahLst/>
                <a:rect l="l" t="t" r="r" b="b"/>
                <a:pathLst>
                  <a:path w="153" h="140">
                    <a:moveTo>
                      <a:pt x="5" y="5"/>
                    </a:moveTo>
                    <a:lnTo>
                      <a:pt x="142" y="0"/>
                    </a:lnTo>
                    <a:lnTo>
                      <a:pt x="152" y="139"/>
                    </a:lnTo>
                    <a:lnTo>
                      <a:pt x="0" y="139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71840" y="2679840"/>
                <a:ext cx="51840" cy="5040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4" y="5"/>
                    </a:moveTo>
                    <a:lnTo>
                      <a:pt x="134" y="0"/>
                    </a:lnTo>
                    <a:lnTo>
                      <a:pt x="145" y="140"/>
                    </a:lnTo>
                    <a:lnTo>
                      <a:pt x="0" y="140"/>
                    </a:lnTo>
                    <a:lnTo>
                      <a:pt x="4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290440" y="2664000"/>
                <a:ext cx="215280" cy="59760"/>
              </a:xfrm>
              <a:custGeom>
                <a:avLst/>
                <a:gdLst/>
                <a:ahLst/>
                <a:rect l="l" t="t" r="r" b="b"/>
                <a:pathLst>
                  <a:path w="599" h="167">
                    <a:moveTo>
                      <a:pt x="0" y="48"/>
                    </a:moveTo>
                    <a:lnTo>
                      <a:pt x="583" y="0"/>
                    </a:lnTo>
                    <a:lnTo>
                      <a:pt x="598" y="104"/>
                    </a:lnTo>
                    <a:lnTo>
                      <a:pt x="0" y="16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63040" y="1727280"/>
                <a:ext cx="899640" cy="748080"/>
              </a:xfrm>
              <a:custGeom>
                <a:avLst/>
                <a:gdLst/>
                <a:ahLst/>
                <a:rect l="l" t="t" r="r" b="b"/>
                <a:pathLst>
                  <a:path w="2506" h="2083">
                    <a:moveTo>
                      <a:pt x="206" y="1978"/>
                    </a:moveTo>
                    <a:lnTo>
                      <a:pt x="139" y="1907"/>
                    </a:lnTo>
                    <a:lnTo>
                      <a:pt x="92" y="1771"/>
                    </a:lnTo>
                    <a:lnTo>
                      <a:pt x="77" y="1482"/>
                    </a:lnTo>
                    <a:lnTo>
                      <a:pt x="77" y="991"/>
                    </a:lnTo>
                    <a:lnTo>
                      <a:pt x="92" y="626"/>
                    </a:lnTo>
                    <a:lnTo>
                      <a:pt x="139" y="539"/>
                    </a:lnTo>
                    <a:lnTo>
                      <a:pt x="217" y="436"/>
                    </a:lnTo>
                    <a:lnTo>
                      <a:pt x="397" y="359"/>
                    </a:lnTo>
                    <a:lnTo>
                      <a:pt x="730" y="249"/>
                    </a:lnTo>
                    <a:lnTo>
                      <a:pt x="1001" y="180"/>
                    </a:lnTo>
                    <a:lnTo>
                      <a:pt x="1125" y="103"/>
                    </a:lnTo>
                    <a:lnTo>
                      <a:pt x="1338" y="82"/>
                    </a:lnTo>
                    <a:lnTo>
                      <a:pt x="1726" y="120"/>
                    </a:lnTo>
                    <a:lnTo>
                      <a:pt x="2042" y="98"/>
                    </a:lnTo>
                    <a:lnTo>
                      <a:pt x="2178" y="64"/>
                    </a:lnTo>
                    <a:lnTo>
                      <a:pt x="2287" y="98"/>
                    </a:lnTo>
                    <a:lnTo>
                      <a:pt x="2360" y="299"/>
                    </a:lnTo>
                    <a:lnTo>
                      <a:pt x="2401" y="669"/>
                    </a:lnTo>
                    <a:lnTo>
                      <a:pt x="2448" y="965"/>
                    </a:lnTo>
                    <a:lnTo>
                      <a:pt x="2427" y="1100"/>
                    </a:lnTo>
                    <a:lnTo>
                      <a:pt x="2344" y="1433"/>
                    </a:lnTo>
                    <a:lnTo>
                      <a:pt x="2230" y="1765"/>
                    </a:lnTo>
                    <a:lnTo>
                      <a:pt x="2163" y="1896"/>
                    </a:lnTo>
                    <a:lnTo>
                      <a:pt x="2111" y="1957"/>
                    </a:lnTo>
                    <a:lnTo>
                      <a:pt x="2184" y="2000"/>
                    </a:lnTo>
                    <a:lnTo>
                      <a:pt x="2262" y="1858"/>
                    </a:lnTo>
                    <a:lnTo>
                      <a:pt x="2380" y="1558"/>
                    </a:lnTo>
                    <a:lnTo>
                      <a:pt x="2463" y="1243"/>
                    </a:lnTo>
                    <a:lnTo>
                      <a:pt x="2494" y="1084"/>
                    </a:lnTo>
                    <a:lnTo>
                      <a:pt x="2505" y="932"/>
                    </a:lnTo>
                    <a:lnTo>
                      <a:pt x="2474" y="685"/>
                    </a:lnTo>
                    <a:lnTo>
                      <a:pt x="2427" y="315"/>
                    </a:lnTo>
                    <a:lnTo>
                      <a:pt x="2365" y="114"/>
                    </a:lnTo>
                    <a:lnTo>
                      <a:pt x="2303" y="21"/>
                    </a:lnTo>
                    <a:lnTo>
                      <a:pt x="2199" y="0"/>
                    </a:lnTo>
                    <a:lnTo>
                      <a:pt x="2070" y="37"/>
                    </a:lnTo>
                    <a:lnTo>
                      <a:pt x="1872" y="48"/>
                    </a:lnTo>
                    <a:lnTo>
                      <a:pt x="1623" y="48"/>
                    </a:lnTo>
                    <a:lnTo>
                      <a:pt x="1364" y="16"/>
                    </a:lnTo>
                    <a:lnTo>
                      <a:pt x="1187" y="21"/>
                    </a:lnTo>
                    <a:lnTo>
                      <a:pt x="1103" y="54"/>
                    </a:lnTo>
                    <a:lnTo>
                      <a:pt x="906" y="157"/>
                    </a:lnTo>
                    <a:lnTo>
                      <a:pt x="533" y="266"/>
                    </a:lnTo>
                    <a:lnTo>
                      <a:pt x="170" y="392"/>
                    </a:lnTo>
                    <a:lnTo>
                      <a:pt x="71" y="523"/>
                    </a:lnTo>
                    <a:lnTo>
                      <a:pt x="4" y="703"/>
                    </a:lnTo>
                    <a:lnTo>
                      <a:pt x="0" y="1057"/>
                    </a:lnTo>
                    <a:lnTo>
                      <a:pt x="14" y="1389"/>
                    </a:lnTo>
                    <a:lnTo>
                      <a:pt x="25" y="1734"/>
                    </a:lnTo>
                    <a:lnTo>
                      <a:pt x="81" y="1939"/>
                    </a:lnTo>
                    <a:lnTo>
                      <a:pt x="139" y="2044"/>
                    </a:lnTo>
                    <a:lnTo>
                      <a:pt x="237" y="2082"/>
                    </a:lnTo>
                    <a:lnTo>
                      <a:pt x="299" y="2060"/>
                    </a:lnTo>
                    <a:lnTo>
                      <a:pt x="206" y="197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22800" y="1740960"/>
                <a:ext cx="776520" cy="746640"/>
              </a:xfrm>
              <a:custGeom>
                <a:avLst/>
                <a:gdLst/>
                <a:ahLst/>
                <a:rect l="l" t="t" r="r" b="b"/>
                <a:pathLst>
                  <a:path w="2162" h="2079">
                    <a:moveTo>
                      <a:pt x="31" y="1969"/>
                    </a:moveTo>
                    <a:lnTo>
                      <a:pt x="388" y="1997"/>
                    </a:lnTo>
                    <a:lnTo>
                      <a:pt x="892" y="2008"/>
                    </a:lnTo>
                    <a:lnTo>
                      <a:pt x="1299" y="2008"/>
                    </a:lnTo>
                    <a:lnTo>
                      <a:pt x="1657" y="1963"/>
                    </a:lnTo>
                    <a:lnTo>
                      <a:pt x="1901" y="1920"/>
                    </a:lnTo>
                    <a:lnTo>
                      <a:pt x="1963" y="1888"/>
                    </a:lnTo>
                    <a:lnTo>
                      <a:pt x="1963" y="1703"/>
                    </a:lnTo>
                    <a:lnTo>
                      <a:pt x="1875" y="1217"/>
                    </a:lnTo>
                    <a:lnTo>
                      <a:pt x="1777" y="621"/>
                    </a:lnTo>
                    <a:lnTo>
                      <a:pt x="1724" y="409"/>
                    </a:lnTo>
                    <a:lnTo>
                      <a:pt x="1672" y="326"/>
                    </a:lnTo>
                    <a:lnTo>
                      <a:pt x="1054" y="398"/>
                    </a:lnTo>
                    <a:lnTo>
                      <a:pt x="446" y="414"/>
                    </a:lnTo>
                    <a:lnTo>
                      <a:pt x="114" y="419"/>
                    </a:lnTo>
                    <a:lnTo>
                      <a:pt x="0" y="437"/>
                    </a:lnTo>
                    <a:lnTo>
                      <a:pt x="61" y="349"/>
                    </a:lnTo>
                    <a:lnTo>
                      <a:pt x="207" y="365"/>
                    </a:lnTo>
                    <a:lnTo>
                      <a:pt x="622" y="349"/>
                    </a:lnTo>
                    <a:lnTo>
                      <a:pt x="1012" y="326"/>
                    </a:lnTo>
                    <a:lnTo>
                      <a:pt x="1361" y="294"/>
                    </a:lnTo>
                    <a:lnTo>
                      <a:pt x="1698" y="261"/>
                    </a:lnTo>
                    <a:lnTo>
                      <a:pt x="1954" y="137"/>
                    </a:lnTo>
                    <a:lnTo>
                      <a:pt x="2099" y="0"/>
                    </a:lnTo>
                    <a:lnTo>
                      <a:pt x="2161" y="65"/>
                    </a:lnTo>
                    <a:lnTo>
                      <a:pt x="2025" y="153"/>
                    </a:lnTo>
                    <a:lnTo>
                      <a:pt x="1823" y="288"/>
                    </a:lnTo>
                    <a:lnTo>
                      <a:pt x="1760" y="332"/>
                    </a:lnTo>
                    <a:lnTo>
                      <a:pt x="1833" y="649"/>
                    </a:lnTo>
                    <a:lnTo>
                      <a:pt x="1891" y="953"/>
                    </a:lnTo>
                    <a:lnTo>
                      <a:pt x="1937" y="1238"/>
                    </a:lnTo>
                    <a:lnTo>
                      <a:pt x="1984" y="1506"/>
                    </a:lnTo>
                    <a:lnTo>
                      <a:pt x="2025" y="1703"/>
                    </a:lnTo>
                    <a:lnTo>
                      <a:pt x="2042" y="1876"/>
                    </a:lnTo>
                    <a:lnTo>
                      <a:pt x="2016" y="1969"/>
                    </a:lnTo>
                    <a:lnTo>
                      <a:pt x="1740" y="2040"/>
                    </a:lnTo>
                    <a:lnTo>
                      <a:pt x="1256" y="2078"/>
                    </a:lnTo>
                    <a:lnTo>
                      <a:pt x="748" y="2056"/>
                    </a:lnTo>
                    <a:lnTo>
                      <a:pt x="379" y="2056"/>
                    </a:lnTo>
                    <a:lnTo>
                      <a:pt x="72" y="2046"/>
                    </a:lnTo>
                    <a:lnTo>
                      <a:pt x="31" y="19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10280" y="1929960"/>
                <a:ext cx="537120" cy="478800"/>
              </a:xfrm>
              <a:custGeom>
                <a:avLst/>
                <a:gdLst/>
                <a:ahLst/>
                <a:rect l="l" t="t" r="r" b="b"/>
                <a:pathLst>
                  <a:path w="1493" h="1331">
                    <a:moveTo>
                      <a:pt x="0" y="31"/>
                    </a:moveTo>
                    <a:lnTo>
                      <a:pt x="494" y="16"/>
                    </a:lnTo>
                    <a:lnTo>
                      <a:pt x="832" y="0"/>
                    </a:lnTo>
                    <a:lnTo>
                      <a:pt x="1212" y="5"/>
                    </a:lnTo>
                    <a:lnTo>
                      <a:pt x="1269" y="47"/>
                    </a:lnTo>
                    <a:lnTo>
                      <a:pt x="1315" y="119"/>
                    </a:lnTo>
                    <a:lnTo>
                      <a:pt x="1399" y="495"/>
                    </a:lnTo>
                    <a:lnTo>
                      <a:pt x="1461" y="921"/>
                    </a:lnTo>
                    <a:lnTo>
                      <a:pt x="1492" y="1210"/>
                    </a:lnTo>
                    <a:lnTo>
                      <a:pt x="1461" y="1308"/>
                    </a:lnTo>
                    <a:lnTo>
                      <a:pt x="1382" y="1330"/>
                    </a:lnTo>
                    <a:lnTo>
                      <a:pt x="946" y="1276"/>
                    </a:lnTo>
                    <a:lnTo>
                      <a:pt x="1399" y="1232"/>
                    </a:lnTo>
                    <a:lnTo>
                      <a:pt x="1424" y="1221"/>
                    </a:lnTo>
                    <a:lnTo>
                      <a:pt x="1414" y="1020"/>
                    </a:lnTo>
                    <a:lnTo>
                      <a:pt x="1382" y="736"/>
                    </a:lnTo>
                    <a:lnTo>
                      <a:pt x="1310" y="348"/>
                    </a:lnTo>
                    <a:lnTo>
                      <a:pt x="1249" y="108"/>
                    </a:lnTo>
                    <a:lnTo>
                      <a:pt x="1197" y="74"/>
                    </a:lnTo>
                    <a:lnTo>
                      <a:pt x="920" y="58"/>
                    </a:lnTo>
                    <a:lnTo>
                      <a:pt x="551" y="74"/>
                    </a:lnTo>
                    <a:lnTo>
                      <a:pt x="244" y="6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54480" y="1937880"/>
                <a:ext cx="533880" cy="464400"/>
              </a:xfrm>
              <a:custGeom>
                <a:avLst/>
                <a:gdLst/>
                <a:ahLst/>
                <a:rect l="l" t="t" r="r" b="b"/>
                <a:pathLst>
                  <a:path w="1484" h="1292">
                    <a:moveTo>
                      <a:pt x="684" y="0"/>
                    </a:moveTo>
                    <a:lnTo>
                      <a:pt x="201" y="0"/>
                    </a:lnTo>
                    <a:lnTo>
                      <a:pt x="67" y="15"/>
                    </a:lnTo>
                    <a:lnTo>
                      <a:pt x="41" y="69"/>
                    </a:lnTo>
                    <a:lnTo>
                      <a:pt x="15" y="178"/>
                    </a:lnTo>
                    <a:lnTo>
                      <a:pt x="0" y="484"/>
                    </a:lnTo>
                    <a:lnTo>
                      <a:pt x="15" y="779"/>
                    </a:lnTo>
                    <a:lnTo>
                      <a:pt x="51" y="1073"/>
                    </a:lnTo>
                    <a:lnTo>
                      <a:pt x="113" y="1193"/>
                    </a:lnTo>
                    <a:lnTo>
                      <a:pt x="139" y="1220"/>
                    </a:lnTo>
                    <a:lnTo>
                      <a:pt x="440" y="1253"/>
                    </a:lnTo>
                    <a:lnTo>
                      <a:pt x="840" y="1269"/>
                    </a:lnTo>
                    <a:lnTo>
                      <a:pt x="1131" y="1275"/>
                    </a:lnTo>
                    <a:lnTo>
                      <a:pt x="1483" y="1291"/>
                    </a:lnTo>
                    <a:lnTo>
                      <a:pt x="1462" y="1241"/>
                    </a:lnTo>
                    <a:lnTo>
                      <a:pt x="1193" y="1220"/>
                    </a:lnTo>
                    <a:lnTo>
                      <a:pt x="840" y="1193"/>
                    </a:lnTo>
                    <a:lnTo>
                      <a:pt x="346" y="1193"/>
                    </a:lnTo>
                    <a:lnTo>
                      <a:pt x="169" y="1134"/>
                    </a:lnTo>
                    <a:lnTo>
                      <a:pt x="113" y="1090"/>
                    </a:lnTo>
                    <a:lnTo>
                      <a:pt x="96" y="1002"/>
                    </a:lnTo>
                    <a:lnTo>
                      <a:pt x="71" y="757"/>
                    </a:lnTo>
                    <a:lnTo>
                      <a:pt x="67" y="456"/>
                    </a:lnTo>
                    <a:lnTo>
                      <a:pt x="87" y="146"/>
                    </a:lnTo>
                    <a:lnTo>
                      <a:pt x="113" y="74"/>
                    </a:lnTo>
                    <a:lnTo>
                      <a:pt x="434" y="31"/>
                    </a:lnTo>
                    <a:lnTo>
                      <a:pt x="6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8826480" y="1231920"/>
            <a:ext cx="776160" cy="686880"/>
            <a:chOff x="8826480" y="1231920"/>
            <a:chExt cx="776160" cy="686880"/>
          </a:xfrm>
        </p:grpSpPr>
        <p:sp>
          <p:nvSpPr>
            <p:cNvPr id="497" name=""/>
            <p:cNvSpPr/>
            <p:nvPr/>
          </p:nvSpPr>
          <p:spPr>
            <a:xfrm>
              <a:off x="8834400" y="1239840"/>
              <a:ext cx="768240" cy="674640"/>
            </a:xfrm>
            <a:custGeom>
              <a:avLst/>
              <a:gdLst/>
              <a:ahLst/>
              <a:rect l="l" t="t" r="r" b="b"/>
              <a:pathLst>
                <a:path w="2134" h="1874">
                  <a:moveTo>
                    <a:pt x="398" y="1250"/>
                  </a:moveTo>
                  <a:lnTo>
                    <a:pt x="233" y="1371"/>
                  </a:lnTo>
                  <a:lnTo>
                    <a:pt x="27" y="1518"/>
                  </a:lnTo>
                  <a:lnTo>
                    <a:pt x="27" y="1643"/>
                  </a:lnTo>
                  <a:lnTo>
                    <a:pt x="61" y="1873"/>
                  </a:lnTo>
                  <a:lnTo>
                    <a:pt x="406" y="1864"/>
                  </a:lnTo>
                  <a:lnTo>
                    <a:pt x="793" y="1826"/>
                  </a:lnTo>
                  <a:lnTo>
                    <a:pt x="1373" y="1819"/>
                  </a:lnTo>
                  <a:lnTo>
                    <a:pt x="1804" y="1826"/>
                  </a:lnTo>
                  <a:lnTo>
                    <a:pt x="1952" y="1602"/>
                  </a:lnTo>
                  <a:lnTo>
                    <a:pt x="2133" y="1160"/>
                  </a:lnTo>
                  <a:lnTo>
                    <a:pt x="2101" y="1022"/>
                  </a:lnTo>
                  <a:lnTo>
                    <a:pt x="2034" y="969"/>
                  </a:lnTo>
                  <a:lnTo>
                    <a:pt x="1841" y="979"/>
                  </a:lnTo>
                  <a:lnTo>
                    <a:pt x="1928" y="643"/>
                  </a:lnTo>
                  <a:lnTo>
                    <a:pt x="1940" y="535"/>
                  </a:lnTo>
                  <a:lnTo>
                    <a:pt x="1895" y="274"/>
                  </a:lnTo>
                  <a:lnTo>
                    <a:pt x="1850" y="83"/>
                  </a:lnTo>
                  <a:lnTo>
                    <a:pt x="1767" y="0"/>
                  </a:lnTo>
                  <a:lnTo>
                    <a:pt x="1710" y="0"/>
                  </a:lnTo>
                  <a:lnTo>
                    <a:pt x="1553" y="19"/>
                  </a:lnTo>
                  <a:lnTo>
                    <a:pt x="1299" y="29"/>
                  </a:lnTo>
                  <a:lnTo>
                    <a:pt x="1134" y="9"/>
                  </a:lnTo>
                  <a:lnTo>
                    <a:pt x="957" y="3"/>
                  </a:lnTo>
                  <a:lnTo>
                    <a:pt x="887" y="16"/>
                  </a:lnTo>
                  <a:lnTo>
                    <a:pt x="740" y="73"/>
                  </a:lnTo>
                  <a:lnTo>
                    <a:pt x="513" y="123"/>
                  </a:lnTo>
                  <a:lnTo>
                    <a:pt x="225" y="204"/>
                  </a:lnTo>
                  <a:lnTo>
                    <a:pt x="118" y="254"/>
                  </a:lnTo>
                  <a:lnTo>
                    <a:pt x="20" y="344"/>
                  </a:lnTo>
                  <a:lnTo>
                    <a:pt x="0" y="472"/>
                  </a:lnTo>
                  <a:lnTo>
                    <a:pt x="0" y="686"/>
                  </a:lnTo>
                  <a:lnTo>
                    <a:pt x="12" y="939"/>
                  </a:lnTo>
                  <a:lnTo>
                    <a:pt x="32" y="1090"/>
                  </a:lnTo>
                  <a:lnTo>
                    <a:pt x="73" y="1173"/>
                  </a:lnTo>
                  <a:lnTo>
                    <a:pt x="143" y="1220"/>
                  </a:lnTo>
                  <a:lnTo>
                    <a:pt x="221" y="1237"/>
                  </a:lnTo>
                  <a:lnTo>
                    <a:pt x="398" y="125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907480" y="1362240"/>
              <a:ext cx="449280" cy="279360"/>
            </a:xfrm>
            <a:custGeom>
              <a:avLst/>
              <a:gdLst/>
              <a:ahLst/>
              <a:rect l="l" t="t" r="r" b="b"/>
              <a:pathLst>
                <a:path w="1249" h="777">
                  <a:moveTo>
                    <a:pt x="2" y="210"/>
                  </a:moveTo>
                  <a:lnTo>
                    <a:pt x="14" y="66"/>
                  </a:lnTo>
                  <a:lnTo>
                    <a:pt x="43" y="26"/>
                  </a:lnTo>
                  <a:lnTo>
                    <a:pt x="117" y="9"/>
                  </a:lnTo>
                  <a:lnTo>
                    <a:pt x="430" y="2"/>
                  </a:lnTo>
                  <a:lnTo>
                    <a:pt x="809" y="0"/>
                  </a:lnTo>
                  <a:lnTo>
                    <a:pt x="1030" y="2"/>
                  </a:lnTo>
                  <a:lnTo>
                    <a:pt x="1084" y="29"/>
                  </a:lnTo>
                  <a:lnTo>
                    <a:pt x="1125" y="83"/>
                  </a:lnTo>
                  <a:lnTo>
                    <a:pt x="1179" y="311"/>
                  </a:lnTo>
                  <a:lnTo>
                    <a:pt x="1236" y="569"/>
                  </a:lnTo>
                  <a:lnTo>
                    <a:pt x="1248" y="726"/>
                  </a:lnTo>
                  <a:lnTo>
                    <a:pt x="1228" y="753"/>
                  </a:lnTo>
                  <a:lnTo>
                    <a:pt x="1162" y="776"/>
                  </a:lnTo>
                  <a:lnTo>
                    <a:pt x="833" y="769"/>
                  </a:lnTo>
                  <a:lnTo>
                    <a:pt x="328" y="750"/>
                  </a:lnTo>
                  <a:lnTo>
                    <a:pt x="81" y="729"/>
                  </a:lnTo>
                  <a:lnTo>
                    <a:pt x="43" y="689"/>
                  </a:lnTo>
                  <a:lnTo>
                    <a:pt x="19" y="608"/>
                  </a:lnTo>
                  <a:lnTo>
                    <a:pt x="0" y="408"/>
                  </a:lnTo>
                  <a:lnTo>
                    <a:pt x="2" y="21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8826480" y="1231920"/>
              <a:ext cx="775800" cy="686880"/>
              <a:chOff x="8826480" y="1231920"/>
              <a:chExt cx="775800" cy="68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8834040" y="1577880"/>
                <a:ext cx="768240" cy="340920"/>
              </a:xfrm>
              <a:custGeom>
                <a:avLst/>
                <a:gdLst/>
                <a:ahLst/>
                <a:rect l="l" t="t" r="r" b="b"/>
                <a:pathLst>
                  <a:path w="2140" h="951">
                    <a:moveTo>
                      <a:pt x="0" y="572"/>
                    </a:moveTo>
                    <a:lnTo>
                      <a:pt x="261" y="385"/>
                    </a:lnTo>
                    <a:lnTo>
                      <a:pt x="270" y="428"/>
                    </a:lnTo>
                    <a:lnTo>
                      <a:pt x="90" y="562"/>
                    </a:lnTo>
                    <a:lnTo>
                      <a:pt x="404" y="553"/>
                    </a:lnTo>
                    <a:lnTo>
                      <a:pt x="1081" y="553"/>
                    </a:lnTo>
                    <a:lnTo>
                      <a:pt x="1439" y="532"/>
                    </a:lnTo>
                    <a:lnTo>
                      <a:pt x="1660" y="496"/>
                    </a:lnTo>
                    <a:lnTo>
                      <a:pt x="1718" y="486"/>
                    </a:lnTo>
                    <a:lnTo>
                      <a:pt x="1980" y="53"/>
                    </a:lnTo>
                    <a:lnTo>
                      <a:pt x="1857" y="23"/>
                    </a:lnTo>
                    <a:lnTo>
                      <a:pt x="2040" y="0"/>
                    </a:lnTo>
                    <a:lnTo>
                      <a:pt x="2106" y="46"/>
                    </a:lnTo>
                    <a:lnTo>
                      <a:pt x="2139" y="207"/>
                    </a:lnTo>
                    <a:lnTo>
                      <a:pt x="2086" y="339"/>
                    </a:lnTo>
                    <a:lnTo>
                      <a:pt x="1913" y="759"/>
                    </a:lnTo>
                    <a:lnTo>
                      <a:pt x="1836" y="890"/>
                    </a:lnTo>
                    <a:lnTo>
                      <a:pt x="1762" y="907"/>
                    </a:lnTo>
                    <a:lnTo>
                      <a:pt x="1220" y="896"/>
                    </a:lnTo>
                    <a:lnTo>
                      <a:pt x="651" y="910"/>
                    </a:lnTo>
                    <a:lnTo>
                      <a:pt x="110" y="943"/>
                    </a:lnTo>
                    <a:lnTo>
                      <a:pt x="32" y="950"/>
                    </a:lnTo>
                    <a:lnTo>
                      <a:pt x="24" y="822"/>
                    </a:lnTo>
                    <a:lnTo>
                      <a:pt x="12" y="702"/>
                    </a:lnTo>
                    <a:lnTo>
                      <a:pt x="12" y="635"/>
                    </a:lnTo>
                    <a:lnTo>
                      <a:pt x="53" y="675"/>
                    </a:lnTo>
                    <a:lnTo>
                      <a:pt x="65" y="776"/>
                    </a:lnTo>
                    <a:lnTo>
                      <a:pt x="82" y="883"/>
                    </a:lnTo>
                    <a:lnTo>
                      <a:pt x="236" y="900"/>
                    </a:lnTo>
                    <a:lnTo>
                      <a:pt x="589" y="873"/>
                    </a:lnTo>
                    <a:lnTo>
                      <a:pt x="889" y="853"/>
                    </a:lnTo>
                    <a:lnTo>
                      <a:pt x="1139" y="853"/>
                    </a:lnTo>
                    <a:lnTo>
                      <a:pt x="1517" y="853"/>
                    </a:lnTo>
                    <a:lnTo>
                      <a:pt x="1753" y="853"/>
                    </a:lnTo>
                    <a:lnTo>
                      <a:pt x="1762" y="793"/>
                    </a:lnTo>
                    <a:lnTo>
                      <a:pt x="1737" y="672"/>
                    </a:lnTo>
                    <a:lnTo>
                      <a:pt x="1722" y="543"/>
                    </a:lnTo>
                    <a:lnTo>
                      <a:pt x="1753" y="572"/>
                    </a:lnTo>
                    <a:lnTo>
                      <a:pt x="1787" y="720"/>
                    </a:lnTo>
                    <a:lnTo>
                      <a:pt x="1819" y="793"/>
                    </a:lnTo>
                    <a:lnTo>
                      <a:pt x="1857" y="757"/>
                    </a:lnTo>
                    <a:lnTo>
                      <a:pt x="1922" y="613"/>
                    </a:lnTo>
                    <a:lnTo>
                      <a:pt x="2016" y="401"/>
                    </a:lnTo>
                    <a:lnTo>
                      <a:pt x="2086" y="235"/>
                    </a:lnTo>
                    <a:lnTo>
                      <a:pt x="2098" y="184"/>
                    </a:lnTo>
                    <a:lnTo>
                      <a:pt x="2065" y="63"/>
                    </a:lnTo>
                    <a:lnTo>
                      <a:pt x="2028" y="57"/>
                    </a:lnTo>
                    <a:lnTo>
                      <a:pt x="1955" y="197"/>
                    </a:lnTo>
                    <a:lnTo>
                      <a:pt x="1832" y="382"/>
                    </a:lnTo>
                    <a:lnTo>
                      <a:pt x="1737" y="522"/>
                    </a:lnTo>
                    <a:lnTo>
                      <a:pt x="1648" y="546"/>
                    </a:lnTo>
                    <a:lnTo>
                      <a:pt x="1319" y="579"/>
                    </a:lnTo>
                    <a:lnTo>
                      <a:pt x="933" y="600"/>
                    </a:lnTo>
                    <a:lnTo>
                      <a:pt x="552" y="600"/>
                    </a:lnTo>
                    <a:lnTo>
                      <a:pt x="122" y="603"/>
                    </a:lnTo>
                    <a:lnTo>
                      <a:pt x="0" y="5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975520" y="1694520"/>
                <a:ext cx="397080" cy="74160"/>
              </a:xfrm>
              <a:custGeom>
                <a:avLst/>
                <a:gdLst/>
                <a:ahLst/>
                <a:rect l="l" t="t" r="r" b="b"/>
                <a:pathLst>
                  <a:path w="1109" h="207">
                    <a:moveTo>
                      <a:pt x="24" y="33"/>
                    </a:moveTo>
                    <a:lnTo>
                      <a:pt x="102" y="0"/>
                    </a:lnTo>
                    <a:lnTo>
                      <a:pt x="140" y="10"/>
                    </a:lnTo>
                    <a:lnTo>
                      <a:pt x="114" y="52"/>
                    </a:lnTo>
                    <a:lnTo>
                      <a:pt x="57" y="82"/>
                    </a:lnTo>
                    <a:lnTo>
                      <a:pt x="168" y="129"/>
                    </a:lnTo>
                    <a:lnTo>
                      <a:pt x="336" y="132"/>
                    </a:lnTo>
                    <a:lnTo>
                      <a:pt x="480" y="122"/>
                    </a:lnTo>
                    <a:lnTo>
                      <a:pt x="587" y="113"/>
                    </a:lnTo>
                    <a:lnTo>
                      <a:pt x="781" y="99"/>
                    </a:lnTo>
                    <a:lnTo>
                      <a:pt x="907" y="89"/>
                    </a:lnTo>
                    <a:lnTo>
                      <a:pt x="989" y="69"/>
                    </a:lnTo>
                    <a:lnTo>
                      <a:pt x="1068" y="29"/>
                    </a:lnTo>
                    <a:lnTo>
                      <a:pt x="1063" y="0"/>
                    </a:lnTo>
                    <a:lnTo>
                      <a:pt x="1108" y="10"/>
                    </a:lnTo>
                    <a:lnTo>
                      <a:pt x="1096" y="109"/>
                    </a:lnTo>
                    <a:lnTo>
                      <a:pt x="977" y="156"/>
                    </a:lnTo>
                    <a:lnTo>
                      <a:pt x="715" y="166"/>
                    </a:lnTo>
                    <a:lnTo>
                      <a:pt x="451" y="189"/>
                    </a:lnTo>
                    <a:lnTo>
                      <a:pt x="295" y="206"/>
                    </a:lnTo>
                    <a:lnTo>
                      <a:pt x="114" y="166"/>
                    </a:lnTo>
                    <a:lnTo>
                      <a:pt x="24" y="146"/>
                    </a:lnTo>
                    <a:lnTo>
                      <a:pt x="0" y="89"/>
                    </a:lnTo>
                    <a:lnTo>
                      <a:pt x="24" y="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913600" y="1818000"/>
                <a:ext cx="43920" cy="31320"/>
              </a:xfrm>
              <a:custGeom>
                <a:avLst/>
                <a:gdLst/>
                <a:ahLst/>
                <a:rect l="l" t="t" r="r" b="b"/>
                <a:pathLst>
                  <a:path w="122" h="89">
                    <a:moveTo>
                      <a:pt x="4" y="3"/>
                    </a:moveTo>
                    <a:lnTo>
                      <a:pt x="112" y="0"/>
                    </a:lnTo>
                    <a:lnTo>
                      <a:pt x="121" y="88"/>
                    </a:lnTo>
                    <a:lnTo>
                      <a:pt x="0" y="88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992440" y="1814760"/>
                <a:ext cx="42480" cy="31320"/>
              </a:xfrm>
              <a:custGeom>
                <a:avLst/>
                <a:gdLst/>
                <a:ahLst/>
                <a:rect l="l" t="t" r="r" b="b"/>
                <a:pathLst>
                  <a:path w="119" h="88">
                    <a:moveTo>
                      <a:pt x="4" y="3"/>
                    </a:moveTo>
                    <a:lnTo>
                      <a:pt x="110" y="0"/>
                    </a:lnTo>
                    <a:lnTo>
                      <a:pt x="118" y="87"/>
                    </a:lnTo>
                    <a:lnTo>
                      <a:pt x="0" y="87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243000" y="1803600"/>
                <a:ext cx="169200" cy="36360"/>
              </a:xfrm>
              <a:custGeom>
                <a:avLst/>
                <a:gdLst/>
                <a:ahLst/>
                <a:rect l="l" t="t" r="r" b="b"/>
                <a:pathLst>
                  <a:path w="472" h="102">
                    <a:moveTo>
                      <a:pt x="0" y="30"/>
                    </a:moveTo>
                    <a:lnTo>
                      <a:pt x="459" y="0"/>
                    </a:lnTo>
                    <a:lnTo>
                      <a:pt x="471" y="63"/>
                    </a:lnTo>
                    <a:lnTo>
                      <a:pt x="0" y="101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826480" y="1231920"/>
                <a:ext cx="711000" cy="458280"/>
              </a:xfrm>
              <a:custGeom>
                <a:avLst/>
                <a:gdLst/>
                <a:ahLst/>
                <a:rect l="l" t="t" r="r" b="b"/>
                <a:pathLst>
                  <a:path w="1980" h="1278">
                    <a:moveTo>
                      <a:pt x="163" y="1213"/>
                    </a:moveTo>
                    <a:lnTo>
                      <a:pt x="111" y="1169"/>
                    </a:lnTo>
                    <a:lnTo>
                      <a:pt x="74" y="1086"/>
                    </a:lnTo>
                    <a:lnTo>
                      <a:pt x="62" y="910"/>
                    </a:lnTo>
                    <a:lnTo>
                      <a:pt x="62" y="608"/>
                    </a:lnTo>
                    <a:lnTo>
                      <a:pt x="74" y="384"/>
                    </a:lnTo>
                    <a:lnTo>
                      <a:pt x="111" y="330"/>
                    </a:lnTo>
                    <a:lnTo>
                      <a:pt x="171" y="268"/>
                    </a:lnTo>
                    <a:lnTo>
                      <a:pt x="315" y="220"/>
                    </a:lnTo>
                    <a:lnTo>
                      <a:pt x="577" y="153"/>
                    </a:lnTo>
                    <a:lnTo>
                      <a:pt x="790" y="110"/>
                    </a:lnTo>
                    <a:lnTo>
                      <a:pt x="889" y="63"/>
                    </a:lnTo>
                    <a:lnTo>
                      <a:pt x="1058" y="50"/>
                    </a:lnTo>
                    <a:lnTo>
                      <a:pt x="1364" y="74"/>
                    </a:lnTo>
                    <a:lnTo>
                      <a:pt x="1614" y="60"/>
                    </a:lnTo>
                    <a:lnTo>
                      <a:pt x="1721" y="39"/>
                    </a:lnTo>
                    <a:lnTo>
                      <a:pt x="1807" y="60"/>
                    </a:lnTo>
                    <a:lnTo>
                      <a:pt x="1865" y="184"/>
                    </a:lnTo>
                    <a:lnTo>
                      <a:pt x="1897" y="410"/>
                    </a:lnTo>
                    <a:lnTo>
                      <a:pt x="1934" y="591"/>
                    </a:lnTo>
                    <a:lnTo>
                      <a:pt x="1918" y="674"/>
                    </a:lnTo>
                    <a:lnTo>
                      <a:pt x="1852" y="880"/>
                    </a:lnTo>
                    <a:lnTo>
                      <a:pt x="1761" y="1082"/>
                    </a:lnTo>
                    <a:lnTo>
                      <a:pt x="1709" y="1162"/>
                    </a:lnTo>
                    <a:lnTo>
                      <a:pt x="1668" y="1200"/>
                    </a:lnTo>
                    <a:lnTo>
                      <a:pt x="1726" y="1227"/>
                    </a:lnTo>
                    <a:lnTo>
                      <a:pt x="1786" y="1139"/>
                    </a:lnTo>
                    <a:lnTo>
                      <a:pt x="1880" y="956"/>
                    </a:lnTo>
                    <a:lnTo>
                      <a:pt x="1947" y="763"/>
                    </a:lnTo>
                    <a:lnTo>
                      <a:pt x="1971" y="665"/>
                    </a:lnTo>
                    <a:lnTo>
                      <a:pt x="1979" y="571"/>
                    </a:lnTo>
                    <a:lnTo>
                      <a:pt x="1955" y="420"/>
                    </a:lnTo>
                    <a:lnTo>
                      <a:pt x="1918" y="193"/>
                    </a:lnTo>
                    <a:lnTo>
                      <a:pt x="1868" y="70"/>
                    </a:lnTo>
                    <a:lnTo>
                      <a:pt x="1819" y="13"/>
                    </a:lnTo>
                    <a:lnTo>
                      <a:pt x="1738" y="0"/>
                    </a:lnTo>
                    <a:lnTo>
                      <a:pt x="1635" y="23"/>
                    </a:lnTo>
                    <a:lnTo>
                      <a:pt x="1480" y="30"/>
                    </a:lnTo>
                    <a:lnTo>
                      <a:pt x="1282" y="30"/>
                    </a:lnTo>
                    <a:lnTo>
                      <a:pt x="1078" y="10"/>
                    </a:lnTo>
                    <a:lnTo>
                      <a:pt x="938" y="13"/>
                    </a:lnTo>
                    <a:lnTo>
                      <a:pt x="872" y="33"/>
                    </a:lnTo>
                    <a:lnTo>
                      <a:pt x="716" y="96"/>
                    </a:lnTo>
                    <a:lnTo>
                      <a:pt x="421" y="164"/>
                    </a:lnTo>
                    <a:lnTo>
                      <a:pt x="135" y="241"/>
                    </a:lnTo>
                    <a:lnTo>
                      <a:pt x="57" y="320"/>
                    </a:lnTo>
                    <a:lnTo>
                      <a:pt x="4" y="431"/>
                    </a:lnTo>
                    <a:lnTo>
                      <a:pt x="0" y="648"/>
                    </a:lnTo>
                    <a:lnTo>
                      <a:pt x="12" y="853"/>
                    </a:lnTo>
                    <a:lnTo>
                      <a:pt x="21" y="1062"/>
                    </a:lnTo>
                    <a:lnTo>
                      <a:pt x="65" y="1189"/>
                    </a:lnTo>
                    <a:lnTo>
                      <a:pt x="111" y="1253"/>
                    </a:lnTo>
                    <a:lnTo>
                      <a:pt x="187" y="1277"/>
                    </a:lnTo>
                    <a:lnTo>
                      <a:pt x="237" y="1263"/>
                    </a:lnTo>
                    <a:lnTo>
                      <a:pt x="163" y="1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873640" y="1239480"/>
                <a:ext cx="613080" cy="458280"/>
              </a:xfrm>
              <a:custGeom>
                <a:avLst/>
                <a:gdLst/>
                <a:ahLst/>
                <a:rect l="l" t="t" r="r" b="b"/>
                <a:pathLst>
                  <a:path w="1708" h="1277">
                    <a:moveTo>
                      <a:pt x="24" y="1209"/>
                    </a:moveTo>
                    <a:lnTo>
                      <a:pt x="306" y="1225"/>
                    </a:lnTo>
                    <a:lnTo>
                      <a:pt x="705" y="1232"/>
                    </a:lnTo>
                    <a:lnTo>
                      <a:pt x="1026" y="1232"/>
                    </a:lnTo>
                    <a:lnTo>
                      <a:pt x="1310" y="1205"/>
                    </a:lnTo>
                    <a:lnTo>
                      <a:pt x="1502" y="1178"/>
                    </a:lnTo>
                    <a:lnTo>
                      <a:pt x="1551" y="1158"/>
                    </a:lnTo>
                    <a:lnTo>
                      <a:pt x="1551" y="1044"/>
                    </a:lnTo>
                    <a:lnTo>
                      <a:pt x="1481" y="746"/>
                    </a:lnTo>
                    <a:lnTo>
                      <a:pt x="1404" y="380"/>
                    </a:lnTo>
                    <a:lnTo>
                      <a:pt x="1362" y="251"/>
                    </a:lnTo>
                    <a:lnTo>
                      <a:pt x="1322" y="199"/>
                    </a:lnTo>
                    <a:lnTo>
                      <a:pt x="832" y="244"/>
                    </a:lnTo>
                    <a:lnTo>
                      <a:pt x="352" y="254"/>
                    </a:lnTo>
                    <a:lnTo>
                      <a:pt x="90" y="257"/>
                    </a:lnTo>
                    <a:lnTo>
                      <a:pt x="0" y="267"/>
                    </a:lnTo>
                    <a:lnTo>
                      <a:pt x="48" y="213"/>
                    </a:lnTo>
                    <a:lnTo>
                      <a:pt x="163" y="223"/>
                    </a:lnTo>
                    <a:lnTo>
                      <a:pt x="491" y="213"/>
                    </a:lnTo>
                    <a:lnTo>
                      <a:pt x="800" y="199"/>
                    </a:lnTo>
                    <a:lnTo>
                      <a:pt x="1076" y="179"/>
                    </a:lnTo>
                    <a:lnTo>
                      <a:pt x="1342" y="160"/>
                    </a:lnTo>
                    <a:lnTo>
                      <a:pt x="1544" y="83"/>
                    </a:lnTo>
                    <a:lnTo>
                      <a:pt x="1657" y="0"/>
                    </a:lnTo>
                    <a:lnTo>
                      <a:pt x="1707" y="39"/>
                    </a:lnTo>
                    <a:lnTo>
                      <a:pt x="1600" y="93"/>
                    </a:lnTo>
                    <a:lnTo>
                      <a:pt x="1440" y="176"/>
                    </a:lnTo>
                    <a:lnTo>
                      <a:pt x="1391" y="203"/>
                    </a:lnTo>
                    <a:lnTo>
                      <a:pt x="1449" y="397"/>
                    </a:lnTo>
                    <a:lnTo>
                      <a:pt x="1494" y="585"/>
                    </a:lnTo>
                    <a:lnTo>
                      <a:pt x="1531" y="759"/>
                    </a:lnTo>
                    <a:lnTo>
                      <a:pt x="1568" y="925"/>
                    </a:lnTo>
                    <a:lnTo>
                      <a:pt x="1600" y="1044"/>
                    </a:lnTo>
                    <a:lnTo>
                      <a:pt x="1614" y="1151"/>
                    </a:lnTo>
                    <a:lnTo>
                      <a:pt x="1593" y="1209"/>
                    </a:lnTo>
                    <a:lnTo>
                      <a:pt x="1375" y="1252"/>
                    </a:lnTo>
                    <a:lnTo>
                      <a:pt x="993" y="1276"/>
                    </a:lnTo>
                    <a:lnTo>
                      <a:pt x="590" y="1262"/>
                    </a:lnTo>
                    <a:lnTo>
                      <a:pt x="299" y="1262"/>
                    </a:lnTo>
                    <a:lnTo>
                      <a:pt x="56" y="1256"/>
                    </a:lnTo>
                    <a:lnTo>
                      <a:pt x="24" y="120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943480" y="1355040"/>
                <a:ext cx="423000" cy="292320"/>
              </a:xfrm>
              <a:custGeom>
                <a:avLst/>
                <a:gdLst/>
                <a:ahLst/>
                <a:rect l="l" t="t" r="r" b="b"/>
                <a:pathLst>
                  <a:path w="1176" h="816">
                    <a:moveTo>
                      <a:pt x="0" y="19"/>
                    </a:moveTo>
                    <a:lnTo>
                      <a:pt x="389" y="9"/>
                    </a:lnTo>
                    <a:lnTo>
                      <a:pt x="655" y="0"/>
                    </a:lnTo>
                    <a:lnTo>
                      <a:pt x="954" y="2"/>
                    </a:lnTo>
                    <a:lnTo>
                      <a:pt x="999" y="29"/>
                    </a:lnTo>
                    <a:lnTo>
                      <a:pt x="1036" y="73"/>
                    </a:lnTo>
                    <a:lnTo>
                      <a:pt x="1103" y="303"/>
                    </a:lnTo>
                    <a:lnTo>
                      <a:pt x="1152" y="566"/>
                    </a:lnTo>
                    <a:lnTo>
                      <a:pt x="1175" y="742"/>
                    </a:lnTo>
                    <a:lnTo>
                      <a:pt x="1152" y="802"/>
                    </a:lnTo>
                    <a:lnTo>
                      <a:pt x="1090" y="815"/>
                    </a:lnTo>
                    <a:lnTo>
                      <a:pt x="746" y="782"/>
                    </a:lnTo>
                    <a:lnTo>
                      <a:pt x="1103" y="755"/>
                    </a:lnTo>
                    <a:lnTo>
                      <a:pt x="1123" y="748"/>
                    </a:lnTo>
                    <a:lnTo>
                      <a:pt x="1115" y="625"/>
                    </a:lnTo>
                    <a:lnTo>
                      <a:pt x="1090" y="452"/>
                    </a:lnTo>
                    <a:lnTo>
                      <a:pt x="1033" y="213"/>
                    </a:lnTo>
                    <a:lnTo>
                      <a:pt x="983" y="66"/>
                    </a:lnTo>
                    <a:lnTo>
                      <a:pt x="942" y="46"/>
                    </a:lnTo>
                    <a:lnTo>
                      <a:pt x="725" y="36"/>
                    </a:lnTo>
                    <a:lnTo>
                      <a:pt x="434" y="46"/>
                    </a:lnTo>
                    <a:lnTo>
                      <a:pt x="192" y="3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899200" y="1359720"/>
                <a:ext cx="421200" cy="285840"/>
              </a:xfrm>
              <a:custGeom>
                <a:avLst/>
                <a:gdLst/>
                <a:ahLst/>
                <a:rect l="l" t="t" r="r" b="b"/>
                <a:pathLst>
                  <a:path w="1175" h="797">
                    <a:moveTo>
                      <a:pt x="542" y="0"/>
                    </a:moveTo>
                    <a:lnTo>
                      <a:pt x="161" y="0"/>
                    </a:lnTo>
                    <a:lnTo>
                      <a:pt x="53" y="10"/>
                    </a:lnTo>
                    <a:lnTo>
                      <a:pt x="33" y="44"/>
                    </a:lnTo>
                    <a:lnTo>
                      <a:pt x="12" y="110"/>
                    </a:lnTo>
                    <a:lnTo>
                      <a:pt x="0" y="300"/>
                    </a:lnTo>
                    <a:lnTo>
                      <a:pt x="12" y="481"/>
                    </a:lnTo>
                    <a:lnTo>
                      <a:pt x="41" y="662"/>
                    </a:lnTo>
                    <a:lnTo>
                      <a:pt x="91" y="736"/>
                    </a:lnTo>
                    <a:lnTo>
                      <a:pt x="111" y="753"/>
                    </a:lnTo>
                    <a:lnTo>
                      <a:pt x="349" y="773"/>
                    </a:lnTo>
                    <a:lnTo>
                      <a:pt x="666" y="783"/>
                    </a:lnTo>
                    <a:lnTo>
                      <a:pt x="896" y="787"/>
                    </a:lnTo>
                    <a:lnTo>
                      <a:pt x="1174" y="796"/>
                    </a:lnTo>
                    <a:lnTo>
                      <a:pt x="1158" y="766"/>
                    </a:lnTo>
                    <a:lnTo>
                      <a:pt x="945" y="753"/>
                    </a:lnTo>
                    <a:lnTo>
                      <a:pt x="666" y="736"/>
                    </a:lnTo>
                    <a:lnTo>
                      <a:pt x="274" y="736"/>
                    </a:lnTo>
                    <a:lnTo>
                      <a:pt x="135" y="699"/>
                    </a:lnTo>
                    <a:lnTo>
                      <a:pt x="91" y="673"/>
                    </a:lnTo>
                    <a:lnTo>
                      <a:pt x="78" y="619"/>
                    </a:lnTo>
                    <a:lnTo>
                      <a:pt x="57" y="468"/>
                    </a:lnTo>
                    <a:lnTo>
                      <a:pt x="53" y="282"/>
                    </a:lnTo>
                    <a:lnTo>
                      <a:pt x="70" y="91"/>
                    </a:lnTo>
                    <a:lnTo>
                      <a:pt x="91" y="47"/>
                    </a:lnTo>
                    <a:lnTo>
                      <a:pt x="344" y="20"/>
                    </a:lnTo>
                    <a:lnTo>
                      <a:pt x="54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 flipV="1">
            <a:off x="8694720" y="1852560"/>
            <a:ext cx="31608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165800" y="1219320"/>
            <a:ext cx="2740320" cy="1973160"/>
          </a:xfrm>
          <a:prstGeom prst="roundRect">
            <a:avLst>
              <a:gd name="adj" fmla="val 7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17720" y="2550960"/>
            <a:ext cx="6405480" cy="2567160"/>
          </a:xfrm>
          <a:prstGeom prst="roundRect">
            <a:avLst>
              <a:gd name="adj" fmla="val 6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16200" y="3282840"/>
            <a:ext cx="51706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12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upre o requisito do middleware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peração desconec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idades do GRADE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ços em duas ins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ância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33400" y="31680"/>
            <a:ext cx="8089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idades do GRADE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quisitos exigidos do ponto de vista da aplic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8520" y="1268280"/>
            <a:ext cx="92455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orte à execução distribuíd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unicação com desacoplamento temporal e espacial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orte à mobilidade lógic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orte à mobilidade físic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cesso pervasivo a dados e a códig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rnecimento de informações de context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orte à adaptação dinâmica de aspectos funcionai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orte à adaptação dinâmica de aspectos não funcionai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olítica cooperativa com a aplicação nas decisões de adaptaçã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600200" y="47520"/>
            <a:ext cx="8300880" cy="814680"/>
            <a:chOff x="1600200" y="47520"/>
            <a:chExt cx="8300880" cy="814680"/>
          </a:xfrm>
        </p:grpSpPr>
        <p:sp>
          <p:nvSpPr>
            <p:cNvPr id="519" name=""/>
            <p:cNvSpPr/>
            <p:nvPr/>
          </p:nvSpPr>
          <p:spPr>
            <a:xfrm>
              <a:off x="1600200" y="75960"/>
              <a:ext cx="830088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0200" y="47520"/>
              <a:ext cx="83008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ts val="2837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uncionalidades do GRADEp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Atendendo a demanda de adaptaç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  <a:ea typeface="ＭＳ Ｐゴシック"/>
                </a:rPr>
                <a:t>ão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da 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1" name=""/>
          <p:cNvGraphicFramePr/>
          <p:nvPr/>
        </p:nvGraphicFramePr>
        <p:xfrm>
          <a:off x="1281240" y="1341360"/>
          <a:ext cx="64800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341360"/>
                    <a:ext cx="64800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1928880" y="5013360"/>
            <a:ext cx="567684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Fornecimento de informações de contexto;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orte à adaptação dinâmica de aspectos funcionai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orte à adaptação dinâmica de aspectos não funcionai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Política cooperativa com a aplicação nas decisões de adapt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715080" y="1125360"/>
            <a:ext cx="3074040" cy="307800"/>
            <a:chOff x="6715080" y="1125360"/>
            <a:chExt cx="3074040" cy="307800"/>
          </a:xfrm>
        </p:grpSpPr>
        <p:sp>
          <p:nvSpPr>
            <p:cNvPr id="525" name=""/>
            <p:cNvSpPr/>
            <p:nvPr/>
          </p:nvSpPr>
          <p:spPr>
            <a:xfrm>
              <a:off x="6719760" y="1125360"/>
              <a:ext cx="3065760" cy="301680"/>
            </a:xfrm>
            <a:prstGeom prst="roundRect">
              <a:avLst>
                <a:gd name="adj" fmla="val 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715080" y="1125360"/>
              <a:ext cx="3074040" cy="307800"/>
              <a:chOff x="6715080" y="1125360"/>
              <a:chExt cx="3074040" cy="307800"/>
            </a:xfrm>
          </p:grpSpPr>
          <p:sp>
            <p:nvSpPr>
              <p:cNvPr id="527" name=""/>
              <p:cNvSpPr/>
              <p:nvPr/>
            </p:nvSpPr>
            <p:spPr>
              <a:xfrm>
                <a:off x="6719760" y="1125360"/>
                <a:ext cx="306432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715080" y="1125360"/>
                <a:ext cx="3074040" cy="30780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Adaptação colaborativa multinív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84218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GT GRADE PERVASIVA (GRADEp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2971800"/>
            <a:ext cx="990756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oordenad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. Dr. Cláudio Resin Geyer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Equip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a. Dra. Iara Augustin (UFSM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. Dr. Adenauer Correa Yamin (UCPel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uciano Cavalheiro da Silva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Rodrigo Araújo Real (UCPel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Gustavo Frainer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Rafael Pereira Pires (UFSM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8160" y="1366560"/>
            <a:ext cx="454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00200" y="47520"/>
            <a:ext cx="8300880" cy="814680"/>
            <a:chOff x="1600200" y="47520"/>
            <a:chExt cx="8300880" cy="814680"/>
          </a:xfrm>
        </p:grpSpPr>
        <p:sp>
          <p:nvSpPr>
            <p:cNvPr id="532" name=""/>
            <p:cNvSpPr/>
            <p:nvPr/>
          </p:nvSpPr>
          <p:spPr>
            <a:xfrm>
              <a:off x="1600200" y="75960"/>
              <a:ext cx="830088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00200" y="47520"/>
              <a:ext cx="83008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ts val="2837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uncionalidades do GRADEp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Atendendo requisitos da 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52280" y="1295280"/>
            <a:ext cx="352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36"/>
              </a:lnSpc>
              <a:spcBef>
                <a:spcPts val="876"/>
              </a:spcBef>
              <a:buClr>
                <a:srgbClr val="003366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orte à semântica siga-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52578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600200" y="47520"/>
            <a:ext cx="8300880" cy="814680"/>
            <a:chOff x="1600200" y="47520"/>
            <a:chExt cx="8300880" cy="814680"/>
          </a:xfrm>
        </p:grpSpPr>
        <p:sp>
          <p:nvSpPr>
            <p:cNvPr id="539" name=""/>
            <p:cNvSpPr/>
            <p:nvPr/>
          </p:nvSpPr>
          <p:spPr>
            <a:xfrm>
              <a:off x="1600200" y="75960"/>
              <a:ext cx="830088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00200" y="47520"/>
              <a:ext cx="83008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ts val="2837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uncionalidades do GRADEp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Gerenciando a execução de aplic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54160" y="1282680"/>
            <a:ext cx="6278400" cy="4960800"/>
            <a:chOff x="254160" y="1282680"/>
            <a:chExt cx="6278400" cy="4960800"/>
          </a:xfrm>
        </p:grpSpPr>
        <p:sp>
          <p:nvSpPr>
            <p:cNvPr id="542" name=""/>
            <p:cNvSpPr/>
            <p:nvPr/>
          </p:nvSpPr>
          <p:spPr>
            <a:xfrm>
              <a:off x="254160" y="1282680"/>
              <a:ext cx="6278400" cy="496080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4160" y="1282680"/>
              <a:ext cx="6278400" cy="36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8040" indent="-338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Arial"/>
                </a:rPr>
                <a:t>Controle de sessão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8360" indent="-281160">
                <a:lnSpc>
                  <a:spcPct val="100000"/>
                </a:lnSpc>
                <a:spcBef>
                  <a:spcPts val="451"/>
                </a:spcBef>
                <a:buClr>
                  <a:srgbClr val="006699"/>
                </a:buClr>
                <a:buFont typeface="Wingdings" charset="2"/>
                <a:buChar char=""/>
                <a:tabLst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Login, Logout, Save/Restore session, Disconnect/Reconn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8360" indent="-2811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8040" indent="-338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Arial"/>
                </a:rPr>
                <a:t>Disparo manual de aplicaçõ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8360" indent="-281160">
                <a:lnSpc>
                  <a:spcPct val="100000"/>
                </a:lnSpc>
                <a:spcBef>
                  <a:spcPts val="451"/>
                </a:spcBef>
                <a:buClr>
                  <a:srgbClr val="006699"/>
                </a:buClr>
                <a:buFont typeface="Wingdings" charset="2"/>
                <a:buChar char=""/>
                <a:tabLst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gradep-run </a:t>
              </a:r>
              <a:r>
                <a:rPr b="1" lang="en-US" sz="1800" spc="-1" strike="noStrike">
                  <a:solidFill>
                    <a:srgbClr val="292929"/>
                  </a:solidFill>
                  <a:latin typeface="Wingdings"/>
                  <a:ea typeface="Wingdings"/>
                </a:rPr>
                <a:t>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 descritor de disparo de aplicaçõ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8360" indent="-2811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8040" indent="-338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Arial"/>
                </a:rPr>
                <a:t>Disparo “pervasivo” de aplicaçõ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8360" indent="-281160">
                <a:lnSpc>
                  <a:spcPct val="100000"/>
                </a:lnSpc>
                <a:spcBef>
                  <a:spcPts val="451"/>
                </a:spcBef>
                <a:buClr>
                  <a:srgbClr val="006699"/>
                </a:buClr>
                <a:buFont typeface="Wingdings" charset="2"/>
                <a:buChar char=""/>
                <a:tabLst>
                  <a:tab algn="l" pos="33804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Aplicação GRADEp Desktop </a:t>
              </a:r>
              <a:r>
                <a:rPr b="1" lang="en-US" sz="1800" spc="-1" strike="noStrike">
                  <a:solidFill>
                    <a:srgbClr val="292929"/>
                  </a:solidFill>
                  <a:latin typeface="Wingdings"/>
                  <a:ea typeface="Wingdings"/>
                </a:rPr>
                <a:t>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 Ambiente Virtual do Usuári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4" name=""/>
          <p:cNvGraphicFramePr/>
          <p:nvPr/>
        </p:nvGraphicFramePr>
        <p:xfrm>
          <a:off x="7113600" y="2060640"/>
          <a:ext cx="25844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0" y="2060640"/>
                    <a:ext cx="25844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7184880" y="1557360"/>
            <a:ext cx="24433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74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GRADEp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 Grade Pervasi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ários de utilização por exempl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Funcionalidades do GRADE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ções Típica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O GRADEp na RN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licações Típicas</a:t>
            </a:r>
            <a:br>
              <a:rPr sz="24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Alto Desempenho em Grad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lto Desempenho em Grad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ip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licações intensivas em cpu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licações intensivas em dad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licações colaborativ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empl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GeneAl: resolução de problemas na área de biologia molecular classificado como “Alinhamento de Seqüências Genéticas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icTac::Brutus – aplicação distribuída para análise de atraso de Circuitos VLS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angoparrot – aplicação distribuída para posicionamento de células em circuitos VLS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Brot e calcRay- perfis adaptativos para balanceamento de cargas no ISAM, aplicados ao problema dos fractais de Mandelbro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Típicas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ditor de textos colaborativ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Editor de textos colaborativo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uporte para edição de textos em um grupo de trabalh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e agregada a um sistema de videoconferência, aumentaria a produtividade do grup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acilidade em circular a edição entre os membros do grupo, através da migração da aplicação e dos d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Típicas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genda Virtu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Agenda Virtual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cesso à agenda atualizada a partir de qualquer lug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ossibilidade de determinadas pessoas editarem as agendas uns dos outr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visos de compromissos via telefonia celular, e-mail, sistema instantâneo de mensagens, et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Típicas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co Virtu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Disco Virtual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cesso aos dados a partir de qualquer lug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ornecimento de abstração que elimine a necessidade de cópias para arquivos temporários, possibilitando acesso direto aos arquivos remot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 disco virtual pode se tornar um disco comum a um grupo, tornando-se um espaço para troca de arquiv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Típicas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ço de Alert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Serviço de Alert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lertas baseados em informações de sensores (software ou hardwar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usuários podem configurar faixas de valores de interesse, para as quais desejam ser avis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plicação em sistema de alerta meteorológico, útil tanto para segurança de populações como também para otimização de recursos financeiros na agricultura, por exempl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plicação em sistemas financeiros, indicando valor de ações, sempre que eles atingem determinados limi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plicação para serviços de acessoria de imprensa, a partir do sensoreamento de notícias na internet e filtros para seleção de notícias relevan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mário da apresentaçã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4520" y="1874880"/>
            <a:ext cx="895176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Vis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ão GRADEp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safios de uma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 Grade Pervasi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GRADEp: cen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ários de utilização por exemplo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Funcionalidades do GRADE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4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plicações Típica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GRADEp na RNP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 GRADEp na RNP</a:t>
            </a:r>
            <a:br>
              <a:rPr sz="2800"/>
            </a:b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Ambiente de Execução em Gra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mbiente de execução em grad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a aplicações de alto desempenho em gr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usuários poderiam disparar e controlar uma aplicação a partir do seu equipamento deskto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licação seria executada sobre determinados nós da gr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colhidos pelos serviços do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colhidos pela aplic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colhidos por interação entre o GRADEp e a aplic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GT GRADE PERVASIVA (GRADEp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olaboradore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. Cristiano Cachapuz e Lima (URCAMP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. João Ladislau Barbará Lopes (UFPel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. Marcelo Trindade Rebonatto (UPF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GRADEp na RNP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nitoramento de recurso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Monitoramento de recursos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onitoramento de links de dados, tentativas de invasão, spa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lertas em situações com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isco de ataque de 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rac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ongestionamentos na re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sobrecarga em servido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temperatura de salas e equipament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rmazenamento de histórico e produção de estatísticas para análise posteri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33400" y="7632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GRADEp na RNP</a:t>
            </a:r>
            <a:br>
              <a:rPr sz="24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co Virtu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8520" y="1366560"/>
            <a:ext cx="9245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Disco Virtua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spaço para troca de arquivos dos funcionários dos PO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dição de arquivos online, sem necessidade de cópias para arquivos temporári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dução nos custos de gerenciamento dos arquivos, eliminando trocas por email ou cópias via FTP ou SC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52600" y="380988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ão G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84218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GT GRADE PERVASIVA (GRADEp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2590560"/>
            <a:ext cx="9907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Atividades Relacionadas (doutorandos e mestrandos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lberto Egon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Felipe Fehlberg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incoln Morais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ucas Santos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arko Petek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aurício Moraes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Rômulo Rosinha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84218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GT GRADE PERVASIVA (GRADEp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99075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Parcerias com outros grupo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a. Dra. Ines Dutra (COPPE/UFRJ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atrícia Kayser Vargas (COPPE/UFRJ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modelo GRAND para DAGs em grade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r. Bruno Schulze (LNCC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projeto GIGA/RNP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of. Dr. Alberto Santoro (UERJ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HEP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ESUP (UFRGS)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Grade - UFRGS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Foco em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Grade Pervasiv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nceito novo que integra 3 grandes áreas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mputação em gra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mputação sensível ao contex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omputação mó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Objetivo do G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mplementação de um middlewar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ara  gerenciamento de aplicações e do ambiente de grade pervasiv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 a disponibilização de uma  interface de programação (AP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ara a construção de aplicações que executam neste ambiente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rticipantes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GRAD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II/UFRGS, CT/UFSM, EI/UCPel, UFPel, UPF, URCAMP/Bagé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Claudio Geyer</cp:lastModifiedBy>
  <dcterms:modified xsi:type="dcterms:W3CDTF">2005-08-04T21:05:00Z</dcterms:modified>
  <cp:revision>12</cp:revision>
  <dc:subject/>
  <dc:title>No Slide Title</dc:title>
</cp:coreProperties>
</file>