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390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8520" y="4069440"/>
            <a:ext cx="92390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2880" y="136656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8520" y="406944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2880" y="406944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297468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240" y="1366560"/>
            <a:ext cx="297468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5960" y="1366560"/>
            <a:ext cx="297468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8520" y="4069440"/>
            <a:ext cx="297468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240" y="4069440"/>
            <a:ext cx="297468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5960" y="4069440"/>
            <a:ext cx="297468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8520" y="1366560"/>
            <a:ext cx="9239040" cy="51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390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45086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2880" y="1366560"/>
            <a:ext cx="45086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33040" y="75960"/>
            <a:ext cx="80838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2880" y="1366560"/>
            <a:ext cx="45086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8520" y="406944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45086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2880" y="136656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2880" y="406944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2880" y="136656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8520" y="4069440"/>
            <a:ext cx="92390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90612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481960" y="652464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0590BB93-DE7C-4A25-A7F9-6C272A39CF32}" type="slidenum">
              <a:rPr b="0" lang="en-US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7360"/>
            <a:ext cx="990612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08160" y="6308640"/>
            <a:ext cx="802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de Nacional de Ensino e Pesquis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Instalação do Middleware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Treinamento em GRADEp – junho d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98520" y="1366560"/>
            <a:ext cx="92390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aloon.inf.ufrgs.br/gradep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2590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GT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2600" y="3809880"/>
            <a:ext cx="47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ddleware GRADE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sta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922320" y="549360"/>
            <a:ext cx="1295280" cy="588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6681960" y="333360"/>
            <a:ext cx="215892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2590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GT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52600" y="3809880"/>
            <a:ext cx="47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ddleware GRADE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sta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922320" y="549360"/>
            <a:ext cx="1295280" cy="58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6681960" y="333360"/>
            <a:ext cx="215892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60" y="1368360"/>
            <a:ext cx="99061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656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72036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292929"/>
                </a:solidFill>
                <a:latin typeface="Arial"/>
              </a:rPr>
              <a:t>Au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656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72036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292929"/>
                </a:solidFill>
                <a:latin typeface="Arial"/>
              </a:rPr>
              <a:t>Rodrigo Real e Adenauer Yamin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656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72036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292929"/>
                </a:solidFill>
                <a:latin typeface="Arial"/>
              </a:rPr>
              <a:t>Versão (número, data, autor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656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72036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292929"/>
                </a:solidFill>
                <a:latin typeface="Arial"/>
              </a:rPr>
              <a:t>V1, junho de 2005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656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72036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292929"/>
                </a:solidFill>
                <a:latin typeface="Arial"/>
              </a:rPr>
              <a:t>V2, 02 agosto de 2005, Geye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ção do Middleware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é-requisito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Base da Célul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rvidor LDA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Java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1.4.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Nodos da Célul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Java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1.4.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mpilação de todo Códig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j2sdk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1.4.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cc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2.9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utocon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ção do Middleware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ternativas de Download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3341520"/>
            <a:ext cx="7499520" cy="1513080"/>
          </a:xfrm>
          <a:prstGeom prst="roundRect">
            <a:avLst>
              <a:gd name="adj" fmla="val 1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cesso por 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aloon.inf.ufrgs.br/gradep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load de pacotes Java compila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load de pacotes Java compilados + fontes 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load dos fontes Java  + fontes 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cesso por cvs (versão de desenvolvimento)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export CVS_RSH=ssh 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export CVSROOT=saloon.inf.ufrgs.br:/cvsroot/exehda/ cvs \ checkout exehda-dev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ant fetch 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6120" y="1768320"/>
            <a:ext cx="7499160" cy="725760"/>
          </a:xfrm>
          <a:prstGeom prst="roundRect">
            <a:avLst>
              <a:gd name="adj" fmla="val 21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ção do Middleware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pilação do códig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16120" y="3462480"/>
            <a:ext cx="7499160" cy="725400"/>
          </a:xfrm>
          <a:prstGeom prst="roundRect">
            <a:avLst>
              <a:gd name="adj" fmla="val 21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pós o download do código fonte rodar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ant build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geração dos pacotes .jar, rodar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ant deploy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acotes deverão ser criados no diretóri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b/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ção do Middleware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DAP na Bas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xehda.schema -&gt; copiar para </a:t>
            </a:r>
            <a:r>
              <a:rPr b="1" lang="en-US" sz="2400" spc="-1" strike="noStrike">
                <a:solidFill>
                  <a:srgbClr val="292929"/>
                </a:solidFill>
                <a:latin typeface="Courier New"/>
              </a:rPr>
              <a:t>/etc/ldap/schem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lapd.conf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figurar permissões de acess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lnSpc>
                <a:spcPct val="88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ourier New"/>
              </a:rPr>
              <a:t>include /etc/ldap/schema/exehda.schem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figurar o suffix, por exemplo: </a:t>
            </a:r>
            <a:r>
              <a:rPr b="0" lang="en-US" sz="2000" spc="-1" strike="noStrike">
                <a:solidFill>
                  <a:srgbClr val="292929"/>
                </a:solidFill>
                <a:latin typeface="Courier New"/>
              </a:rPr>
              <a:t>dc=gradep,dc=ucpel</a:t>
            </a:r>
            <a:r>
              <a:rPr b="0" lang="en-US" sz="1800" spc="-1" strike="noStrike">
                <a:solidFill>
                  <a:srgbClr val="29292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ção do Middleware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hda-services.xm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arametriza a carga do middlewar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 mesmo arquivo configura diversos perfis de execuç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efine para cada perfil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rviços disponíveis no equipamen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priedades gera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priedades dos serviç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olíticas de carga de serviç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mplementações que devem ser utilizad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ção do Middleware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hda-services.xml: Exempl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PROFILE name="h3p.localhost"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PROP name="localhost.id" value="0"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PROP name="localhost.name" value="base"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PROP name="localhost.cell" value="gradep.ucpel"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SERVICE name="logger" loadPolicy="boot"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PROP name="impl" value="org.isam.exehda.services.logging.BasicLogger"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PROP name="logLevel" value="4000"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/SERVICE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SERVICE name="worb" loadPolicy="boot"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PROP name="impl" value="org.isam.exehda.services.worb.WorbImpl"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/SERVICE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SERVICE name="executor" loadPolicy="boot"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PROP name="impl" value="org.isam.exehda.services.primos.exec.ExecutorImpl"/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/SERVICE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292929"/>
                </a:solidFill>
                <a:latin typeface="Courier New"/>
              </a:rPr>
              <a:t>&lt;/PROFILE&gt;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884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ção do Middleware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isparo do middlewar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isparo da bas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./exehda --profile base-profil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isparo manual do nod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urier New"/>
              </a:rPr>
              <a:t>./exehda --profile node-profil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660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isparo por Java Webstar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Claudio Geyer</cp:lastModifiedBy>
  <dcterms:modified xsi:type="dcterms:W3CDTF">2005-08-03T01:26:07Z</dcterms:modified>
  <cp:revision>3</cp:revision>
  <dc:subject/>
  <dc:title>Slide 1</dc:title>
</cp:coreProperties>
</file>