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9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9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29640" y="6524640"/>
            <a:ext cx="118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F5536423-C3EB-4C01-BBCA-7F95593EE33F}" type="slidenum">
              <a:rPr b="0" lang="pt-BR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14560" y="6308640"/>
            <a:ext cx="366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br>
              <a:rPr sz="1200"/>
            </a:b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Treinamento em Gradep -  julh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768000" y="640080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GRADEp Desk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51160" y="6110280"/>
            <a:ext cx="503280" cy="53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14480" y="6143760"/>
            <a:ext cx="542880" cy="44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315120" y="6151680"/>
            <a:ext cx="728640" cy="35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686040" y="6110280"/>
            <a:ext cx="544680" cy="5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133960" y="6110280"/>
            <a:ext cx="411120" cy="58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688160" y="6019920"/>
            <a:ext cx="54144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3440" y="5789520"/>
            <a:ext cx="780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" y="1295280"/>
            <a:ext cx="7801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034040" y="345960"/>
            <a:ext cx="1265400" cy="882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GRADEp Desktop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2929"/>
                </a:solidFill>
                <a:latin typeface="Tahoma"/>
              </a:rPr>
              <a:t>DesktopSwing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</a:t>
            </a: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Mod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&lt;file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&lt;filedesc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&lt;dirBase&gt;dir1/dir2&lt;/dirBase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&lt;name&gt;file.txt&lt;/name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&lt;/filedesc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&lt;/file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/desktop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</a:t>
            </a: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View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Arial"/>
              </a:rPr>
              <a:t>DesktopView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(usuário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interface implementada pelas interfaces gráficas que exibem o GRADEp Deskto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étodos:</a:t>
            </a:r>
            <a:br>
              <a:rPr sz="1800"/>
            </a:b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// Carrega o desktop de um usuári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loadUser(DesktopModel desktopModel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// Seta o responsável pela migração de nodo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setGotoHandler(ActionListener l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//  Inicializa a interface gráfic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start(GRADEpDesktop desktop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// Finaliza a interface gráfic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stop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// Descarrega o desktop do atual usuári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unloadUser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Outras Class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utras Classes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pplicationInfo: armazena informações de uma aplic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ódigo bas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ítu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fabrican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cri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íco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lasse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quivo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critor X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Outras Class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utras Classes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ileInfo: armazena informações de um arquiv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iretório bas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no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critor X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ginInfo: armazena informações de um usuár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enh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Swin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341360"/>
            <a:ext cx="66261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Arial"/>
              </a:rPr>
              <a:t>DesktopSwing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lasse que implementa a interface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DesktopVie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presenta uma interface para o GRADEp Desktop utilizada em computadores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deskto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az uso do pacote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javax.sw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ferece todas as funcionalidades básicas do GRADEp Desktop mais algumas relacionadas à visualização da interf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é ativada pelo método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start()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e desativada pelo método </a:t>
            </a:r>
            <a:r>
              <a:rPr b="0" lang="pt-BR" sz="2000" spc="-1" strike="noStrike">
                <a:solidFill>
                  <a:srgbClr val="292929"/>
                </a:solidFill>
                <a:latin typeface="Courier New"/>
              </a:rPr>
              <a:t>stop()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, ambos da interface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DesktopVie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5200" y="1295280"/>
            <a:ext cx="142092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Swing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Logi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41920" y="1341360"/>
            <a:ext cx="42069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Login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fetua o login do usuár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ados fornecido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nome do usuário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usuario@celul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senh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aso os dados estejam corretos, o desktop do usuário é carrega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uas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tabs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são habilitadas: uma de aplicações e outra de arquiv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6560" y="2473200"/>
            <a:ext cx="40388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Swing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Aplicaçõ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4120" y="1341360"/>
            <a:ext cx="4205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Aplicações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é possível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instalar novas aplicaçõ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isparar uma aplicaçã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desinstalar uma aplicaçã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exibir as informações de uma aplicaçã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34040" y="1341360"/>
            <a:ext cx="1420920" cy="480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19320" y="3657600"/>
            <a:ext cx="36320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Swing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Arqu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76240" y="1341360"/>
            <a:ext cx="1420920" cy="4805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41920" y="1341360"/>
            <a:ext cx="42069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Arquivos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é possível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azer upload de arquivo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azer download de um arquiv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uploads de arquivos podem ser realizados via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Drag and Dro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3092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Swing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Ir para Hos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4120" y="1341360"/>
            <a:ext cx="4205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r para Host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funcionalidade que permite a migração do GRADEp Desktop para outros nod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ve-se indicar o host de destin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86440" y="2898720"/>
            <a:ext cx="3517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Swing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Outras Funcionalidad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62160" y="1341360"/>
            <a:ext cx="49863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Outras Funcionalidades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odificar o tamanho dos ícones das aplicaçõ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ispor as aplicações pelo título ou pelo fabrican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odificar o </a:t>
            </a:r>
            <a:r>
              <a:rPr b="0" i="1" lang="pt-BR" sz="1800" spc="-1" strike="noStrike">
                <a:solidFill>
                  <a:srgbClr val="292929"/>
                </a:solidFill>
                <a:latin typeface="Arial"/>
              </a:rPr>
              <a:t>Look and Fe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scolher o idioma: inglês ou portuguê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76240" y="1341360"/>
            <a:ext cx="14209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tori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utor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grid Oliveira de Nun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Versão (número, data, auto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1, junho de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2, 03 de agosto de 2005, Gey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3, 04 de agosto de 205, Gey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GRADEp Desktop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2929"/>
                </a:solidFill>
                <a:latin typeface="Tahoma"/>
              </a:rPr>
              <a:t>DesktopSwing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4120" y="1341360"/>
            <a:ext cx="4205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GRADEp Deskto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Visão G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DesktopMod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Arial"/>
              </a:rPr>
              <a:t>DesktopVie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utras Class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1920" y="1341360"/>
            <a:ext cx="42069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DesktopSwing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plicaç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v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r para Hos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utras funcional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Visão Geral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plicação para ser executada sobre 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middlewar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sponsável pelo gerenciamento do desktop dos usuários, isto é, responsável pel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gerenciamento de aplicaçõ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gerenciamento de arquiv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dependência de interface gráf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apacidade de migrar entre no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visualizado através de uma interface gráfica que depende do contex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egue  modelo MV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de controle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clas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GRADEpDesktop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*...*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Migra do host atual para o host especificado no comando d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evento de ação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actionPerformed(ActionEvent ae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az o download do arquivo representado pelo objeto fileInfo e 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armazena no caminho indicado pelo objeto path (no nodo atua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do usuário)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boolea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downloadFile(FileInfo fileInfo,File path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Instala uma nova aplicação descrita pelo String app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ApplicationInfo installApplication(String app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Dispara uma aplicação representada pelo objeto appInfo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boolea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launchApplication(ApplicationInfo appInfo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Efetua o login de um usuário cujas informações estão no objet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loginInfo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boolea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login(LoginInfo loginInfo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Efetua o logout do atual usuário logado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logout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Inicializa o GRADEpDesktop, carregando a interface gráfica 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ser exibida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start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naliza o GRADEpDesktop, descarregando a interface gráfica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stop(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Desinstala uma aplicação que é referênciada pelo Str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appHref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boolea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uninstallApplication(String appHref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Interfa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Desinstala uma aplicação que é referênciada pelo Str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appHref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boolea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uninstallApplication(String appHref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Efetua o upload do arquivo representado pelo objeto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le e o armazena no caminho indicado pelo Str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path (no desktop do usuário)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FileInfo uploadFile(File file,String path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</a:t>
            </a: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Mod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DesktopModel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(dados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lasse que representa o desktop do usuár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la contém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plicações instalad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quivos armazenad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formações de um usuár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mazenadas em um arquivo chamado </a:t>
            </a:r>
            <a:r>
              <a:rPr b="0" lang="pt-BR" sz="1800" spc="-1" strike="noStrike">
                <a:solidFill>
                  <a:srgbClr val="292929"/>
                </a:solidFill>
                <a:latin typeface="Courier New"/>
              </a:rPr>
              <a:t>desktop.xml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presente no diretório do usuár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ua interface possui métodos par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arregar o deskto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alvar o deskto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dicionar e remover aplicaçõ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dicionar e remover arquiv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RADEp Desktop – </a:t>
            </a: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DesktopMod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Formato do arquivo </a:t>
            </a:r>
            <a:r>
              <a:rPr b="1" lang="pt-BR" sz="1800" spc="-1" strike="noStrike">
                <a:solidFill>
                  <a:srgbClr val="292929"/>
                </a:solidFill>
                <a:latin typeface="Courier New"/>
              </a:rPr>
              <a:t>desktop.xml</a:t>
            </a: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 (arquivo XML):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desktop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application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isamapp spec="1.0" href="executordemo.isam"&gt;         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info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title&gt;Executor Demo&lt;/title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vendor&gt;GRADEp team&lt;/vendor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description&gt;Demonstrates the usage of the Executor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vice.&lt;/description&gt; 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icon href="executordemo.png" 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info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main class="ExecutorDemo" 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jar href="bda:/executordemo.jar"/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code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isamapp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applications&gt;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9:46:37Z</dcterms:created>
  <dc:creator>Ingrid Nunes</dc:creator>
  <dc:description/>
  <dc:language>en-US</dc:language>
  <cp:lastModifiedBy> Claudio Geyer</cp:lastModifiedBy>
  <dcterms:modified xsi:type="dcterms:W3CDTF">2005-08-05T16:27:36Z</dcterms:modified>
  <cp:revision>47</cp:revision>
  <dc:subject/>
  <dc:title>Treinamento no GRADEp</dc:title>
</cp:coreProperties>
</file>