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921-0757-4B0A-8EC8-AF67BC76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0C4-3661-4345-998A-6B0B80DC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04F-938F-4BB3-BDAB-89E03930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AC9-C2B6-4727-A3FA-B9934ECD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40B-F9D0-412D-AA60-A518361C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58B-8200-4C06-A79B-1FDA17A3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C0A-D6F7-4A9D-8CEC-5C2E0E44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488-43E9-4814-A7AF-90DBFE3A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D66-4FC6-4ED4-9243-C749E545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8AC-B8EA-492D-B1C8-36FEB5A6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CDF-2984-4001-8063-115441FB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1C9-9C87-4FB3-8370-35EAC230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EBB9-A392-4CEB-8F0B-10B9E9246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f.ufrgs.br/~isam" TargetMode="External"/><Relationship Id="rId2" Type="http://schemas.openxmlformats.org/officeDocument/2006/relationships/hyperlink" Target="http://www.inf.ufrgs.br/~exehda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geyer@inf.ufrgs.br" TargetMode="External"/><Relationship Id="rId2" Type="http://schemas.openxmlformats.org/officeDocument/2006/relationships/hyperlink" Target="mailto:lucc@inf.ufrgs.br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latório projeto piloto GRAD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se ISAMAda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nf.ufrgs.br/~is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se EXEH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f.ufrgs.br/~exeh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eyer@inf.ufrgs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ucc@inf.ufrgs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19:18:16Z</dcterms:created>
  <dc:creator> Claudio Geyer</dc:creator>
  <dc:description/>
  <dc:language>en-US</dc:language>
  <cp:lastModifiedBy> Claudio Geyer</cp:lastModifiedBy>
  <dcterms:modified xsi:type="dcterms:W3CDTF">2005-08-04T21:04:27Z</dcterms:modified>
  <cp:revision>3</cp:revision>
  <dc:subject/>
  <dc:title>Material</dc:title>
</cp:coreProperties>
</file>