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33640" y="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701280" y="742680"/>
            <a:ext cx="53658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94089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383F-3B0F-4C42-AEF9-1C8ED81B5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BB09-6DEA-4C0B-9D47-8A0E28BC4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94089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0164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8160" y="3876840"/>
            <a:ext cx="927900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8160" y="387684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3040" y="387684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136692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72960" y="136692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8160" y="387684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387684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72960" y="387684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2808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3040" y="1366920"/>
            <a:ext cx="452808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33400" y="76320"/>
            <a:ext cx="80899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3040" y="1366920"/>
            <a:ext cx="452808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8160" y="387684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2808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04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3040" y="387684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04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8160" y="3876840"/>
            <a:ext cx="927900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6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81960" y="6524640"/>
            <a:ext cx="128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Slide </a:t>
            </a:r>
            <a:fld id="{AA804BAE-61CE-4C41-8768-54F7D547E72B}" type="slidenum">
              <a:rPr b="0" lang="pt-BR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3736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08160" y="6308640"/>
            <a:ext cx="397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Rede Nacional de Ensino e Pesquisa</a:t>
            </a:r>
            <a:br>
              <a:rPr sz="1200"/>
            </a:b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Treinamento em Gradep -  junh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389360" y="640080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Serviço OX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1752480"/>
            <a:ext cx="85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3366"/>
                </a:solidFill>
                <a:latin typeface="Arial"/>
              </a:rPr>
              <a:t>Treinamento no GRADE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17720" y="1109520"/>
            <a:ext cx="649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76400" y="2220840"/>
            <a:ext cx="473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52600" y="3809880"/>
            <a:ext cx="473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Serviço </a:t>
            </a:r>
            <a:r>
              <a:rPr b="1" i="1" lang="pt-BR" sz="1800" spc="-1" strike="noStrike">
                <a:solidFill>
                  <a:srgbClr val="000000"/>
                </a:solidFill>
                <a:latin typeface="Tahoma"/>
              </a:rPr>
              <a:t>OX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ahoma"/>
              </a:rPr>
              <a:t>OXManager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46280" y="6110280"/>
            <a:ext cx="546120" cy="53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98720" y="6143760"/>
            <a:ext cx="588960" cy="447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842160" y="6151680"/>
            <a:ext cx="789120" cy="353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994200" y="611028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562720" y="6110280"/>
            <a:ext cx="444240" cy="588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329680" y="6019920"/>
            <a:ext cx="585720" cy="685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2120" y="578952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29528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7620120" y="345960"/>
            <a:ext cx="1371600" cy="8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0" y="228600"/>
            <a:ext cx="2889360" cy="41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OXManagerDem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Exemplo: Aplicação </a:t>
            </a:r>
            <a:r>
              <a:rPr b="1" i="1" lang="pt-BR" sz="2400" spc="-1" strike="noStrike">
                <a:solidFill>
                  <a:srgbClr val="292929"/>
                </a:solidFill>
                <a:latin typeface="Arial"/>
              </a:rPr>
              <a:t>OXManagerDem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Demonstra o uso de meta-atributos de um OX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Local: </a:t>
            </a:r>
            <a:r>
              <a:rPr b="0" lang="pt-BR" sz="2000" spc="-1" strike="noStrike">
                <a:solidFill>
                  <a:srgbClr val="292929"/>
                </a:solidFill>
                <a:latin typeface="Courier New"/>
              </a:rPr>
              <a:t>/isam/isam-apps/oxmanagerdemo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rquivo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OXManagerDemo.jav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Fonte da aplicação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oxmanagerdemo.isa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Descritor de disparo da aplicação em formato XML do ISAM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OXManagerDemo – import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8160" y="136044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OXManagerDemo.java:  (trechos selecionados)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// Importa ObjectId (identificador de OX), ObjectSeed (para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// criação do OX), OXManager e OXHandle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mport org.isam.exehda.Exehda;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mport org.isam.exehda.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ObjectId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;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mport org.isam.exehda.services.ObjectSeed;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mport org.isam.exehda.services.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OXManager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;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mport org.isam.exehda.services.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OXManager.OXHandle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905120"/>
            <a:ext cx="906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295280"/>
            <a:ext cx="906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OXManagerDemo – Construto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ublic class OXManagerDemo {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// construtor apenas imprime criação do objet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ublic OXManagerDemo() {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System.out.println("&lt;init&gt;()");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// idem, porém com parâmetro opciona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ublic OXManagerDemo( String msg ) { 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System.out.println("&lt;init&gt;(msg=\""+msg+"\")");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OXManagerDemo – main() (1/3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// ponto de entrada da aplicaçã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ublic static void main( String[] args ) {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// obtém serviço ObjectSeed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ObjectSeed objectSeed = (ObjectSeed)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Exehda.getService(ObjectSeed.SERVICE_NAME);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// cria um OX (e obtém oxID do mesmo) a partir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// da instanciação da classe OXManagerDem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ObjectId oxID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=    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objectSeed.newInstance(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OXManagerDemo.class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, null, null);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OXManagerDemo – main() (2/3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// obtém referência para o serviço OXManager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XManager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xman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(OXManager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Exehda.getService( OXManager.SERVICE_NAME );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// cria um OXHandle para o ID do OX que foi criado acima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XHandl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xh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oxman.createHandle(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xID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)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// imprime OX e meta-atributos do OX (oid, owner, location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System.out.println(" key="+oxh.getKey()); 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System.out.println("After createHandle()"); 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System.out.println(oxh)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System.out.println(" id="+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xh.getId()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);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// ID do OX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System.out.println(" key="+oxh.getKey()); 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System.out.println(" owner="+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xh.getOwner()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);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// “dono” do MasterOXHandle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System.out.println(" key="+oxh.getKey())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System.out.println("location="+oxh.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getLocation()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);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// local atual do OX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System.out.println(" key="+oxh.getKey())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60600" y="3038400"/>
            <a:ext cx="3063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0960" y="3038400"/>
            <a:ext cx="763560" cy="174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4520" y="321300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38960" y="289080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róximo slid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OXManager.createHandle(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O método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createHandle()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da interface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OXManager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cria um OXHandle apropriado para acessar meta-atributos de um OX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cebe como argumento o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ObjectId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do OX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torna um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OXHandl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para o OX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Tipos de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OXHandle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criados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MasterOXHandl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é criado se o nodo local é o “home” do OX e não existe ainda não existe um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MasterOXHandl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para o OX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HomeOXHandl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é criado se o nodo local é o nodo “home” da célula e ainda não existe um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HomeOXHandl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para o OX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aso contrário, é criado um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ProxyOXHandl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0880" y="5300640"/>
            <a:ext cx="898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public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</a:rPr>
              <a:t> OXManager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OXManager.OXHandle createHandl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ObjectId oid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7000" y="5373720"/>
            <a:ext cx="50688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OXManagerDemo – main() (3/3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// ... voltando ao método “main()” da demo ..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libera a posse do OXManager local sobre o OXMasterHandle do OX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oxman.grantOwnership(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xh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 );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imprime novamente o OX e os valores atuais dos meta-atributos do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OX (ID, owner, location) ..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System.out.println("After grantOwnership()"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System.out.println(oxh);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System.out.println(" id="+oxh.getId() );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System.out.println(" owner="+oxh.getOwner() 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System.out.println("location="+oxh.getLocation() 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}</a:t>
            </a: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 // fim do main() e do dem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0240" y="2457360"/>
            <a:ext cx="3673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60600" y="2457360"/>
            <a:ext cx="792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52960" y="2673360"/>
            <a:ext cx="6481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49640" y="231300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róximo slid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OXManager.grantOwnership(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O método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grantOwnership()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da interface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OXManager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notifica o OXManager local de que o MasterOXHandle poderá ser movido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cebe como argumento um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OXHandl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(válido) para o OX em questão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ode ser um proxy, mestre, home, ..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Esta chamada é propagada até o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HomeOXHandl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do OX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No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HomeOXHandl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fica indicado que o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MasterOXHandl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está livre para ser migrad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 migração do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MasterOXHandl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é solicitada pelo método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requestOwnership(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20880" y="5300640"/>
            <a:ext cx="89852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292929"/>
                </a:solidFill>
                <a:latin typeface="Courier New"/>
              </a:rPr>
              <a:t>public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1" lang="pt-BR" sz="1700" spc="-1" strike="noStrike">
                <a:solidFill>
                  <a:srgbClr val="0000ff"/>
                </a:solidFill>
                <a:latin typeface="Courier New"/>
              </a:rPr>
              <a:t> OXManager</a:t>
            </a:r>
            <a:r>
              <a:rPr b="1" lang="pt-BR" sz="1700" spc="-1" strike="noStrike">
                <a:solidFill>
                  <a:srgbClr val="292929"/>
                </a:solidFill>
                <a:latin typeface="Courier New"/>
              </a:rPr>
              <a:t> 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pt-BR" sz="1700" spc="-1" strike="noStrike">
                <a:solidFill>
                  <a:srgbClr val="ff0000"/>
                </a:solidFill>
                <a:latin typeface="Courier New"/>
              </a:rPr>
              <a:t> OXManager.OXHandle grantOwnership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1700" spc="-1" strike="noStrike">
                <a:solidFill>
                  <a:srgbClr val="ff0000"/>
                </a:solidFill>
                <a:latin typeface="Courier New"/>
              </a:rPr>
              <a:t>OXManager.OXHandle h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7000" y="5373720"/>
            <a:ext cx="50688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46320" y="4552920"/>
            <a:ext cx="223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62160" y="4562640"/>
            <a:ext cx="919080" cy="30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81240" y="4869000"/>
            <a:ext cx="655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62440" y="455292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róximo slid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OXManager.requestOwnership(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O método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requestOwnership()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da interface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OXManager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solicita que um MasterOXHandle de um OX migre para o nodo local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cebe como argumento um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OXHandl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(válido) para o OX em questão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Esta chamada é propagada até o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HomeOXHandl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do OX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No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HomeOXHandl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é verificado se o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MasterOXHandl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foi liberado por uma chamada prévia a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grantOwnership(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Em caso de permissão OK, o GRADEp irá migrar o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MasterOXHandl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para o nodo loc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20880" y="4797360"/>
            <a:ext cx="89852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292929"/>
                </a:solidFill>
                <a:latin typeface="Courier New"/>
              </a:rPr>
              <a:t>public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1" lang="pt-BR" sz="1700" spc="-1" strike="noStrike">
                <a:solidFill>
                  <a:srgbClr val="0000ff"/>
                </a:solidFill>
                <a:latin typeface="Courier New"/>
              </a:rPr>
              <a:t> OXManager</a:t>
            </a:r>
            <a:r>
              <a:rPr b="1" lang="pt-BR" sz="1700" spc="-1" strike="noStrike">
                <a:solidFill>
                  <a:srgbClr val="292929"/>
                </a:solidFill>
                <a:latin typeface="Courier New"/>
              </a:rPr>
              <a:t> 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pt-BR" sz="1700" spc="-1" strike="noStrike">
                <a:solidFill>
                  <a:srgbClr val="ff0000"/>
                </a:solidFill>
                <a:latin typeface="Courier New"/>
              </a:rPr>
              <a:t> OXManager.OXHandle requestOwnership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1700" spc="-1" strike="noStrike">
                <a:solidFill>
                  <a:srgbClr val="ff0000"/>
                </a:solidFill>
                <a:latin typeface="Courier New"/>
              </a:rPr>
              <a:t>OXManager.OXHandle h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7000" y="4870440"/>
            <a:ext cx="50688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4520" y="1874520"/>
            <a:ext cx="895176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ccff"/>
                </a:solidFill>
                <a:latin typeface="Arial"/>
              </a:rPr>
              <a:t>1   Visão geral – serviço </a:t>
            </a:r>
            <a:r>
              <a:rPr b="1" i="1" lang="pt-BR" sz="2400" spc="-1" strike="noStrike">
                <a:solidFill>
                  <a:srgbClr val="ccccff"/>
                </a:solidFill>
                <a:latin typeface="Arial"/>
              </a:rPr>
              <a:t>OXManage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2   Exemplo: OXManagerDem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   </a:t>
            </a:r>
            <a:r>
              <a:rPr b="1" i="1" lang="pt-BR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OXManager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outras API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48520" y="333360"/>
            <a:ext cx="1594080" cy="41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Autori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Auto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Fábio Reis Cec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Junho de 200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Versã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OXManager.updateAttributes(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8520" y="1366920"/>
            <a:ext cx="9507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O método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updateAttributes()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permite consultar e atualizar vários atributos de um OX (simultaneamente)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Parâmetro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OXHandl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handle para o OX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tring[]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: lista dos atributos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Byte[]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: operações para serem efetuadas sobre os respectivos atributos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"/>
              </a:rPr>
              <a:t>OXAttributeOps.REA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ler o atribu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"/>
              </a:rPr>
              <a:t>OXAttributeOps.WRIT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escrever sobre o atribu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torna um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OXHandl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otencialmente atualizado com os novos atributo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Courier New"/>
              </a:rPr>
              <a:t>    </a:t>
            </a:r>
            <a:r>
              <a:rPr b="1" lang="pt-BR" sz="1600" spc="-1" strike="noStrike">
                <a:solidFill>
                  <a:srgbClr val="292929"/>
                </a:solidFill>
                <a:latin typeface="Courier New"/>
              </a:rPr>
              <a:t>public interface </a:t>
            </a:r>
            <a:r>
              <a:rPr b="1" lang="pt-BR" sz="1600" spc="-1" strike="noStrike">
                <a:solidFill>
                  <a:srgbClr val="0000ff"/>
                </a:solidFill>
                <a:latin typeface="Courier New"/>
              </a:rPr>
              <a:t>OXManager</a:t>
            </a:r>
            <a:r>
              <a:rPr b="1" lang="pt-BR" sz="1600" spc="-1" strike="noStrike">
                <a:solidFill>
                  <a:srgbClr val="292929"/>
                </a:solidFill>
                <a:latin typeface="Courier New"/>
              </a:rPr>
              <a:t> {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Courier New"/>
              </a:rPr>
              <a:t>      </a:t>
            </a:r>
            <a:r>
              <a:rPr b="1" lang="pt-BR" sz="1600" spc="-1" strike="noStrike">
                <a:solidFill>
                  <a:srgbClr val="292929"/>
                </a:solidFill>
                <a:latin typeface="Courier New"/>
              </a:rPr>
              <a:t>public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OXManager.OXHandle</a:t>
            </a:r>
            <a:r>
              <a:rPr b="1" lang="pt-BR" sz="1600" spc="-1" strike="noStrike">
                <a:solidFill>
                  <a:srgbClr val="292929"/>
                </a:solidFill>
                <a:latin typeface="Courier New"/>
              </a:rPr>
              <a:t>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releaseHandle</a:t>
            </a:r>
            <a:r>
              <a:rPr b="1" lang="pt-BR" sz="1600" spc="-1" strike="noStrike">
                <a:solidFill>
                  <a:srgbClr val="292929"/>
                </a:solidFill>
                <a:latin typeface="Courier New"/>
              </a:rPr>
              <a:t>(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                               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OXManager.OXHandle h, String[] a, Byte[] o</a:t>
            </a:r>
            <a:r>
              <a:rPr b="1" lang="pt-BR" sz="1600" spc="-1" strike="noStrike">
                <a:solidFill>
                  <a:srgbClr val="292929"/>
                </a:solidFill>
                <a:latin typeface="Courier New"/>
              </a:rPr>
              <a:t>)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7000" y="5157720"/>
            <a:ext cx="50688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OXManager.releaseHandle(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O método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releaseHandle()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notifica o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OXManager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de que um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OXHandle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não é mais necessário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cebe o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OXHandl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m questão como parâmetro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emântica de se liberar um MasterOXHandle é a de que o OX deixa de existir (isto é, os meta-atributos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específico de uma implementação do GRADEp se a aplicação poderá liberar diretamente um MasterOXHandle ou se algum mecanismo automático é utilizado (exemplo: contagem de referências inter-nodo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beração de um ProxyOXHandle deve resultar em uma propagação até o seu HomeOXHandle, de forma que o MasterOXHandle possa ser melhor posicionad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public interface 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</a:rPr>
              <a:t>OXManager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 {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       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public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void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releaseHandle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(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OXHandle h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)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7000" y="5445000"/>
            <a:ext cx="50688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4520" y="1874520"/>
            <a:ext cx="895176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1   Visão geral – serviço </a:t>
            </a:r>
            <a:r>
              <a:rPr b="1" i="1" lang="pt-BR" sz="2400" spc="-1" strike="noStrike">
                <a:solidFill>
                  <a:srgbClr val="0000ff"/>
                </a:solidFill>
                <a:latin typeface="Arial"/>
              </a:rPr>
              <a:t>OXManage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  Exemplo: OXManagerDem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 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XManag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outras API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44880" y="333360"/>
            <a:ext cx="2203560" cy="41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Visão gera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A abstração OX (Objeto eXehda)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Instância de objeto criada por intermédio do serviço Executor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À qual pode ser associada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meta-informação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em tempo de execuçã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Meta-informação no OX é uma lista de atributos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Lista: pares no formato &lt;Nome, Valor&gt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Nome: cadeia de caracteres ASCII que descreve o atribut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Valor: qualquer valor, inclusive binári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02200" y="260280"/>
            <a:ext cx="2203560" cy="41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Visão gera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rviço OXManager: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rmazena a meta-informação associada aos OXes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Permite que os atributos de um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X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sejam consultados e alterados a partir de qualquer nodo da grade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OXHandle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O suporte à meta-informação d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Xes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é implementado pelos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OXHandl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O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OXManager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possui métodos para criação, manipulação e remoção de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OXHandles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Quando criado, um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OXHandl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é associado a algum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X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través do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OXHandl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é possível manipular os meta-atributos do OX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Visão gera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Tipos de OXHandle (transparente à aplicação)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MasterOXHandl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(1/3)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rmazena a cópia-mestre dos meta-atributos de um OX (lista completa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Tipicamente criado ao mesmo tempo que o seu OX associado, no mesmo nodo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Em geral, acompanha o OX quando este migra para outro nodo, mas pode ser separado do OX (caso o hospedeiro atual do OX tenha pouca memória, etc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O 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MasterOXHandle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guarda no atributo 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location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cal atual do OX na grade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Visão gera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Tipos de OXHandle (transparente à aplicação)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HomeOXHandl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(2/3)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ermanece fixo na “célula-home” do OX (célula onde o OX foi primeiramente instanciado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Observação: a informação da “célula-home” de um OX está contida no seu ObjectID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O 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HomeOXHandle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pode ser consultado para se descobrir onde está o 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MasterOXHandle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do OX, atualmente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Isto é especificado no atributo </a:t>
            </a:r>
            <a:r>
              <a:rPr b="0" lang="pt-BR" sz="1600" spc="-1" strike="noStrike">
                <a:solidFill>
                  <a:srgbClr val="0000ff"/>
                </a:solidFill>
                <a:latin typeface="Arial"/>
              </a:rPr>
              <a:t>owner</a:t>
            </a: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 (“dono”) do </a:t>
            </a:r>
            <a:r>
              <a:rPr b="0" lang="pt-BR" sz="1600" spc="-1" strike="noStrike">
                <a:solidFill>
                  <a:srgbClr val="0000ff"/>
                </a:solidFill>
                <a:latin typeface="Arial"/>
              </a:rPr>
              <a:t>HomeOXHandl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Mantém um “cache” dos meta-atributos 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não-mutáveis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do OX, por exempl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ObjectID: ID do OX;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ApplicationId: ID da aplicação à qual o OX está associado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13240" y="3500280"/>
            <a:ext cx="2087640" cy="201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OXHand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2880" y="4292640"/>
            <a:ext cx="2087640" cy="129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OXHand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Visão gera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Tipos de OXHandle (transparente à aplicação)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ProxyOXHandl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(3/3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Objeto “procurador” que pode ser utilizado para acessar o 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MasterOXHandle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ou o 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HomeOXHandle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rmazena, no mínimo, o ObjectID do OX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5800" y="4653000"/>
            <a:ext cx="1800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ff"/>
                </a:solidFill>
                <a:latin typeface="Times New Roman"/>
              </a:rPr>
              <a:t>ProxyOXHand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Times New Roman"/>
              </a:rPr>
              <a:t>oid = x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5252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20" y="3429000"/>
            <a:ext cx="258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Consulta meta-atributos 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OX associado ao handl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76520" y="3500280"/>
            <a:ext cx="0" cy="25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5240" y="558972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spedeir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92520" y="3933720"/>
            <a:ext cx="2087280" cy="1582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OXHand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36880" y="4365720"/>
            <a:ext cx="180036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ff"/>
                </a:solidFill>
                <a:latin typeface="Times New Roman"/>
              </a:rPr>
              <a:t>HomeOXHand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oid = x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ApplicationId =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Times New Roman"/>
              </a:rPr>
              <a:t>Owner = Hospedeir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64160" y="558972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élula ho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16160" y="51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97600" y="3500280"/>
            <a:ext cx="0" cy="25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56160" y="3933720"/>
            <a:ext cx="180036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ff"/>
                </a:solidFill>
                <a:latin typeface="Times New Roman"/>
              </a:rPr>
              <a:t>MasterOXHand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oid = x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ApplicationId =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Times New Roman"/>
              </a:rPr>
              <a:t>Meta-atributos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pt-BR" sz="1400" spc="-1" strike="noStrike">
                <a:solidFill>
                  <a:srgbClr val="000000"/>
                </a:solidFill>
                <a:latin typeface="Times New Roman"/>
              </a:rPr>
              <a:t>local atual = yy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pt-BR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37240" y="51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16880" y="3500280"/>
            <a:ext cx="0" cy="25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37600" y="4292640"/>
            <a:ext cx="73512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85600" y="558972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spedeir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33600" y="558972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spedeir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40520" y="5013360"/>
            <a:ext cx="79236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29240" y="4906800"/>
            <a:ext cx="1511280" cy="231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5800" y="5084640"/>
            <a:ext cx="936720" cy="231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52520" y="5229360"/>
            <a:ext cx="151308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65600" y="5157720"/>
            <a:ext cx="1944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16440" y="5273640"/>
            <a:ext cx="568440" cy="531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4520" y="1874520"/>
            <a:ext cx="895176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ccff"/>
                </a:solidFill>
                <a:latin typeface="Arial"/>
              </a:rPr>
              <a:t>1   Visão geral – serviço </a:t>
            </a:r>
            <a:r>
              <a:rPr b="1" i="1" lang="pt-BR" sz="2400" spc="-1" strike="noStrike">
                <a:solidFill>
                  <a:srgbClr val="ccccff"/>
                </a:solidFill>
                <a:latin typeface="Arial"/>
              </a:rPr>
              <a:t>OXManage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   Exemplo: OXManagerDem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3   </a:t>
            </a:r>
            <a:r>
              <a:rPr b="1" i="1" lang="pt-BR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OXManager</a:t>
            </a:r>
            <a:r>
              <a:rPr b="1" lang="pt-BR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: outras API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2:39:03Z</dcterms:created>
  <dc:creator>IARA AUGUSTIN</dc:creator>
  <dc:description/>
  <dc:language>en-US</dc:language>
  <cp:lastModifiedBy> Claudio Geyer</cp:lastModifiedBy>
  <cp:lastPrinted>2009-04-22T19:24:48Z</cp:lastPrinted>
  <dcterms:modified xsi:type="dcterms:W3CDTF">2005-08-03T23:38:38Z</dcterms:modified>
  <cp:revision>255</cp:revision>
  <dc:subject>apresentação para novos mestrandos</dc:subject>
  <dc:title>Projeto ISAM</dc:title>
</cp:coreProperties>
</file>